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1C9A-6ECC-4802-B070-20C57DD45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122C-9134-4D55-B146-5FA4EB185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6CF-7529-4C23-B693-01DACE13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F67-E85B-4479-BDFD-B4375C3B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708-60CF-41A0-9A82-4182E745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4C2-1299-412F-983F-FFA599F8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C5A-248A-4899-B245-16E14C9B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38F-F019-4FC7-87D0-50C19A65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F11-D091-460C-81DB-05FA47B1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97F-3E57-486B-8F7F-9CC5F016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68A-BC91-41EB-83D0-31875576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417-96B2-4EF0-90B4-E3E1ABB3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F14-D96C-4AD1-AFC8-39A996D7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7F1-E5D9-4B92-926C-25CFF25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7404-F53F-4C0E-8256-F850032FE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va.sun.com/webservices/docs/ea2/tutorial/doc/JAXPXSLT2.html" TargetMode="External"/><Relationship Id="rId2" Type="http://schemas.openxmlformats.org/officeDocument/2006/relationships/hyperlink" Target="http://www.w3.org/TR/xmlquery-use-cases/" TargetMode="External"/><Relationship Id="rId3" Type="http://schemas.openxmlformats.org/officeDocument/2006/relationships/hyperlink" Target="http://www.xmlportfolio.com/xquery.html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/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1st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568-584A-48B9-80B0-285E934B28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D75-9520-4CC4-BBF4-714EEA6CCB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428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363-5672-43E8-9736-4601F67F47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4840" y="182880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480" y="4038480"/>
            <a:ext cx="502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read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move all qualifiers (predicate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120" y="4965840"/>
            <a:ext cx="3465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 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8320" y="561960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dd them one by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172200"/>
            <a:ext cx="5868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3280" y="6137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BC0-D65E-46AD-8BCE-847E06C84A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404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2240" y="365760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404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06B-4227-4751-9D1D-2BA405161F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720" y="2286000"/>
            <a:ext cx="3452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1240" y="242892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ea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1600" y="3581280"/>
            <a:ext cx="334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9200" y="36576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9760" y="3581280"/>
            <a:ext cx="31251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040" y="5257800"/>
            <a:ext cx="3938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. /first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67640" y="53341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1160" y="5181480"/>
            <a:ext cx="3621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first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16B-7415-453A-8F9A-2E3AA0148B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00" y="4343400"/>
            <a:ext cx="5558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review/../comment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520" y="2209680"/>
            <a:ext cx="27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 mea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en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000" y="495288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00" y="2743200"/>
            <a:ext cx="4155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.. /author/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5000" y="2819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4360" y="2743200"/>
            <a:ext cx="25812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79840" y="5562720"/>
            <a:ext cx="5241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comments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62A-FA90-4540-973F-45E1BA36FB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657540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[@price&lt;“55”]/author/lastnam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D38-D820-48AC-83FD-5169B1CEB6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2A3-7E1B-4A68-BF79-6BFCB4CF5B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644-2FBA-4746-8BFC-1C0EB0D997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B13-79EC-4ECD-A3C6-CC8F6C0C54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poin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java.sun.com/webservices/docs/ea2/tutorial/doc/JAXPXSLT2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3.org/TR/xmlquery-use-cas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xmlportfolio.com/xquery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29D-2FFF-4E3F-9F0F-A263E156BF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1786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 (perhaps more geek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720" y="28954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520" y="4495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n sho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2600" y="5562720"/>
            <a:ext cx="707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68B-F0C7-4BE4-80F9-8E0DFC9B7A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and the year when they wer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5040" y="2971800"/>
            <a:ext cx="586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360" y="5076720"/>
            <a:ext cx="85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2002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80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730-0877-4C95-AF16-F619044687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e use of “{“ and “}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esult without th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69440" y="3657600"/>
            <a:ext cx="5500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FD0-304C-42D4-8854-35EF454A3C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0040" y="2971800"/>
            <a:ext cx="8433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7520" y="61722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74D-9EF3-495A-A33C-7B5B075CDD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956-73FF-4F87-8CD8-1A7A971B37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s with more than 3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5960" y="4876920"/>
            <a:ext cx="528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computes the average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mputes the sum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960" y="2971800"/>
            <a:ext cx="5397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096-BC47-4785-9784-0F47B21722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5720" y="2971800"/>
            <a:ext cx="7665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]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D03-228A-466C-8A7D-9FE8844BFD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all authors who published more than 3 books – be aware of duplicat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8880" y="4267080"/>
            <a:ext cx="6229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$a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book/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8B8-1015-45C0-BAA5-41607A70D0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1160" y="2971800"/>
            <a:ext cx="53766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 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F77-4B2A-40D7-B854-1185045942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ten” the authors, i.e. return a list of (author, title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880" y="3352680"/>
            <a:ext cx="54741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x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y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89760" y="3429000"/>
            <a:ext cx="2838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kj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A19-1A2C-4059-8439-9D6420F321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DB7-46E2-4AF2-B4B3-9727D383C51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, return all titles of her/his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7520" y="3276720"/>
            <a:ext cx="6003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320" y="533412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11880" y="2819520"/>
            <a:ext cx="283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l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1CB-66B0-4228-8D9E-F44EFEE463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, but eliminate duplicat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819520"/>
            <a:ext cx="61135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235-4C01-4DA7-85D1-990C75BFB7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2920" y="2819520"/>
            <a:ext cx="6246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307-C770-4C00-B2A6-D8F760EB5D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0640" y="3114720"/>
            <a:ext cx="68990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]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]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4960" y="4811760"/>
            <a:ext cx="382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8720" y="5410080"/>
            <a:ext cx="35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y do we get duplic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380-8AD4-4BF1-A768-7F2801DAE5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inct-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000" y="4800600"/>
            <a:ext cx="382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360" y="495288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pply to a col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, no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 – note how query ha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1040" y="2971800"/>
            <a:ext cx="851328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0A5-A5D0-48F0-91AC-0447EBBCF6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3920" y="17524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2960" y="1600200"/>
            <a:ext cx="39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 names, pri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3600" y="2735280"/>
            <a:ext cx="2625120" cy="2556360"/>
            <a:chOff x="183600" y="2735280"/>
            <a:chExt cx="2625120" cy="2556360"/>
          </a:xfrm>
        </p:grpSpPr>
        <p:sp>
          <p:nvSpPr>
            <p:cNvPr id="203" name=""/>
            <p:cNvSpPr/>
            <p:nvPr/>
          </p:nvSpPr>
          <p:spPr>
            <a:xfrm>
              <a:off x="183600" y="2735280"/>
              <a:ext cx="26251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x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 BY x.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600" y="46389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720080" y="2666880"/>
            <a:ext cx="7317000" cy="3090960"/>
            <a:chOff x="1720080" y="2666880"/>
            <a:chExt cx="7317000" cy="3090960"/>
          </a:xfrm>
        </p:grpSpPr>
        <p:sp>
          <p:nvSpPr>
            <p:cNvPr id="206" name=""/>
            <p:cNvSpPr/>
            <p:nvPr/>
          </p:nvSpPr>
          <p:spPr>
            <a:xfrm>
              <a:off x="2973240" y="2666880"/>
              <a:ext cx="606384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 B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price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,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i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&lt;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20080" y="510516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0E3-A1C4-4C60-BD01-EF6344D629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6240" y="2057400"/>
            <a:ext cx="36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3680" y="43434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formed document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ABE-8A35-46BB-A748-68AE6489D0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Well-Forme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2438280"/>
            <a:ext cx="6514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pric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744-8452-4203-9163-2CD97CCE38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6240" y="2057400"/>
            <a:ext cx="384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1280" y="2971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7FD-D5E7-426A-B50D-7EF81D68DD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040" y="152388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, reven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8728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58400" y="2895480"/>
            <a:ext cx="3864240" cy="2556360"/>
            <a:chOff x="158400" y="2895480"/>
            <a:chExt cx="3864240" cy="2556360"/>
          </a:xfrm>
        </p:grpSpPr>
        <p:sp>
          <p:nvSpPr>
            <p:cNvPr id="220" name=""/>
            <p:cNvSpPr/>
            <p:nvPr/>
          </p:nvSpPr>
          <p:spPr>
            <a:xfrm>
              <a:off x="158400" y="2895480"/>
              <a:ext cx="38642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, Company 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x.maker=y.c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and y.city=“Seatt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6840" y="47991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242520" y="2362320"/>
            <a:ext cx="5750280" cy="3090960"/>
            <a:chOff x="3242520" y="2362320"/>
            <a:chExt cx="5750280" cy="3090960"/>
          </a:xfrm>
        </p:grpSpPr>
        <p:sp>
          <p:nvSpPr>
            <p:cNvPr id="223" name=""/>
            <p:cNvSpPr/>
            <p:nvPr/>
          </p:nvSpPr>
          <p:spPr>
            <a:xfrm>
              <a:off x="4497480" y="2362320"/>
              <a:ext cx="4495320" cy="265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and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 = “Seattle”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2520" y="480060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40760" y="5546880"/>
            <a:ext cx="8856720" cy="1264320"/>
            <a:chOff x="140760" y="5546880"/>
            <a:chExt cx="8856720" cy="1264320"/>
          </a:xfrm>
        </p:grpSpPr>
        <p:sp>
          <p:nvSpPr>
            <p:cNvPr id="226" name=""/>
            <p:cNvSpPr/>
            <p:nvPr/>
          </p:nvSpPr>
          <p:spPr>
            <a:xfrm>
              <a:off x="205164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0760" y="5638680"/>
              <a:ext cx="1650960" cy="1172520"/>
            </a:xfrm>
            <a:prstGeom prst="wedgeEllipseCallout">
              <a:avLst>
                <a:gd name="adj1" fmla="val 64712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A01-B84F-468D-B676-9E5F409924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F7B-6539-4B95-8B35-FFB59B706E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28120" y="1260360"/>
            <a:ext cx="47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3C9-6FCB-415E-A466-337B9E7E97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8800" y="152388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mpany with revenues &lt; 1M count the products over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240" y="2009880"/>
            <a:ext cx="8498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.name,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price &gt; 100 and x.maker=y.cid and y.revenue &lt; 1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5280" y="3809880"/>
            <a:ext cx="864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[revenue/text()&lt;1000000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{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&gt;100]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693-0A16-4807-80A6-4A1DA1F5922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4480" y="152388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ith at least 30 products, and their averag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009880"/>
            <a:ext cx="32896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y.name, avg(x.pri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count(*)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66640" y="2971800"/>
            <a:ext cx="56858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30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080" y="4114800"/>
            <a:ext cx="2389680" cy="652680"/>
          </a:xfrm>
          <a:prstGeom prst="wedgeEllipseCallout">
            <a:avLst>
              <a:gd name="adj1" fmla="val 103333"/>
              <a:gd name="adj2" fmla="val -7568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88080" y="2133720"/>
            <a:ext cx="2268360" cy="652680"/>
          </a:xfrm>
          <a:prstGeom prst="wedgeEllipseCallout">
            <a:avLst>
              <a:gd name="adj1" fmla="val -41893"/>
              <a:gd name="adj2" fmla="val 135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1F3-848E-4338-AE23-811417D7C5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58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0920" y="2057400"/>
            <a:ext cx="1223640" cy="459720"/>
          </a:xfrm>
          <a:prstGeom prst="wedgeRectCallout">
            <a:avLst>
              <a:gd name="adj1" fmla="val -182763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12560" y="3048120"/>
            <a:ext cx="2267280" cy="459720"/>
          </a:xfrm>
          <a:prstGeom prst="wedgeRectCallout">
            <a:avLst>
              <a:gd name="adj1" fmla="val -109736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515-3C7E-4E97-B53C-BE08160241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940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880" y="5964120"/>
            <a:ext cx="81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9400" y="6019920"/>
            <a:ext cx="293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71880" y="5928480"/>
            <a:ext cx="4298400" cy="649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differen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2"/>
            <a:endCxn id="80" idx="3"/>
          </p:cNvCxnSpPr>
          <p:nvPr/>
        </p:nvCxnSpPr>
        <p:spPr>
          <a:xfrm flipH="1">
            <a:off x="1434600" y="6253200"/>
            <a:ext cx="775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2" idx="6"/>
            <a:endCxn id="81" idx="1"/>
          </p:cNvCxnSpPr>
          <p:nvPr/>
        </p:nvCxnSpPr>
        <p:spPr>
          <a:xfrm>
            <a:off x="6432120" y="6253200"/>
            <a:ext cx="73116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BA3-D8A3-4D78-83D8-9780B0DCB5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276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840" y="55134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0D5-9E9B-40C0-AC56-106BDAE6CD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C67-F244-47A8-8F74-14C54A0448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3DB-B5B2-4E3B-AB1D-1B58126C6F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2-01T04:19:25Z</dcterms:modified>
  <cp:revision>195</cp:revision>
  <dc:subject/>
  <dc:title>Lecture 09:</dc:title>
</cp:coreProperties>
</file>