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163A-194C-46A9-991F-E72641CEB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may be non-well formed: e.g. &lt;br&gt; without &lt;/br&gt;.  Better: &lt;br/&gt;; XML must be well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has semantics: &lt;br&gt; means newline, &lt;i&gt; means italic etc.  XML has no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6C7-059A-4336-B438-C4D738B5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275-593E-47B2-8798-9C47642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DA4-E6A6-4074-90B8-00FC7F0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FA4-45BF-4677-B284-B0DCD1F2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BFE-4300-4519-B5F1-C2BDACEB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EE0-8CF6-4380-A711-9834E95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3B3-3039-42BE-AC33-C5AA5C1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BD0-9218-42C4-98CD-360FC21D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0BC-1132-4592-91D4-23911A5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F54-82B9-4F22-8351-26EEC8EA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204-A1FB-4F43-83AB-3DEDA09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441-95A9-4056-9930-B6F0227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59B-85D8-4E5D-BA2B-5F9B2339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XML/" TargetMode="External"/><Relationship Id="rId2" Type="http://schemas.openxmlformats.org/officeDocument/2006/relationships/hyperlink" Target="http://www.w3.org/XML/1999/XML-in-10-points" TargetMode="External"/><Relationship Id="rId3" Type="http://schemas.openxmlformats.org/officeDocument/2006/relationships/hyperlink" Target="http://www.zvon.org/xxl/XMLTutorial/General/book_en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3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109-99A0-4A13-AF31-54269A6D4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B1D-BDC2-4AD3-A3B8-6195150B90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C1E-41A3-4ACF-AC4D-FFD822158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262400" cy="254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500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0000" y="2133720"/>
            <a:ext cx="460836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0A5-DF13-4822-ACED-6AE96627A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2514600"/>
          <a:ext cx="6858000" cy="2997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166-8E00-4858-92D1-DFF379A62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.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ifferences between XML and HTM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3C0-C16E-429E-BEA0-BA59F4D8B9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50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17720" cy="35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5440" y="2726280"/>
            <a:ext cx="434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just keys/ foreign keys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omeone who didn’t take 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m: use your 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s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22F-37EF-4048-8F9A-D6A8F795A0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888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F4F-ADB0-4C60-8A5E-932B2B633E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800600" y="3886200"/>
          <a:ext cx="3124080" cy="2819520"/>
        </p:xfrm>
        <a:graphic>
          <a:graphicData uri="http://schemas.openxmlformats.org/drawingml/2006/table">
            <a:tbl>
              <a:tblPr/>
              <a:tblGrid>
                <a:gridCol w="1104840"/>
                <a:gridCol w="201924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83F-BECF-4A8D-9CF8-5897A89F1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756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F26-139B-4A38-861B-B20B5E96DA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B5B-27AE-46CD-9A04-EE57B7B834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84C-C98E-4B61-A76F-0D5B07CB9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7600" y="2828880"/>
            <a:ext cx="598248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2360" y="5009040"/>
            <a:ext cx="3567960" cy="1692360"/>
          </a:xfrm>
          <a:prstGeom prst="wedgeEllipseCallout">
            <a:avLst>
              <a:gd name="adj1" fmla="val -38250"/>
              <a:gd name="adj2" fmla="val -14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nothing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; just a un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339-2813-40D0-AF1A-C9DE986EB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816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09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A80-3404-4D26-9432-C8D9F89025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66760" y="2133720"/>
            <a:ext cx="3899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pl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Thai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6112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5160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760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776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0796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0096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6236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0344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048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7788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3" idx="3"/>
            <a:endCxn id="115" idx="7"/>
          </p:cNvCxnSpPr>
          <p:nvPr/>
        </p:nvCxnSpPr>
        <p:spPr>
          <a:xfrm flipH="1">
            <a:off x="6001920" y="2371680"/>
            <a:ext cx="386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3" idx="5"/>
            <a:endCxn id="116" idx="1"/>
          </p:cNvCxnSpPr>
          <p:nvPr/>
        </p:nvCxnSpPr>
        <p:spPr>
          <a:xfrm>
            <a:off x="6867360" y="2371680"/>
            <a:ext cx="742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5" idx="3"/>
            <a:endCxn id="117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5" idx="4"/>
            <a:endCxn id="118" idx="0"/>
          </p:cNvCxnSpPr>
          <p:nvPr/>
        </p:nvCxnSpPr>
        <p:spPr>
          <a:xfrm flipH="1">
            <a:off x="5567040" y="2962080"/>
            <a:ext cx="957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6" idx="3"/>
            <a:endCxn id="119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6" idx="4"/>
            <a:endCxn id="120" idx="0"/>
          </p:cNvCxnSpPr>
          <p:nvPr/>
        </p:nvCxnSpPr>
        <p:spPr>
          <a:xfrm flipH="1">
            <a:off x="7921440" y="3267000"/>
            <a:ext cx="273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7" idx="4"/>
            <a:endCxn id="114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8" idx="3"/>
            <a:endCxn id="121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8" idx="4"/>
            <a:endCxn id="122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8" idx="5"/>
            <a:endCxn id="123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1" idx="4"/>
            <a:endCxn id="124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2" idx="4"/>
            <a:endCxn id="125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3" idx="4"/>
            <a:endCxn id="126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9" idx="4"/>
            <a:endCxn id="127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0" idx="4"/>
            <a:endCxn id="128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16" idx="5"/>
            <a:endCxn id="144" idx="0"/>
          </p:cNvCxnSpPr>
          <p:nvPr/>
        </p:nvCxnSpPr>
        <p:spPr>
          <a:xfrm>
            <a:off x="8288280" y="3201840"/>
            <a:ext cx="3326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4"/>
            <a:endCxn id="145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5" idx="2"/>
            <a:endCxn id="148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8" idx="3"/>
            <a:endCxn id="149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53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2576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F13-2DCD-4A72-9442-6FE370EE91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220-BFC4-48B9-B642-F0AEBE6A09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5388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623-170D-4430-84A6-CFCE828C6A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636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5244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232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1BB-3CBB-463A-AF2E-C2A76646AC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2400" y="2565360"/>
            <a:ext cx="442620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7840" y="3886200"/>
            <a:ext cx="1811520" cy="566640"/>
          </a:xfrm>
          <a:prstGeom prst="wedgeEllipseCallout">
            <a:avLst>
              <a:gd name="adj1" fmla="val -73601"/>
              <a:gd name="adj2" fmla="val 149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029200" y="5029200"/>
          <a:ext cx="2133720" cy="15526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E7E-54E8-42D2-B750-2512303EF3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4680" y="2590920"/>
            <a:ext cx="4273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19720" y="5105520"/>
          <a:ext cx="3200400" cy="136656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2680" y="3886200"/>
            <a:ext cx="2253240" cy="566640"/>
          </a:xfrm>
          <a:prstGeom prst="wedgeEllipseCallout">
            <a:avLst>
              <a:gd name="adj1" fmla="val -70638"/>
              <a:gd name="adj2" fmla="val -62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EE7-DBC5-4D8D-A12C-57B9A9A132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16120" y="3822840"/>
            <a:ext cx="1765800" cy="999720"/>
          </a:xfrm>
          <a:prstGeom prst="wedgeEllipseCallout">
            <a:avLst>
              <a:gd name="adj1" fmla="val -87259"/>
              <a:gd name="adj2" fmla="val -88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6F5-C996-4622-AA77-602F4F8DF9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A24-6E53-45D5-A422-6F9420A5C8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ly recommend rea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XML/1999/XML-in-10-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von.org/xxl/XMLTutorial/General/book_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XPath and XQuery (next lectur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laxque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A38-EB62-4B99-BB92-279279F56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what tags and attributes ar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n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seded by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plex: DTDs still used wid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D1A-A207-4BC4-BC34-2996A0DE55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D05-6727-4358-9987-F89BEC6EE4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4BB-27BC-4DDD-9239-31C9C9F709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981-49A0-446D-90CA-9E45825F15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9440" y="2489040"/>
            <a:ext cx="4214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0800" y="2517840"/>
            <a:ext cx="3352320" cy="92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9800" y="4013280"/>
            <a:ext cx="5152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160" y="5079960"/>
            <a:ext cx="4502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40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468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9800" y="6146640"/>
            <a:ext cx="524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52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4422600"/>
            <a:ext cx="274248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946-562B-4B70-A096-0F6BF4C1C7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exible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databases: e.g. proper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files: e.g. 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markup: e.g.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- a very nast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5040" y="6062400"/>
            <a:ext cx="4894200" cy="5767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 only XML a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EE0-421B-4221-9D6D-687AE345A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syntaxes: CSV (comma-separated-values), ASN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: Databa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/transform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: XM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s 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ABB-5C87-4B3C-854E-1C542EA0C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s have rigid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evolution is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flexible: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data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not normal form !  Not even 1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ry this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9C0-E828-4AC8-AAA1-91CDCCDCA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478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109-DB64-484F-813D-F91994F18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2A2-87DB-413C-AEB3-2397CE522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52A-3BD1-4ED6-8536-B735630C6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d</cp:lastModifiedBy>
  <dcterms:modified xsi:type="dcterms:W3CDTF">2006-01-30T15:22:03Z</dcterms:modified>
  <cp:revision>223</cp:revision>
  <dc:subject/>
  <dc:title>Lecture 09:</dc:title>
</cp:coreProperties>
</file>