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7F92-C39D-49D6-BF18-434F62619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s: {student, room, time},  {student, course}  and all super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s: {student, room, time},  {student, course}  and all super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s: {student, room, time},  {student, course}  and all super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64EA-A635-4DA4-8855-42D6615AF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8FD5-D3CC-4B90-8407-0007B085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67DD-69E6-4791-A6EC-C4241D37D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DB74-731E-4DDE-8168-15B2A5F2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06DE-D58A-4544-87E2-34EFCD9B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3369-B50D-4B60-B6A6-410BBF29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07D5-0516-4E4F-98A0-20A6C56B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0CEE-15BA-4A60-B376-28CB75F8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1C33-1504-42EE-BE61-4A5FFEF6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35CB-665B-40D8-AD93-05A829F1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FCFB-5F00-4154-B04A-4E095BDA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A811-6B03-45E8-A74F-EF48A981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5F10-A129-4FE1-A5FD-AAF7D6B34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January 25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E2C3-5E1E-4A3D-B7F7-9234EC5C61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er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et of attributes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.t. for any other attribute B, we have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minimal super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e. set of attributes which is a superkey and for which no subset is a super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CE44-BB77-4712-923D-AFB5C2716A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ing (Super)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ll sets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ll attributes, then X is a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only the minimal X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C599-B9A7-4A20-879D-87657F0AA9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name, price, category, col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95960" y="2971800"/>
            <a:ext cx="3591360" cy="95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, categor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gor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5080" y="458460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ke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7A4F-9BFC-4CF3-B0C8-332216E12E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name, price, category, col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5960" y="2971800"/>
            <a:ext cx="3591360" cy="95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, categor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gor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35080" y="458460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ke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2720" y="5334120"/>
            <a:ext cx="63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ame, category) +  = name, category, price,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5600" y="5943600"/>
            <a:ext cx="41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(name, category) is a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BF2A-DA45-4C99-8D82-0CD42B72AC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nrollment(student, address, course, room, 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560" y="3016080"/>
            <a:ext cx="3810960" cy="12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, tim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, cour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om,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70920" y="507852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nd keys at ho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CDAF-257F-461E-8675-1C66D52271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ing Anoma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is OK if X is a (super)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is not OK otherw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EA68-E346-4ABE-9819-CAC0193C5E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4280" y="5410080"/>
            <a:ext cx="385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he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, PhoneNumbe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143000" y="1828800"/>
          <a:ext cx="7010280" cy="2278080"/>
        </p:xfrm>
        <a:graphic>
          <a:graphicData uri="http://schemas.openxmlformats.org/drawingml/2006/table">
            <a:tbl>
              <a:tblPr/>
              <a:tblGrid>
                <a:gridCol w="1219320"/>
                <a:gridCol w="1981080"/>
                <a:gridCol w="2057400"/>
                <a:gridCol w="1752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612360" y="4419720"/>
            <a:ext cx="2678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1440" y="5715000"/>
            <a:ext cx="35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“bad” depend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5767-7B12-49F0-A920-E6D6014F34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or Key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we have more than one ke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R(A,B,C) define FD’s s.t. there are two or more 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CFD9-6314-4CB5-A1AD-577A011067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or Key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we have more than one ke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R(A,B,C) define FD’s s.t. there are two or more 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1280" y="4419720"/>
            <a:ext cx="142452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49400" y="4419720"/>
            <a:ext cx="142452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904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90560" y="579132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keys her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05200" y="6235560"/>
            <a:ext cx="652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you design FDs such that there 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ey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1A78-DA60-44CA-A249-3CEBB6F1AA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yce-Codd Normal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7040" y="1905120"/>
            <a:ext cx="74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mple condition for removing anomalies from rel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1320" y="457200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ther words: there are no “bad” F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0560" y="2666880"/>
            <a:ext cx="6044040" cy="167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relation R is in BCNF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 is a non-trivial depend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 R ,   then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 is a superkey for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50680" y="5334120"/>
            <a:ext cx="599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l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, either 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X)    or   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ll attribu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B21B-F024-4DE6-B6A5-188F07EA72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of a set of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9200" y="1676520"/>
            <a:ext cx="6631920" cy="170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iv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set of attributes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 is the set of attributes B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t.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0" y="358416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4240" y="35812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6720" y="5029200"/>
            <a:ext cx="852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ure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nam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{name, color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{name, category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name, category, color, department, price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colo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colo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80C4-E3E5-4723-9DC6-325B9716B7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CNF Decompositio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392112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38280" y="399744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76520" y="48769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14240" y="49528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09840" y="4876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97560" y="6172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69080" y="3886200"/>
            <a:ext cx="19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s ther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-attrib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lation tha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in BCNF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9720" y="1752480"/>
            <a:ext cx="8423280" cy="207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pe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hoose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violates BNC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plit R into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[others]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ntinue with both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 more vi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97760" y="6172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0360" y="5943600"/>
            <a:ext cx="393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, we ha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etter algorithm (coming 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A4D5-DCD7-436A-8994-2925B60A85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4280" y="5410080"/>
            <a:ext cx="385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he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, PhoneNumbe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143000" y="1828800"/>
          <a:ext cx="7010280" cy="2278080"/>
        </p:xfrm>
        <a:graphic>
          <a:graphicData uri="http://schemas.openxmlformats.org/drawingml/2006/table">
            <a:tbl>
              <a:tblPr/>
              <a:tblGrid>
                <a:gridCol w="1219320"/>
                <a:gridCol w="1981080"/>
                <a:gridCol w="2057400"/>
                <a:gridCol w="1752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612360" y="4419720"/>
            <a:ext cx="2678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0720" y="5715000"/>
            <a:ext cx="316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3ABB-0DB4-4C3B-8876-CE1DD70858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600200" y="2209680"/>
          <a:ext cx="4514760" cy="1185840"/>
        </p:xfrm>
        <a:graphic>
          <a:graphicData uri="http://schemas.openxmlformats.org/drawingml/2006/table">
            <a:tbl>
              <a:tblPr/>
              <a:tblGrid>
                <a:gridCol w="1504800"/>
                <a:gridCol w="1505160"/>
                <a:gridCol w="1504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1676520" y="3886200"/>
          <a:ext cx="3962160" cy="197640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Phone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322680" y="2362320"/>
            <a:ext cx="26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89880" y="3809880"/>
            <a:ext cx="299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check anomal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c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F451-3AE5-49C7-AD4B-EAFA416BFA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Decomposi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1720" y="1676520"/>
            <a:ext cx="638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SSN, age, hairColor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9600" y="3089160"/>
            <a:ext cx="407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 in BCNF (in cla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E95A-5A02-44DE-A2AB-34E1F705B1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CNF Decompositio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47080" y="1752480"/>
            <a:ext cx="7000560" cy="435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CNF_Decompose(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X s.t.: X ≠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≠ [all attributes]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ot found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R is in BCNF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Z = [all attributes] -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decompose R into R1(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) and R2(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Z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continue to decompose recursively R1 and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89AE-196F-481E-AEEC-7AD986F8B53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BCNF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5880" y="1565280"/>
            <a:ext cx="638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SSN, age, hairColor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2400" y="2922480"/>
            <a:ext cx="5978160" cy="375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on 1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+ = SSN, name, age,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 into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, age, hairColor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      Phone(SSN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on 2: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+ = age,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ople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age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Hair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ag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hairColor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Phone(SSN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75560" y="228600"/>
            <a:ext cx="44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X s.t.: X ≠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≠ [all attribute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50360" y="5090400"/>
            <a:ext cx="1981080" cy="1166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1917-1E8C-4AA8-AFA9-F7666CF85AD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02640" y="4709880"/>
            <a:ext cx="1981080" cy="1166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72880" y="380880"/>
            <a:ext cx="138132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80840" y="1828800"/>
            <a:ext cx="4386960" cy="1217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(A,B,C,D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BC ≠ AB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2920" y="177840"/>
            <a:ext cx="190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(A,B,C,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4720" y="6019920"/>
            <a:ext cx="8496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s if in R we first pick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?  Or 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209240" y="2844720"/>
            <a:ext cx="7174440" cy="2158920"/>
            <a:chOff x="1209240" y="2844720"/>
            <a:chExt cx="7174440" cy="2158920"/>
          </a:xfrm>
        </p:grpSpPr>
        <p:sp>
          <p:nvSpPr>
            <p:cNvPr id="160" name=""/>
            <p:cNvSpPr/>
            <p:nvPr/>
          </p:nvSpPr>
          <p:spPr>
            <a:xfrm>
              <a:off x="1209240" y="3581280"/>
              <a:ext cx="3634560" cy="142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,B,C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BC ≠ AB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62720" y="3657600"/>
              <a:ext cx="1920960" cy="819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,D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2" name=""/>
            <p:cNvCxnSpPr>
              <a:stCxn id="156" idx="3"/>
              <a:endCxn id="160" idx="0"/>
            </p:cNvCxnSpPr>
            <p:nvPr/>
          </p:nvCxnSpPr>
          <p:spPr>
            <a:xfrm flipH="1">
              <a:off x="3025080" y="2844720"/>
              <a:ext cx="205560" cy="73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>
              <a:stCxn id="156" idx="5"/>
              <a:endCxn id="161" idx="0"/>
            </p:cNvCxnSpPr>
            <p:nvPr/>
          </p:nvCxnSpPr>
          <p:spPr>
            <a:xfrm>
              <a:off x="6318000" y="2844720"/>
              <a:ext cx="1105560" cy="81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4" name=""/>
          <p:cNvGrpSpPr/>
          <p:nvPr/>
        </p:nvGrpSpPr>
        <p:grpSpPr>
          <a:xfrm>
            <a:off x="294840" y="4700160"/>
            <a:ext cx="5425920" cy="1198080"/>
            <a:chOff x="294840" y="4700160"/>
            <a:chExt cx="5425920" cy="1198080"/>
          </a:xfrm>
        </p:grpSpPr>
        <p:sp>
          <p:nvSpPr>
            <p:cNvPr id="165" name=""/>
            <p:cNvSpPr/>
            <p:nvPr/>
          </p:nvSpPr>
          <p:spPr>
            <a:xfrm>
              <a:off x="294840" y="5105520"/>
              <a:ext cx="1968120" cy="79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B,C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24920" y="5062320"/>
              <a:ext cx="1995840" cy="79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,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7" name=""/>
            <p:cNvCxnSpPr>
              <a:stCxn id="160" idx="3"/>
              <a:endCxn id="165" idx="0"/>
            </p:cNvCxnSpPr>
            <p:nvPr/>
          </p:nvCxnSpPr>
          <p:spPr>
            <a:xfrm flipH="1">
              <a:off x="1278720" y="4700160"/>
              <a:ext cx="469080" cy="40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60" idx="5"/>
              <a:endCxn id="166" idx="0"/>
            </p:cNvCxnSpPr>
            <p:nvPr/>
          </p:nvCxnSpPr>
          <p:spPr>
            <a:xfrm>
              <a:off x="4303800" y="4700160"/>
              <a:ext cx="419760" cy="40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34ED-2C76-4E02-8771-985680768E8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itions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60720" y="5029200"/>
            <a:ext cx="56131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projection of R o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projection of R o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60800" y="1752480"/>
            <a:ext cx="439848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58320" y="3114720"/>
            <a:ext cx="31424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92480" y="3119400"/>
            <a:ext cx="30938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666880" y="23623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24280" y="236232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BA1F-D1F5-4BAA-BA56-B113BDF67D8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ory of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t is corr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819520" y="2590920"/>
          <a:ext cx="34290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02060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447920" y="4648320"/>
          <a:ext cx="227952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02060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486400" y="4648320"/>
          <a:ext cx="24084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 flipH="1">
            <a:off x="2286000" y="41148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91320" y="41148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35760" y="628956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less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30DE-96F5-4D7D-816D-3F094E146DF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rrect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t is no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819520" y="2819520"/>
          <a:ext cx="34290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02060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914400" y="4800600"/>
          <a:ext cx="24084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5715000" y="4876920"/>
          <a:ext cx="2170080" cy="1452600"/>
        </p:xfrm>
        <a:graphic>
          <a:graphicData uri="http://schemas.openxmlformats.org/drawingml/2006/table">
            <a:tbl>
              <a:tblPr/>
              <a:tblGrid>
                <a:gridCol w="102060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 flipH="1">
            <a:off x="1752120" y="4191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00800" y="41148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71520" y="3033000"/>
            <a:ext cx="2283120" cy="1166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rrect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95120" y="6262560"/>
            <a:ext cx="27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y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88B0-65D9-4D2F-B177-4D4A81919DB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8280" y="1946160"/>
            <a:ext cx="4658760" cy="275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X={A1, …, An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 unt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doesn’t change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   is a F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re all i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dd C to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50292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name, category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{                                            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10080" y="259380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10800" y="19810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08200" y="539424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, category, color, department,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36440" y="602604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07880" y="6023160"/>
            <a:ext cx="5421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, department,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73CF-F637-4D43-8FB7-0A49EAFFE6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itions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60800" y="1752480"/>
            <a:ext cx="439848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39320" y="4151160"/>
            <a:ext cx="4516200" cy="97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decomposition is loss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58320" y="3114720"/>
            <a:ext cx="31424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92480" y="3119400"/>
            <a:ext cx="30938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666880" y="23623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24280" y="236232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9680" y="6028560"/>
            <a:ext cx="7226280" cy="520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CNF decomposition is always lossless.  WH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48000" y="5334120"/>
            <a:ext cx="503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don’t nee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F78F-A9E8-48B6-9E8E-143B44865CF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NF: A Problem with B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66520" y="1828800"/>
            <a:ext cx="34102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, Produc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52240" y="304812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Unit,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09720" y="6172200"/>
            <a:ext cx="60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loose the FD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, Product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Uni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57200" y="1600200"/>
          <a:ext cx="4572000" cy="1320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80880" y="3962520"/>
          <a:ext cx="3200400" cy="132084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</a:tblGrid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Un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4419720" y="3962520"/>
          <a:ext cx="2819160" cy="1320840"/>
        </p:xfrm>
        <a:graphic>
          <a:graphicData uri="http://schemas.openxmlformats.org/drawingml/2006/table">
            <a:tbl>
              <a:tblPr/>
              <a:tblGrid>
                <a:gridCol w="1409400"/>
                <a:gridCol w="1409760"/>
              </a:tblGrid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9" name=""/>
          <p:cNvGrpSpPr/>
          <p:nvPr/>
        </p:nvGrpSpPr>
        <p:grpSpPr>
          <a:xfrm>
            <a:off x="1066320" y="3048120"/>
            <a:ext cx="3810600" cy="685800"/>
            <a:chOff x="1066320" y="3048120"/>
            <a:chExt cx="3810600" cy="685800"/>
          </a:xfrm>
        </p:grpSpPr>
        <p:sp>
          <p:nvSpPr>
            <p:cNvPr id="210" name=""/>
            <p:cNvSpPr/>
            <p:nvPr/>
          </p:nvSpPr>
          <p:spPr>
            <a:xfrm flipH="1">
              <a:off x="1066320" y="3048120"/>
              <a:ext cx="228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267080" y="3048120"/>
              <a:ext cx="6098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65920" y="5410080"/>
            <a:ext cx="2308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51B0-9561-4933-B9F9-464F0F832F4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’s the Probl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08640" y="3429000"/>
            <a:ext cx="64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roblem so far. All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o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D’s are satis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put all the data back into a single table ag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57200" y="1371600"/>
          <a:ext cx="3276720" cy="1492200"/>
        </p:xfrm>
        <a:graphic>
          <a:graphicData uri="http://schemas.openxmlformats.org/drawingml/2006/table">
            <a:tbl>
              <a:tblPr/>
              <a:tblGrid>
                <a:gridCol w="1638360"/>
                <a:gridCol w="1638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Un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aga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4191120" y="1405080"/>
          <a:ext cx="3809880" cy="1490400"/>
        </p:xfrm>
        <a:graphic>
          <a:graphicData uri="http://schemas.openxmlformats.org/drawingml/2006/table">
            <a:tbl>
              <a:tblPr/>
              <a:tblGrid>
                <a:gridCol w="2058840"/>
                <a:gridCol w="1751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aga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b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b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295280" y="4419720"/>
          <a:ext cx="6095880" cy="15080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aga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b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b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641880" y="2895480"/>
            <a:ext cx="2308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990720" y="6095880"/>
            <a:ext cx="6338160" cy="464760"/>
            <a:chOff x="990720" y="6095880"/>
            <a:chExt cx="6338160" cy="464760"/>
          </a:xfrm>
        </p:grpSpPr>
        <p:sp>
          <p:nvSpPr>
            <p:cNvPr id="220" name=""/>
            <p:cNvSpPr/>
            <p:nvPr/>
          </p:nvSpPr>
          <p:spPr>
            <a:xfrm>
              <a:off x="3918600" y="6095880"/>
              <a:ext cx="34102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Company, Produc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 Un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90720" y="6100920"/>
              <a:ext cx="219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iolates the FD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D36E-244A-42A7-AC5E-B19F5BA77C3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tarted with a table R and 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decomposed R into BCNF tables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their own F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reconstruct R from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we cannot reconstruct FD from F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A440-5524-4901-86E5-9DA0517BFF5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ion: 3rd Normal Form (3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960" y="1946160"/>
            <a:ext cx="74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mple condition for removing anomalies from rel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2280" y="2819520"/>
            <a:ext cx="7919640" cy="2242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relation R is in 3rd normal form if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there is a nontrivial dependency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 R , then 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a super-key for 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 B is part of a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1000" y="5410080"/>
            <a:ext cx="74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off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NF = no anomalies, but may lose some F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NF = keeps all FDs, but may have some 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A483-0DF0-4D36-B529-DBA0E20BF3C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NF Decompositio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4760" y="1676520"/>
            <a:ext cx="7587720" cy="478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NF_Decompose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 = [all attributes that are part of some key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X s.t.: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X - K ≠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≠ [all attribute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ot found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R is already in 3NF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X - 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Z = [all attributes] - (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e into R1(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) and R2(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Z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decompose, recursively, R1 and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17A3-E7C9-440A-829A-76B46E203D4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3NF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120" y="1600200"/>
            <a:ext cx="2008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(A,B,C,D,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8760" y="2209680"/>
            <a:ext cx="12049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2280" y="1905120"/>
            <a:ext cx="552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: (need to compute X+, for several X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, AC, 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7680" y="29718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{A, B, C, 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33560" y="3505320"/>
            <a:ext cx="391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X =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+  = BC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DE is a BCNF vi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91440" y="5791320"/>
            <a:ext cx="574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 is in 3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 is in 3NF (because its keys: AB, AC, 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60560" y="4603680"/>
            <a:ext cx="47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3NF: remove B, D (part of K)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 is a 3NF vi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:  R1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), R2(A,B,C,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B40B-7977-421C-BD3B-3FA96E3F286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76320" y="5867280"/>
            <a:ext cx="8915400" cy="914400"/>
          </a:xfrm>
          <a:prstGeom prst="ellipse">
            <a:avLst/>
          </a:prstGeom>
          <a:solidFill>
            <a:srgbClr val="00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NF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NF v.s. BCNF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828800" y="1828800"/>
          <a:ext cx="5486400" cy="54756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304920" y="3124080"/>
          <a:ext cx="3047760" cy="54792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105520" y="3124080"/>
          <a:ext cx="3047760" cy="547560"/>
        </p:xfrm>
        <a:graphic>
          <a:graphicData uri="http://schemas.openxmlformats.org/drawingml/2006/table">
            <a:tbl>
              <a:tblPr/>
              <a:tblGrid>
                <a:gridCol w="609120"/>
                <a:gridCol w="609840"/>
                <a:gridCol w="609480"/>
                <a:gridCol w="609480"/>
                <a:gridCol w="60984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800600" y="4481640"/>
          <a:ext cx="1828800" cy="54756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7086600" y="4481640"/>
          <a:ext cx="1828800" cy="54756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152280" y="4495680"/>
          <a:ext cx="1828800" cy="54792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2438280" y="4495680"/>
          <a:ext cx="1828800" cy="54756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"/>
          <p:cNvSpPr/>
          <p:nvPr/>
        </p:nvSpPr>
        <p:spPr>
          <a:xfrm flipH="1">
            <a:off x="2133360" y="24382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5000" y="243828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391520" y="388620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19520" y="388620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837720" y="38862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5562360" y="38862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533412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28240" y="53341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05320" y="533412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2514240" y="53341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533412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952520" y="53341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29600" y="525780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7238520" y="52578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76320" y="601992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447920" y="601992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2438280" y="601992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3886200" y="601992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4800600" y="601992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6248520" y="601992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7238880" y="601992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8458200" y="594360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9" name=""/>
          <p:cNvGrpSpPr/>
          <p:nvPr/>
        </p:nvGrpSpPr>
        <p:grpSpPr>
          <a:xfrm>
            <a:off x="33480" y="3860640"/>
            <a:ext cx="8958240" cy="2928960"/>
            <a:chOff x="33480" y="3860640"/>
            <a:chExt cx="8958240" cy="2928960"/>
          </a:xfrm>
        </p:grpSpPr>
        <p:sp>
          <p:nvSpPr>
            <p:cNvPr id="270" name=""/>
            <p:cNvSpPr/>
            <p:nvPr/>
          </p:nvSpPr>
          <p:spPr>
            <a:xfrm>
              <a:off x="33480" y="3860640"/>
              <a:ext cx="8958240" cy="2928960"/>
            </a:xfrm>
            <a:custGeom>
              <a:avLst/>
              <a:gdLst/>
              <a:ahLst/>
              <a:rect l="l" t="t" r="r" b="b"/>
              <a:pathLst>
                <a:path w="5643" h="1845">
                  <a:moveTo>
                    <a:pt x="0" y="1248"/>
                  </a:moveTo>
                  <a:cubicBezTo>
                    <a:pt x="3" y="1369"/>
                    <a:pt x="5" y="1490"/>
                    <a:pt x="11" y="1611"/>
                  </a:cubicBezTo>
                  <a:cubicBezTo>
                    <a:pt x="17" y="1774"/>
                    <a:pt x="262" y="1822"/>
                    <a:pt x="384" y="1835"/>
                  </a:cubicBezTo>
                  <a:cubicBezTo>
                    <a:pt x="419" y="1838"/>
                    <a:pt x="455" y="1841"/>
                    <a:pt x="491" y="1845"/>
                  </a:cubicBezTo>
                  <a:cubicBezTo>
                    <a:pt x="625" y="1839"/>
                    <a:pt x="753" y="1828"/>
                    <a:pt x="886" y="1819"/>
                  </a:cubicBezTo>
                  <a:cubicBezTo>
                    <a:pt x="922" y="1808"/>
                    <a:pt x="960" y="1808"/>
                    <a:pt x="998" y="1803"/>
                  </a:cubicBezTo>
                  <a:cubicBezTo>
                    <a:pt x="1081" y="1771"/>
                    <a:pt x="1167" y="1774"/>
                    <a:pt x="1254" y="1755"/>
                  </a:cubicBezTo>
                  <a:cubicBezTo>
                    <a:pt x="1280" y="1728"/>
                    <a:pt x="1297" y="1707"/>
                    <a:pt x="1328" y="1685"/>
                  </a:cubicBezTo>
                  <a:cubicBezTo>
                    <a:pt x="1340" y="1665"/>
                    <a:pt x="1356" y="1648"/>
                    <a:pt x="1366" y="1627"/>
                  </a:cubicBezTo>
                  <a:cubicBezTo>
                    <a:pt x="1379" y="1597"/>
                    <a:pt x="1388" y="1565"/>
                    <a:pt x="1403" y="1536"/>
                  </a:cubicBezTo>
                  <a:cubicBezTo>
                    <a:pt x="1433" y="1472"/>
                    <a:pt x="1476" y="1420"/>
                    <a:pt x="1488" y="1349"/>
                  </a:cubicBezTo>
                  <a:cubicBezTo>
                    <a:pt x="1495" y="1196"/>
                    <a:pt x="1504" y="970"/>
                    <a:pt x="1670" y="901"/>
                  </a:cubicBezTo>
                  <a:cubicBezTo>
                    <a:pt x="1741" y="871"/>
                    <a:pt x="1847" y="880"/>
                    <a:pt x="1920" y="875"/>
                  </a:cubicBezTo>
                  <a:cubicBezTo>
                    <a:pt x="2180" y="855"/>
                    <a:pt x="1849" y="868"/>
                    <a:pt x="2230" y="859"/>
                  </a:cubicBezTo>
                  <a:cubicBezTo>
                    <a:pt x="2372" y="862"/>
                    <a:pt x="2471" y="870"/>
                    <a:pt x="2603" y="901"/>
                  </a:cubicBezTo>
                  <a:cubicBezTo>
                    <a:pt x="2627" y="917"/>
                    <a:pt x="2654" y="917"/>
                    <a:pt x="2683" y="923"/>
                  </a:cubicBezTo>
                  <a:cubicBezTo>
                    <a:pt x="2712" y="942"/>
                    <a:pt x="2717" y="951"/>
                    <a:pt x="2742" y="976"/>
                  </a:cubicBezTo>
                  <a:cubicBezTo>
                    <a:pt x="2753" y="999"/>
                    <a:pt x="2764" y="1023"/>
                    <a:pt x="2779" y="1045"/>
                  </a:cubicBezTo>
                  <a:cubicBezTo>
                    <a:pt x="2791" y="1097"/>
                    <a:pt x="2797" y="1153"/>
                    <a:pt x="2816" y="1205"/>
                  </a:cubicBezTo>
                  <a:cubicBezTo>
                    <a:pt x="2845" y="1287"/>
                    <a:pt x="2882" y="1367"/>
                    <a:pt x="2907" y="1451"/>
                  </a:cubicBezTo>
                  <a:cubicBezTo>
                    <a:pt x="2913" y="1522"/>
                    <a:pt x="2938" y="1585"/>
                    <a:pt x="2960" y="1653"/>
                  </a:cubicBezTo>
                  <a:cubicBezTo>
                    <a:pt x="2979" y="1713"/>
                    <a:pt x="2968" y="1745"/>
                    <a:pt x="3030" y="1776"/>
                  </a:cubicBezTo>
                  <a:cubicBezTo>
                    <a:pt x="3920" y="1757"/>
                    <a:pt x="3555" y="1764"/>
                    <a:pt x="4123" y="1755"/>
                  </a:cubicBezTo>
                  <a:cubicBezTo>
                    <a:pt x="4126" y="1754"/>
                    <a:pt x="4194" y="1749"/>
                    <a:pt x="4219" y="1739"/>
                  </a:cubicBezTo>
                  <a:cubicBezTo>
                    <a:pt x="4313" y="1698"/>
                    <a:pt x="4340" y="1642"/>
                    <a:pt x="4400" y="1568"/>
                  </a:cubicBezTo>
                  <a:cubicBezTo>
                    <a:pt x="4411" y="1554"/>
                    <a:pt x="4427" y="1544"/>
                    <a:pt x="4438" y="1531"/>
                  </a:cubicBezTo>
                  <a:cubicBezTo>
                    <a:pt x="4452" y="1512"/>
                    <a:pt x="4467" y="1470"/>
                    <a:pt x="4480" y="1451"/>
                  </a:cubicBezTo>
                  <a:cubicBezTo>
                    <a:pt x="4487" y="1439"/>
                    <a:pt x="4499" y="1430"/>
                    <a:pt x="4507" y="1419"/>
                  </a:cubicBezTo>
                  <a:cubicBezTo>
                    <a:pt x="4531" y="1380"/>
                    <a:pt x="4564" y="1329"/>
                    <a:pt x="4576" y="1285"/>
                  </a:cubicBezTo>
                  <a:cubicBezTo>
                    <a:pt x="4580" y="1265"/>
                    <a:pt x="4587" y="1227"/>
                    <a:pt x="4587" y="1227"/>
                  </a:cubicBezTo>
                  <a:cubicBezTo>
                    <a:pt x="4582" y="1192"/>
                    <a:pt x="4582" y="1017"/>
                    <a:pt x="4523" y="976"/>
                  </a:cubicBezTo>
                  <a:cubicBezTo>
                    <a:pt x="4500" y="881"/>
                    <a:pt x="4585" y="845"/>
                    <a:pt x="4662" y="837"/>
                  </a:cubicBezTo>
                  <a:cubicBezTo>
                    <a:pt x="4829" y="797"/>
                    <a:pt x="5078" y="820"/>
                    <a:pt x="5264" y="816"/>
                  </a:cubicBezTo>
                  <a:cubicBezTo>
                    <a:pt x="5379" y="809"/>
                    <a:pt x="5508" y="814"/>
                    <a:pt x="5622" y="779"/>
                  </a:cubicBezTo>
                  <a:cubicBezTo>
                    <a:pt x="5625" y="765"/>
                    <a:pt x="5637" y="754"/>
                    <a:pt x="5638" y="741"/>
                  </a:cubicBezTo>
                  <a:cubicBezTo>
                    <a:pt x="5639" y="695"/>
                    <a:pt x="5643" y="590"/>
                    <a:pt x="5616" y="539"/>
                  </a:cubicBezTo>
                  <a:cubicBezTo>
                    <a:pt x="5608" y="475"/>
                    <a:pt x="5594" y="431"/>
                    <a:pt x="5568" y="373"/>
                  </a:cubicBezTo>
                  <a:cubicBezTo>
                    <a:pt x="5550" y="334"/>
                    <a:pt x="5535" y="270"/>
                    <a:pt x="5499" y="245"/>
                  </a:cubicBezTo>
                  <a:cubicBezTo>
                    <a:pt x="5352" y="248"/>
                    <a:pt x="5238" y="257"/>
                    <a:pt x="5099" y="267"/>
                  </a:cubicBezTo>
                  <a:cubicBezTo>
                    <a:pt x="4864" y="262"/>
                    <a:pt x="4659" y="239"/>
                    <a:pt x="4438" y="309"/>
                  </a:cubicBezTo>
                  <a:cubicBezTo>
                    <a:pt x="4399" y="335"/>
                    <a:pt x="4407" y="334"/>
                    <a:pt x="4384" y="373"/>
                  </a:cubicBezTo>
                  <a:cubicBezTo>
                    <a:pt x="4370" y="431"/>
                    <a:pt x="4339" y="488"/>
                    <a:pt x="4315" y="544"/>
                  </a:cubicBezTo>
                  <a:cubicBezTo>
                    <a:pt x="4309" y="582"/>
                    <a:pt x="4294" y="613"/>
                    <a:pt x="4283" y="651"/>
                  </a:cubicBezTo>
                  <a:cubicBezTo>
                    <a:pt x="4273" y="682"/>
                    <a:pt x="4275" y="715"/>
                    <a:pt x="4267" y="747"/>
                  </a:cubicBezTo>
                  <a:cubicBezTo>
                    <a:pt x="4260" y="771"/>
                    <a:pt x="4227" y="816"/>
                    <a:pt x="4208" y="832"/>
                  </a:cubicBezTo>
                  <a:cubicBezTo>
                    <a:pt x="4167" y="865"/>
                    <a:pt x="4157" y="859"/>
                    <a:pt x="4118" y="880"/>
                  </a:cubicBezTo>
                  <a:cubicBezTo>
                    <a:pt x="4090" y="894"/>
                    <a:pt x="4079" y="911"/>
                    <a:pt x="4048" y="917"/>
                  </a:cubicBezTo>
                  <a:cubicBezTo>
                    <a:pt x="4011" y="942"/>
                    <a:pt x="3968" y="948"/>
                    <a:pt x="3926" y="960"/>
                  </a:cubicBezTo>
                  <a:cubicBezTo>
                    <a:pt x="3822" y="1030"/>
                    <a:pt x="3567" y="986"/>
                    <a:pt x="3536" y="987"/>
                  </a:cubicBezTo>
                  <a:cubicBezTo>
                    <a:pt x="3323" y="983"/>
                    <a:pt x="3221" y="980"/>
                    <a:pt x="3046" y="965"/>
                  </a:cubicBezTo>
                  <a:cubicBezTo>
                    <a:pt x="3021" y="953"/>
                    <a:pt x="2995" y="945"/>
                    <a:pt x="2971" y="933"/>
                  </a:cubicBezTo>
                  <a:cubicBezTo>
                    <a:pt x="2949" y="889"/>
                    <a:pt x="2943" y="850"/>
                    <a:pt x="2928" y="805"/>
                  </a:cubicBezTo>
                  <a:cubicBezTo>
                    <a:pt x="2917" y="739"/>
                    <a:pt x="2926" y="672"/>
                    <a:pt x="2912" y="608"/>
                  </a:cubicBezTo>
                  <a:cubicBezTo>
                    <a:pt x="2887" y="504"/>
                    <a:pt x="2864" y="424"/>
                    <a:pt x="2816" y="331"/>
                  </a:cubicBezTo>
                  <a:cubicBezTo>
                    <a:pt x="2802" y="305"/>
                    <a:pt x="2765" y="212"/>
                    <a:pt x="2731" y="181"/>
                  </a:cubicBezTo>
                  <a:cubicBezTo>
                    <a:pt x="2685" y="139"/>
                    <a:pt x="2618" y="113"/>
                    <a:pt x="2566" y="85"/>
                  </a:cubicBezTo>
                  <a:cubicBezTo>
                    <a:pt x="2506" y="52"/>
                    <a:pt x="2424" y="6"/>
                    <a:pt x="2358" y="5"/>
                  </a:cubicBezTo>
                  <a:cubicBezTo>
                    <a:pt x="2279" y="3"/>
                    <a:pt x="2201" y="1"/>
                    <a:pt x="2123" y="0"/>
                  </a:cubicBezTo>
                  <a:cubicBezTo>
                    <a:pt x="2036" y="3"/>
                    <a:pt x="1948" y="2"/>
                    <a:pt x="1862" y="11"/>
                  </a:cubicBezTo>
                  <a:cubicBezTo>
                    <a:pt x="1815" y="15"/>
                    <a:pt x="1815" y="32"/>
                    <a:pt x="1782" y="48"/>
                  </a:cubicBezTo>
                  <a:cubicBezTo>
                    <a:pt x="1736" y="69"/>
                    <a:pt x="1687" y="83"/>
                    <a:pt x="1643" y="107"/>
                  </a:cubicBezTo>
                  <a:cubicBezTo>
                    <a:pt x="1616" y="121"/>
                    <a:pt x="1597" y="139"/>
                    <a:pt x="1568" y="149"/>
                  </a:cubicBezTo>
                  <a:cubicBezTo>
                    <a:pt x="1533" y="172"/>
                    <a:pt x="1506" y="201"/>
                    <a:pt x="1488" y="240"/>
                  </a:cubicBezTo>
                  <a:cubicBezTo>
                    <a:pt x="1470" y="276"/>
                    <a:pt x="1484" y="258"/>
                    <a:pt x="1472" y="299"/>
                  </a:cubicBezTo>
                  <a:cubicBezTo>
                    <a:pt x="1468" y="311"/>
                    <a:pt x="1451" y="337"/>
                    <a:pt x="1446" y="347"/>
                  </a:cubicBezTo>
                  <a:cubicBezTo>
                    <a:pt x="1436" y="395"/>
                    <a:pt x="1403" y="433"/>
                    <a:pt x="1387" y="480"/>
                  </a:cubicBezTo>
                  <a:cubicBezTo>
                    <a:pt x="1373" y="517"/>
                    <a:pt x="1362" y="544"/>
                    <a:pt x="1344" y="581"/>
                  </a:cubicBezTo>
                  <a:cubicBezTo>
                    <a:pt x="1339" y="602"/>
                    <a:pt x="1329" y="619"/>
                    <a:pt x="1323" y="640"/>
                  </a:cubicBezTo>
                  <a:cubicBezTo>
                    <a:pt x="1326" y="672"/>
                    <a:pt x="1326" y="704"/>
                    <a:pt x="1334" y="736"/>
                  </a:cubicBezTo>
                  <a:cubicBezTo>
                    <a:pt x="1338" y="755"/>
                    <a:pt x="1360" y="789"/>
                    <a:pt x="1360" y="789"/>
                  </a:cubicBezTo>
                  <a:cubicBezTo>
                    <a:pt x="1358" y="798"/>
                    <a:pt x="1360" y="808"/>
                    <a:pt x="1355" y="816"/>
                  </a:cubicBezTo>
                  <a:cubicBezTo>
                    <a:pt x="1350" y="821"/>
                    <a:pt x="1340" y="817"/>
                    <a:pt x="1334" y="821"/>
                  </a:cubicBezTo>
                  <a:cubicBezTo>
                    <a:pt x="1322" y="826"/>
                    <a:pt x="1313" y="837"/>
                    <a:pt x="1302" y="843"/>
                  </a:cubicBezTo>
                  <a:cubicBezTo>
                    <a:pt x="1276" y="853"/>
                    <a:pt x="1223" y="856"/>
                    <a:pt x="1200" y="859"/>
                  </a:cubicBezTo>
                  <a:cubicBezTo>
                    <a:pt x="1170" y="865"/>
                    <a:pt x="1097" y="899"/>
                    <a:pt x="1067" y="901"/>
                  </a:cubicBezTo>
                  <a:cubicBezTo>
                    <a:pt x="971" y="904"/>
                    <a:pt x="875" y="905"/>
                    <a:pt x="779" y="907"/>
                  </a:cubicBezTo>
                  <a:cubicBezTo>
                    <a:pt x="728" y="931"/>
                    <a:pt x="778" y="901"/>
                    <a:pt x="752" y="933"/>
                  </a:cubicBezTo>
                  <a:cubicBezTo>
                    <a:pt x="699" y="995"/>
                    <a:pt x="589" y="958"/>
                    <a:pt x="507" y="960"/>
                  </a:cubicBezTo>
                  <a:cubicBezTo>
                    <a:pt x="449" y="999"/>
                    <a:pt x="393" y="978"/>
                    <a:pt x="315" y="981"/>
                  </a:cubicBezTo>
                  <a:cubicBezTo>
                    <a:pt x="257" y="1009"/>
                    <a:pt x="195" y="1009"/>
                    <a:pt x="139" y="1045"/>
                  </a:cubicBezTo>
                  <a:cubicBezTo>
                    <a:pt x="119" y="1072"/>
                    <a:pt x="103" y="1093"/>
                    <a:pt x="70" y="1104"/>
                  </a:cubicBezTo>
                  <a:cubicBezTo>
                    <a:pt x="48" y="1118"/>
                    <a:pt x="49" y="1134"/>
                    <a:pt x="38" y="1157"/>
                  </a:cubicBezTo>
                  <a:lnTo>
                    <a:pt x="27" y="1264"/>
                  </a:lnTo>
                </a:path>
              </a:pathLst>
            </a:custGeom>
            <a:solidFill>
              <a:srgbClr val="ccffff">
                <a:alpha val="47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9040" y="3886200"/>
              <a:ext cx="8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N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BE18-6674-451A-AC35-57E066F0B75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D’s for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6640" y="2022480"/>
            <a:ext cx="83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ven a relation constructed from an E/R diagram, what is its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97800" y="2530440"/>
            <a:ext cx="8070480" cy="1319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ule 1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the relation comes from an entity se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of the relation is the set of attributes which is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of the entity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28600" y="4648320"/>
            <a:ext cx="4723920" cy="1396800"/>
            <a:chOff x="228600" y="4648320"/>
            <a:chExt cx="4723920" cy="1396800"/>
          </a:xfrm>
        </p:grpSpPr>
        <p:sp>
          <p:nvSpPr>
            <p:cNvPr id="276" name=""/>
            <p:cNvSpPr/>
            <p:nvPr/>
          </p:nvSpPr>
          <p:spPr>
            <a:xfrm>
              <a:off x="228600" y="5561640"/>
              <a:ext cx="1019880" cy="483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053800" y="5507640"/>
              <a:ext cx="1019520" cy="483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32640" y="5507640"/>
              <a:ext cx="1019880" cy="483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s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17040" y="4648320"/>
              <a:ext cx="1771560" cy="5371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1140480" y="5185440"/>
              <a:ext cx="1181160" cy="48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22000" y="5185440"/>
              <a:ext cx="21456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22000" y="5185440"/>
              <a:ext cx="1717560" cy="42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5333040" y="4648320"/>
            <a:ext cx="35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, name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49528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FF0A-E099-4B46-8983-80D7AB2FDD4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D’s for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865840" y="3321000"/>
            <a:ext cx="1822320" cy="550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21040" y="3154320"/>
            <a:ext cx="1104840" cy="99396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7200" y="3443400"/>
            <a:ext cx="1546200" cy="552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58760" y="2933640"/>
            <a:ext cx="1049400" cy="496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58760" y="4038480"/>
            <a:ext cx="1049400" cy="4971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57800" y="4038480"/>
            <a:ext cx="1049400" cy="4971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38760" y="4038480"/>
            <a:ext cx="1049400" cy="4971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1998720" y="3321000"/>
            <a:ext cx="109440" cy="10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052720" y="3983040"/>
            <a:ext cx="38736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33680" y="3651120"/>
            <a:ext cx="38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25880" y="3651120"/>
            <a:ext cx="93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6195960" y="3871800"/>
            <a:ext cx="387360" cy="2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583320" y="3871800"/>
            <a:ext cx="441360" cy="1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66400" y="6033960"/>
            <a:ext cx="33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me, ss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78280" y="4457880"/>
            <a:ext cx="1049400" cy="496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11800" y="41529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197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4800" y="1158840"/>
            <a:ext cx="8181720" cy="1319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ule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f the relation comes from a many-many relationship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of the relation is the set of all attribute keys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 corresponding to the entity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9DAF-EBFC-448D-AD78-CC97152B826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48520" y="4572000"/>
            <a:ext cx="63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{A,B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X = {A, B,     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{A, F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X = {A, F,     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0600" y="2362320"/>
            <a:ext cx="21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A,B,C,D,E,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99640" y="2288520"/>
            <a:ext cx="15937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B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D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 F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1600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2F9A-1871-4433-9F9B-2EEDEA15BF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D’s for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5480" y="1332000"/>
            <a:ext cx="7813080" cy="914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cep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there is an arrow from the relationship to E,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on’t need the key of E as part of the relation k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057400" y="2514600"/>
            <a:ext cx="5029200" cy="2239920"/>
            <a:chOff x="2057400" y="2514600"/>
            <a:chExt cx="5029200" cy="2239920"/>
          </a:xfrm>
        </p:grpSpPr>
        <p:sp>
          <p:nvSpPr>
            <p:cNvPr id="307" name=""/>
            <p:cNvSpPr/>
            <p:nvPr/>
          </p:nvSpPr>
          <p:spPr>
            <a:xfrm>
              <a:off x="4069080" y="3017160"/>
              <a:ext cx="914040" cy="82260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rch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240280" y="2514600"/>
              <a:ext cx="132552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40480" y="4297320"/>
              <a:ext cx="13258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760720" y="3200040"/>
              <a:ext cx="13258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t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983480" y="3428640"/>
              <a:ext cx="77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26280" y="3840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66160" y="2971800"/>
              <a:ext cx="50292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57400" y="4205880"/>
              <a:ext cx="1325880" cy="45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reditCa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3382920" y="3428640"/>
              <a:ext cx="685800" cy="77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1371600" y="3124080"/>
            <a:ext cx="76212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9480" y="4114800"/>
            <a:ext cx="91440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rd-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4343400"/>
            <a:ext cx="76176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95880" y="2514600"/>
            <a:ext cx="76212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1980720" y="2971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1523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181480" y="4495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4771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67160" y="5791320"/>
            <a:ext cx="64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ame , sname, ss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ard-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9568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41E1-1979-4C42-9686-1BFE207A7B8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D’s for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-one, one-many, one-one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way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k entity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ry to find them yourself, or check boo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B3B3-9FB1-4F59-B948-FE511FB4EF8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D’s for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2560" y="1371600"/>
            <a:ext cx="56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y: “the CreditCard determines the Pers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68720" y="3017880"/>
            <a:ext cx="914400" cy="8222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39920" y="2514600"/>
            <a:ext cx="13255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40120" y="4297320"/>
            <a:ext cx="13255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61080" y="3200400"/>
            <a:ext cx="13255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83120" y="3429000"/>
            <a:ext cx="77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25920" y="3840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565440" y="2971800"/>
            <a:ext cx="503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057400" y="4205160"/>
            <a:ext cx="13255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editC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3382560" y="3429000"/>
            <a:ext cx="685800" cy="7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371600" y="3124080"/>
            <a:ext cx="76212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9480" y="4114800"/>
            <a:ext cx="91440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rd-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62720" y="4343400"/>
            <a:ext cx="76176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5880" y="2514600"/>
            <a:ext cx="76212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1980720" y="2971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1523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81480" y="4495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64771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67160" y="5791320"/>
            <a:ext cx="64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ame , sname, ss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ard-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9568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42440" y="3581280"/>
            <a:ext cx="2209680" cy="1692360"/>
          </a:xfrm>
          <a:prstGeom prst="wedgeEllipseCallout">
            <a:avLst>
              <a:gd name="adj1" fmla="val -149185"/>
              <a:gd name="adj2" fmla="val -21291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ple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at do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sa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48880" y="6289560"/>
            <a:ext cx="19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-n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FC69-96E8-47AD-A5E9-1EC89FBD467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We Need 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closure we can find all FD’s eas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heck if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if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75D7-4A18-4DBD-9F33-75A4DF74BB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Closure to Infer ALL F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4160" y="2014200"/>
            <a:ext cx="15937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B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C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D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7160" y="17175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4760" y="3429000"/>
            <a:ext cx="427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Compute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or every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5920" y="3965040"/>
            <a:ext cx="79621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 = A,   B+ = BD,   C+ = C,   D+ =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+ = ABCD,   AC+ = AC,  AD+ = A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+ = ABD+ = AC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ABCD (no need to compute– 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BCD,    ABCD+ = A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2280" y="5670720"/>
            <a:ext cx="79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Enumerate all FD’s 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, s.t.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6960" y="6228000"/>
            <a:ext cx="7222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D, AD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,  AB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, AB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, AC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68C7-1CD1-461B-86B8-C5400E7915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nrollment(student, major, course, room, ti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, cour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else can we infer ? [in class, or at hom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FAF5-AE7F-4FFD-BD73-385FEA5AA5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 to Conceptual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we know how to find more FDs, it’s ea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for “bad” F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re are such, then decompose the table into two tables, repeat for the subt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done, the database schema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rm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fortunately, there are several normal form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6120-53A4-46B1-8B87-E1B3E7FC8D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rmal 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 Normal 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ll attributes are at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Normal 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2NF) = old and obso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Normal 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3NF) = will disc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yce Codd Normal 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CNF) = will disc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EBB7-F98E-4598-8247-7ACD3D20E7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6-01-25T06:47:42Z</dcterms:modified>
  <cp:revision>232</cp:revision>
  <dc:subject/>
  <dc:title>Lecture 10</dc:title>
</cp:coreProperties>
</file>