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1FB-CE41-46CF-A794-6FFC4120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AA8-90E7-478C-B0B2-0FAEAB25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42D-5A44-4C10-A6CF-EAAEACC0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C7D-411E-468E-927E-84E2DE98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A2B-4E07-439E-8879-9140A2B7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A58-29AD-433A-AECE-5785731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C69-12C7-44BF-8882-4D47518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7C9-B9B9-451C-AE47-A3E8CE36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0F3-F4A1-4DC2-9159-C44C3CD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5C0-9CF8-46E9-8B17-C8CA6E1E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624-85D3-4C6A-838B-6FA45D9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B5A-D90C-4CF7-9445-F315AD0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1E8-2FC5-47BE-8CD1-16F9FA5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807-3218-4FB3-A6BA-621936D4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2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22-76CD-4E85-B561-FFDDD2068E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3CE-24E1-479A-B10D-48F291D2A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416-04B4-4D4B-A5DC-A422ED0F9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490-C40C-48F3-88E7-14B8C6F99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168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0072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880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443-37D7-45AC-82E9-A64A55CB98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022-3F4C-47B0-B3EA-1AD06A8E1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472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3D7-3003-4B09-A76B-63210FB01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24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AF7-C36E-477C-A707-D84DD1B1CD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281628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33F-3048-4AC1-84EE-E8E9D1BB1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8952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67E-CA78-4BB5-A422-D02448FE82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132-2603-4F05-B38B-B313452E1E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/Remi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: solutions a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: posted (due Wed. Feb.1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 due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834-8A29-4016-AF89-A26EE15F4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C07-84B8-4326-AF1D-207C464BA2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15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88A-A972-487F-A1BE-4482397B88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761-90FA-4AEF-82EE-745B5A6FA7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1036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0616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E93-8FD3-4511-873C-7D9BD5C8E0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2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526-A808-4973-BDC6-08153C4AF8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4372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3940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543-7621-41B5-9512-6669593B91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FF8-03DC-4184-BE94-92C218AAFE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10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44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A93-382C-4ECF-868F-0BE7AC16FD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510552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736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7B4-F5AA-471C-BA7B-644A10AFB4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 simple rules are all we need to derive all possibl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“Armstrong Rul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ey are clumsy to use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use “closure” of a set of attributes (n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F84-BD03-484F-961F-75C44E647C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continue nex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F1C-9405-4302-9A28-FF47A6513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BD8-23D4-4A21-A852-34A3FD511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replace one relational schema with another one, which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mal form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NF = rather tri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, BCNF = nex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normal forms = in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F2A-6094-4F7E-B2B3-1EF4A882A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A9F-7426-4ED5-ABB8-26B00ECE0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86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840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F0E-F883-4F97-87AB-7020C6997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2B8-BEA5-445F-AC9B-307EDB0A6C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2848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F41-26B3-44DA-BBC8-5932B2385F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1-23T05:03:45Z</dcterms:modified>
  <cp:revision>231</cp:revision>
  <dc:subject/>
  <dc:title>Lecture 10</dc:title>
</cp:coreProperties>
</file>