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1B8-DEB7-40F9-952C-609A199E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232-4BC3-4193-BD21-13BEBAB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CE0-134C-40E7-98C6-FF7CAA79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3C5-1F66-46AC-ACC8-34DA9E75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4CE-B216-4575-94F8-C821B4C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210-916D-4129-B3B0-0D1ABDC4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A6D-EA3F-47E7-8789-3185ADA5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1D9-44DD-4D0B-881A-17A0B633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C8E-8249-43D5-96B9-E88BF487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FEB-9A58-40A7-934E-181F3B7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821-7BB4-4032-BA7B-85D7FC09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DB0-D027-4C6B-B23E-5E2F844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BE3D-8438-46DB-AEBB-1B227C56A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20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D3A-43F1-4A9E-9B74-1710EA94C8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55" idx="0"/>
            <a:endCxn id="156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56" idx="2"/>
            <a:endCxn id="160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E48-9E81-496E-A552-16CEC1780E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1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AC6-ADF1-4163-87D1-C8936EFAEA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680" y="5943600"/>
            <a:ext cx="779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31A-E93C-4263-A6B3-807E0E92F5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680" y="5943600"/>
            <a:ext cx="7794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store sells to every person at most on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E95-BBEF-45BA-882E-ADE986B8BD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0740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do we say that every person shops at at most one sto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5120" y="5943600"/>
            <a:ext cx="537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annot.  This is the best approxim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only approxi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363-5FA6-4279-88B2-799890D092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BEF-46B8-4305-82F4-9CC34AD19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6A0-CBF0-4D0A-B15D-943211ECE8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DFC-DC8B-4085-95CA-D2BA561F0B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54" idx="0"/>
            <a:endCxn id="269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54" idx="0"/>
            <a:endCxn id="255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54" idx="0"/>
            <a:endCxn id="256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2" idx="0"/>
            <a:endCxn id="263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52" idx="3"/>
            <a:endCxn id="253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FA3-9728-4D17-B73C-3FE02BA315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0" idx="0"/>
            <a:endCxn id="295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80" idx="0"/>
            <a:endCxn id="281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80" idx="0"/>
            <a:endCxn id="282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78" idx="0"/>
            <a:endCxn id="289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78" idx="3"/>
            <a:endCxn id="279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498-552D-4DCC-99C9-1419F49C66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ime: Functional dependencies, normal 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: this is hard, come to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86D-5F60-4880-9051-4C21D33B7B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EB6-2214-469A-A2FC-ED687E2B2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CF0-B948-4F3E-904D-0E9A67F69A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0E6-8BAC-4A96-8AFD-EDACB38610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7D6-1092-4629-9075-ECA027924E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283-EDC1-4CFE-A602-8158A7DDC6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572-B64C-4C06-824F-DCD1DA8F1C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394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397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00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12" name="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15" name="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18" name="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F31-0F00-426A-B625-41DB657D29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25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4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16C-EE7E-4714-919E-0D64E3FA3D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52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98B-0242-4D7B-BA6A-0BD42C37F0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472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270-F6DD-488B-A34E-875C60CF63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350-A784-4991-973D-49505F7B0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488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53341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FE0-5CE1-4D85-9C68-82F657B6E5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05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E99-42CE-4107-B6AF-9029454DBB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12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5D9-531D-4C6A-9644-DE01A3A235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5" idx="0"/>
            <a:endCxn id="52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6" idx="0"/>
            <a:endCxn id="52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3" idx="0"/>
            <a:endCxn id="52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9" idx="0"/>
            <a:endCxn id="528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55A-175D-4972-BAD0-8B1A3E0586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730-75EC-4AD6-AE1C-72B390F9E6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F8F-3222-4844-9080-116C8692E9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8492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400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399-15B4-4007-BFAB-1EA88E91AE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6164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8460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79D-F50A-43D3-904C-0479ED3456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0CE-00C3-40F7-BDB1-08FA945B59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916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467-B1CA-46F8-B8F6-36FCA73FF2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cover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A15-DB7A-46D3-8E2C-A810EF7921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872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E9D-9090-4D60-962D-FE8DD1E343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577-88D2-401D-B77B-1AC071133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AC0-4394-4861-839C-F420426B5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C19-DA0B-43F1-B7B4-23120B398E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821040" y="5843520"/>
            <a:ext cx="746280" cy="67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65640" y="5992920"/>
            <a:ext cx="108288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6180120"/>
            <a:ext cx="104616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67320" y="618012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84080" y="6180120"/>
            <a:ext cx="33660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B81-29C8-4112-993E-9622E41798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8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4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7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C86-1A73-425A-8606-3A238B8F60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01-20T04:28:15Z</dcterms:modified>
  <cp:revision>393</cp:revision>
  <dc:subject/>
  <dc:title>PowerPoint Presentation</dc:title>
</cp:coreProperties>
</file>