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15B4-3D41-4A15-972B-C14FE052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0184-C87B-41F9-B688-A6C38E50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00C4-CA38-4C22-AC31-B86F4D54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49C3-E10E-4691-9561-59F71ABE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88B4-84CF-460D-9F2F-3D3CD24D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F731-4A76-4489-AB37-3BE4FC4F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6E5E-B7D3-4041-99C1-8B6A3073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5D3F-7427-42D1-9729-F9C94B7D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4A4B-C1A7-49E2-B6EE-0D547447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AC17-BD74-466F-9D1D-1204C1D4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443E-5D4E-4D47-AF46-9877CF4C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0268-A74B-49D5-AA98-103449AC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170B-3537-408D-8EA6-5F3B20CA1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6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odeling: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January 18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2394-614D-45F5-ADD2-A7D8FF8D68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0640" y="2438280"/>
            <a:ext cx="539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es can be useful in range queries to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+ trees help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not create indexes on everyth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85160" y="3200400"/>
            <a:ext cx="5783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Inde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erson (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9000" y="4267080"/>
            <a:ext cx="4255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 &gt; 25 AND age &lt;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9D8D-68CF-4859-A51D-46B7803C7C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8480" y="1295280"/>
            <a:ext cx="63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es can be created on more than one attribu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86160" y="3071880"/>
            <a:ext cx="6109200" cy="1008720"/>
            <a:chOff x="686160" y="3071880"/>
            <a:chExt cx="6109200" cy="1008720"/>
          </a:xfrm>
        </p:grpSpPr>
        <p:sp>
          <p:nvSpPr>
            <p:cNvPr id="98" name=""/>
            <p:cNvSpPr/>
            <p:nvPr/>
          </p:nvSpPr>
          <p:spPr>
            <a:xfrm>
              <a:off x="2514960" y="3071880"/>
              <a:ext cx="428040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Person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WHE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ge = 55 AND city = “Seattle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6160" y="3484440"/>
              <a:ext cx="110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elps i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86160" y="5557680"/>
            <a:ext cx="4551120" cy="1008720"/>
            <a:chOff x="686160" y="5557680"/>
            <a:chExt cx="4551120" cy="1008720"/>
          </a:xfrm>
        </p:grpSpPr>
        <p:sp>
          <p:nvSpPr>
            <p:cNvPr id="101" name=""/>
            <p:cNvSpPr/>
            <p:nvPr/>
          </p:nvSpPr>
          <p:spPr>
            <a:xfrm>
              <a:off x="2518920" y="5557680"/>
              <a:ext cx="271836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Person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WHE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city = “Seattle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6160" y="5867280"/>
              <a:ext cx="127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ut not i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86520" y="2135160"/>
            <a:ext cx="5780160" cy="703800"/>
            <a:chOff x="686520" y="2135160"/>
            <a:chExt cx="5780160" cy="703800"/>
          </a:xfrm>
        </p:grpSpPr>
        <p:sp>
          <p:nvSpPr>
            <p:cNvPr id="104" name=""/>
            <p:cNvSpPr/>
            <p:nvPr/>
          </p:nvSpPr>
          <p:spPr>
            <a:xfrm>
              <a:off x="2509560" y="2135160"/>
              <a:ext cx="395712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CREATE INDE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doubleindex </a:t>
              </a: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ON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Person (age, cit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6520" y="229392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85080" y="4314960"/>
            <a:ext cx="3863520" cy="1008720"/>
            <a:chOff x="685080" y="4314960"/>
            <a:chExt cx="3863520" cy="1008720"/>
          </a:xfrm>
        </p:grpSpPr>
        <p:sp>
          <p:nvSpPr>
            <p:cNvPr id="107" name=""/>
            <p:cNvSpPr/>
            <p:nvPr/>
          </p:nvSpPr>
          <p:spPr>
            <a:xfrm>
              <a:off x="2517480" y="4314960"/>
              <a:ext cx="203112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Person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WHE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ge = 5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5080" y="4675320"/>
              <a:ext cx="142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nd even i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AB66-3C56-4145-8FE4-18EFA396AF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dex Selection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not build an index on every attribute ? On every pair of attributes ?  Etc.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dex selection problem is hard: balance the query cost v.s. the update cost, in a large application workl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863E-CF45-4B2D-A955-C20DFCF249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9280" y="1793880"/>
            <a:ext cx="777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s are relations, except that they are not physically sto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esenting different information to different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sn, name, department, project, sal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roll has access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thers only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80120" y="3962520"/>
            <a:ext cx="51822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veloper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artment = “Developme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955B-E192-433D-9993-C4FDD574AD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29920" y="1447920"/>
            <a:ext cx="487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maker, pric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6960" y="2743200"/>
            <a:ext cx="63910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.buyer, y.seller, y.product, y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 x, Purchas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x.city = ‘Seattle’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name = y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4440" y="5410080"/>
            <a:ext cx="57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23760" y="5410080"/>
            <a:ext cx="19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tual tab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E184-1E18-4259-83E5-F22787E4C9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8360" y="3200400"/>
            <a:ext cx="50194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v.name,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Purchase 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duct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roduct = v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category = ‘shoe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133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later use the vie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E6B6-7492-47D5-9055-A9087F0F29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When We Query a Vie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37339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3760" y="4267080"/>
            <a:ext cx="61873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v.name,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 x, Purchase 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duct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x.city = ‘Seattle’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x.name = y.buy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roduct = v.name          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category = ‘shoe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8960" y="1905120"/>
            <a:ext cx="5059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v.name,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Purchase 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duct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roduct = v.name   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category = ‘shoe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D6EA-E105-4E7E-9141-03B14C1020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irt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e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d only on-demand – slow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p to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terializ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data wareho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-computed offline – fast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have stal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AFDA-DD04-4994-9F42-1392B750A8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29920" y="1523880"/>
            <a:ext cx="487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maker, pric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9480" y="2743200"/>
            <a:ext cx="52513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Expensive-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,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ing Views: Part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02960" y="4495680"/>
            <a:ext cx="39222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Expensive-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‘Gizmo’, ‘Gadgets INC.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99360" y="5867280"/>
            <a:ext cx="55375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‘Gizmo’, ‘Gadgets INC.’, NULL,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6200" y="541008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B53A-EF77-4953-B743-C411AA55FF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50560" y="2743200"/>
            <a:ext cx="44708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Toy-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,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 = ‘Toy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ing Views: Part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2960" y="4495680"/>
            <a:ext cx="39222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Toy-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‘Gizmo’, ‘Gadgets INC.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99360" y="5867280"/>
            <a:ext cx="55375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‘Gizmo’, ‘Gadgets INC.’, NULL,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541008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76040" y="4595400"/>
            <a:ext cx="1099080" cy="1172520"/>
          </a:xfrm>
          <a:prstGeom prst="wedgeEllipseCallout">
            <a:avLst>
              <a:gd name="adj1" fmla="val -86574"/>
              <a:gd name="adj2" fmla="val 8256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9920" y="1523880"/>
            <a:ext cx="487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maker, pric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D78B-95C4-4E60-B91C-86252F7173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Definition Language (6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ews (6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s (Chapter 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begin E/R diagrams (Chapter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A528-8D16-4F88-B650-5B2FB126D1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48760" y="2743200"/>
            <a:ext cx="4771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Buyer-Mak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.buyer, y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 x, Produc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x.product = 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ing Views: Part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1520" y="4495680"/>
            <a:ext cx="43840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Buyer-Mak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‘John Smith’, ‘Gadgets INC.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10360" y="6019920"/>
            <a:ext cx="10008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 ? ? ?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541008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87520" y="2804400"/>
            <a:ext cx="3011040" cy="11667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update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9920" y="1523880"/>
            <a:ext cx="487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maker, pric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05720" y="5565600"/>
            <a:ext cx="2062800" cy="8254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views 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update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29EB-1802-4F74-A49E-5EFD77C476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nstraint = a property that we’d like our database to 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stem will enforce the constraint by taking some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bid an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perform compensating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0518-2C32-456F-AA08-068EEB6659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s in SQ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, foreign 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-level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-level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constraints: asser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re complex the constraint, the harder it is to check and to en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2514600"/>
            <a:ext cx="2210040" cy="609480"/>
          </a:xfrm>
          <a:prstGeom prst="wedgeEllipseCallout">
            <a:avLst>
              <a:gd name="adj1" fmla="val -131175"/>
              <a:gd name="adj2" fmla="val -755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05720" y="3656160"/>
            <a:ext cx="1750680" cy="1172520"/>
          </a:xfrm>
          <a:prstGeom prst="wedgeEllipseCallout">
            <a:avLst>
              <a:gd name="adj1" fmla="val -123782"/>
              <a:gd name="adj2" fmla="val 34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129C-42FF-4301-9E66-0821F2F025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360" y="3428640"/>
            <a:ext cx="1600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22680" y="1752480"/>
            <a:ext cx="54266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CHAR(30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 VARCHAR(20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7920" y="4343400"/>
            <a:ext cx="42177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 VARCHAR(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am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37600" y="373392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980B-5B61-448F-AF27-D5243BEB85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with Multiple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5605200" cy="22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gory VARCHAR(2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ce I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ame, category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4800600"/>
          <a:ext cx="4190760" cy="1701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</a:tblGrid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Ga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5103360" y="4800600"/>
            <a:ext cx="39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, 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55C5-38DF-4C41-9353-AA36C170A0D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6040440" cy="39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ID  CHAR(1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y VARCHAR(2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 IN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MA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uctID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name, category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96000" y="5867280"/>
            <a:ext cx="49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t most on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can be many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3401-36EE-41F1-B8CF-DF87CB6BC9B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ign Ke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7191360" cy="25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rchase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Name CHAR(3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FE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(name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 DATE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1520" y="5181480"/>
            <a:ext cx="570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Name 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eign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Product(nam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must be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94720" y="914400"/>
            <a:ext cx="2185920" cy="1692360"/>
          </a:xfrm>
          <a:prstGeom prst="wedgeEllipseCallout">
            <a:avLst>
              <a:gd name="adj1" fmla="val -136726"/>
              <a:gd name="adj2" fmla="val -32819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t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42080" y="4495680"/>
            <a:ext cx="2341800" cy="1692360"/>
          </a:xfrm>
          <a:prstGeom prst="wedgeEllipseCallout">
            <a:avLst>
              <a:gd name="adj1" fmla="val -93541"/>
              <a:gd name="adj2" fmla="val -9695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wri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FAB3-A5DF-4179-A191-8EA71FD1F6A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457200" y="2540160"/>
          <a:ext cx="3048120" cy="20318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</a:tblGrid>
              <a:tr h="507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5029200" y="2540160"/>
          <a:ext cx="304776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457920" y="200664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29920" y="200664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1905120"/>
            <a:ext cx="3733920" cy="609480"/>
          </a:xfrm>
          <a:custGeom>
            <a:avLst/>
            <a:gdLst/>
            <a:ahLst/>
            <a:rect l="l" t="t" r="r" b="b"/>
            <a:pathLst>
              <a:path w="2352" h="384">
                <a:moveTo>
                  <a:pt x="2352" y="384"/>
                </a:moveTo>
                <a:cubicBezTo>
                  <a:pt x="1924" y="192"/>
                  <a:pt x="1496" y="0"/>
                  <a:pt x="1104" y="0"/>
                </a:cubicBezTo>
                <a:cubicBezTo>
                  <a:pt x="712" y="0"/>
                  <a:pt x="356" y="192"/>
                  <a:pt x="0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5B80-4772-4D9B-B1F0-52A5AD3D967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ign Ke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ame, category) must be a PRIMARY K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8000" y="2057400"/>
            <a:ext cx="829296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rchase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Name CHAR(3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y VARCHAR(2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 DATETI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REIG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Name, categor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FE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Product(name, categor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C903-139E-49FB-A74C-4D03118138E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304920" y="4444920"/>
          <a:ext cx="3047760" cy="20322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876920" y="4444920"/>
          <a:ext cx="304776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305640" y="391176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77640" y="39117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during updat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upd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urchase: insert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roduct: delete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71600" y="3962520"/>
            <a:ext cx="3733920" cy="609480"/>
          </a:xfrm>
          <a:custGeom>
            <a:avLst/>
            <a:gdLst/>
            <a:ahLst/>
            <a:rect l="l" t="t" r="r" b="b"/>
            <a:pathLst>
              <a:path w="2352" h="384">
                <a:moveTo>
                  <a:pt x="2352" y="384"/>
                </a:moveTo>
                <a:cubicBezTo>
                  <a:pt x="1924" y="192"/>
                  <a:pt x="1496" y="0"/>
                  <a:pt x="1104" y="0"/>
                </a:cubicBezTo>
                <a:cubicBezTo>
                  <a:pt x="712" y="0"/>
                  <a:pt x="356" y="192"/>
                  <a:pt x="0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0766-F76C-49C9-A8EA-D7019AAB4B7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Definition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440" y="1523880"/>
            <a:ext cx="7584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far we have see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ata Manipulation 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ata Definition 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D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ta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s the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ta 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fining the sch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 table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dex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o improve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29FD-2424-45AA-8B6D-6649F9F758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during updat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has three policies for maintaining referential integri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j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olating modifications (defaul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sca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fter a delete/update do a delete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t-nu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t foreign-key field to N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SSIGNEMNT: 7.1.5, 7.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5647-7920-4753-B347-D650074F8F2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on Attributes and Tu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on attribute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obvious meaning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con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any conditio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on tupl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F66A-1140-4F12-8476-DF2DDFDDA5F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74040" y="2666880"/>
            <a:ext cx="749916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rchase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Name CHAR(3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HE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Name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 DATETIME 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NOT NU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23000" y="304920"/>
            <a:ext cx="4007520" cy="1692360"/>
          </a:xfrm>
          <a:prstGeom prst="wedgeEllipseCallout">
            <a:avLst>
              <a:gd name="adj1" fmla="val -39486"/>
              <a:gd name="adj2" fmla="val 13995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difference fr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-Ke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8D85-EF6C-4129-910A-4A1584E9992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As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3200" y="1981080"/>
            <a:ext cx="8628120" cy="350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ASSER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yAsser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HEC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OT 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, Purcha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 = Purchase.prod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unt(*) &gt; 2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8A01-746C-4501-91DD-4D92A911423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Comments on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give them names, and alter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in the book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o understand exact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y are chec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o understand exact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tions are taken if they f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9AE6-8C81-4350-979C-AC14F4B3B47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11600" y="2082960"/>
            <a:ext cx="7460640" cy="435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ATE    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son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                               VARCHAR(3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-security-number    I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                                   SHORTI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ty                                   VARCHAR(3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der                              BIT(1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rthdate                         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785D-EE65-42E6-8FB6-BF76420FBB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ng  or Modifying a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7524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Dele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9720" y="3505320"/>
            <a:ext cx="45468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TE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D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hon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TER 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R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g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0240" y="289548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Altering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dding or removing an attribu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4520" y="579132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when you make changes to the sche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0920" y="41148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65560" y="2209680"/>
            <a:ext cx="2059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35920" y="22096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03000" y="217476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with care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6D9C-F199-4A5A-BBE4-E8FE848870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2200" y="1946160"/>
            <a:ext cx="33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ing default 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1640" y="2514600"/>
            <a:ext cx="8070120" cy="308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ATE 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son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VARCHAR(3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-security-number  I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           SHORTINT  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00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ty      VARCHAR(30)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‘Seattle’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der          CHAR(1) 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‘?’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rthdate                        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6095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ault of defaults:   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612B-131D-4204-9543-DBCABC93AF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76520"/>
            <a:ext cx="784872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LY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to speed up query processing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 (name, ag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tial scan of the file Person may take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4200" y="4114800"/>
            <a:ext cx="34786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 = “Smi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B8F5-7A7A-401F-BBC5-F57939360B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n index on na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990720" y="4572000"/>
          <a:ext cx="7162560" cy="584280"/>
        </p:xfrm>
        <a:graphic>
          <a:graphicData uri="http://schemas.openxmlformats.org/drawingml/2006/table">
            <a:tbl>
              <a:tblPr/>
              <a:tblGrid>
                <a:gridCol w="1193760"/>
                <a:gridCol w="1193760"/>
                <a:gridCol w="1193760"/>
                <a:gridCol w="1193760"/>
                <a:gridCol w="1193760"/>
                <a:gridCol w="1193760"/>
              </a:tblGrid>
              <a:tr h="58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t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8" name=""/>
          <p:cNvGrpSpPr/>
          <p:nvPr/>
        </p:nvGrpSpPr>
        <p:grpSpPr>
          <a:xfrm>
            <a:off x="3200400" y="2743200"/>
            <a:ext cx="1982880" cy="1373040"/>
            <a:chOff x="3200400" y="2743200"/>
            <a:chExt cx="1982880" cy="1373040"/>
          </a:xfrm>
        </p:grpSpPr>
        <p:sp>
          <p:nvSpPr>
            <p:cNvPr id="69" name=""/>
            <p:cNvSpPr/>
            <p:nvPr/>
          </p:nvSpPr>
          <p:spPr>
            <a:xfrm>
              <a:off x="4267080" y="2743200"/>
              <a:ext cx="15408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09880" y="3124080"/>
              <a:ext cx="15408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648320" y="3124080"/>
              <a:ext cx="15372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00400" y="35053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733920" y="35053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19720" y="35053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29200" y="35053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419720" y="39625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029200" y="39625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 flipH="1">
            <a:off x="3962520" y="28954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2895480"/>
            <a:ext cx="2286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276360" y="320040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809880" y="3276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571640" y="3276720"/>
            <a:ext cx="15228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3276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3657600"/>
            <a:ext cx="457200" cy="304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4114800"/>
            <a:ext cx="1067040" cy="4572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4680" y="5638680"/>
            <a:ext cx="568692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+ trees have fan-out of 100s: max 4 level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discuss in the second half of this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8E04-3FDA-4912-8C53-B5F9CA676E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7720" y="3276720"/>
            <a:ext cx="6182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Inde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9160" y="23623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02DB-AAF8-4ADF-BAF8-1C46535A17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dand</cp:lastModifiedBy>
  <dcterms:modified xsi:type="dcterms:W3CDTF">2006-01-18T15:59:28Z</dcterms:modified>
  <cp:revision>309</cp:revision>
  <dc:subject/>
  <dc:title>PowerPoint Presentation</dc:title>
</cp:coreProperties>
</file>