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228-CE75-4B42-AAAE-5950A15E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8CA-A49B-4649-B899-4BC63AC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6D2-83CD-4CA4-B1A2-689EBB86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0B6-2319-4069-8688-A810488C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A64-0E46-499A-B07C-7CFF57E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B94-7678-4EDB-BCED-C44E4F1D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011-E01B-4EC7-A2EA-7EA1556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48E-4EC8-40B1-B45E-D4570F96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A6D-D0BB-4BC3-8E2F-5928E9BE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11E-647D-4C1B-970E-EFEFB01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36E-6F8B-4B7D-BD0B-640FE9A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23A-688E-4E1D-BDB9-56528C1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D5CD-8AC7-479A-B207-336C3669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ma-international.org/activities/Languages/Introduction%20to%20Csharp.pd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C#, ASP,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1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57D-BBD5-415E-B65F-E5B049EB79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65120" y="2286000"/>
            <a:ext cx="625068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DataSet myLocalDB = new DataSe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. .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. . . . . /* create inside a table called “books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. . . . . /* now use “books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DataTable x = myLocalDB.Tables[“books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foreach (DataRow y in x.Row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if (y[“title”] == “Harry Potter”) y[“price”]++;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7CF-07B9-4029-A4FF-D182668F0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r edit web.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isqlsrv, user,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Data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SQL quer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Fill( ) method to run query and store answers in a data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65E-375B-4320-BC43-24C0DBBFF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2760" y="2895480"/>
            <a:ext cx="8151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qlConnection c = new SqlConnection( . . . “name” . . 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tring q = “select distinct year from products where price &lt; 100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qlDataAdapter a = new SqlDataAdapter(q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DataSet myLocalDB = new DataSe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a.Fill(myLocalDB, “year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9040" y="5239800"/>
            <a:ext cx="4319280" cy="1172520"/>
          </a:xfrm>
          <a:prstGeom prst="wedgeEllipseCallout">
            <a:avLst>
              <a:gd name="adj1" fmla="val 800"/>
              <a:gd name="adj2" fmla="val -150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= a string !!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mpedance misma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70-562B-41DF-92B1-B72A8F064C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(getters/set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 DataTable, 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9120" y="5943600"/>
            <a:ext cx="75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cma-international.org/activities/Languages/Introduction%20to%20Csharp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DEF-A798-4F82-987E-551EFAEAA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   =  C++.Sytnax  +   Java.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“safe” language (like 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mbedded in Web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cess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, but you should see the predecesso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92A-168C-4ADF-9AF6-6344EE413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1760" y="2209680"/>
            <a:ext cx="5203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Lucida Grande"/>
              </a:rPr>
              <a:t>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 worl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33C-E7B3-4A36-98FB-06926F6D7B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7440" y="1649520"/>
            <a:ext cx="423432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ublic class Poi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rivate int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rivate string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ublic int posi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get { return x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et  { x = value; c = “red”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ublic string col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get { return c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et { c = value; x++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: Getters and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840" y="3528720"/>
            <a:ext cx="4504320" cy="29408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uvw = new 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w.position = 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w.color = “gree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w.position = uvw.position *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uvw.color == “green”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A3E-C0DB-46E1-A419-CF2EC5096A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2760" y="18367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s and setters with [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240" y="1752480"/>
            <a:ext cx="5027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ublic class Stuff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rivate int x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public int this[int i]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get {x[2*i+1]=0; return x[2*i]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set { x[2*i] = value; x[2*i+1]=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Gran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7320" y="4798800"/>
            <a:ext cx="3606840" cy="17247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ff uvw = new Stuff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w[12] = 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w[99] = uvw[12]*7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8FA-66B8-43E9-97E3-543CC068CC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12200" y="2971800"/>
            <a:ext cx="3871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Lucida Grande"/>
              </a:rPr>
              <a:t>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 Color: by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= 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=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= 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=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 = Red | Green | Bl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78E-385F-48C7-9E0D-CE48622B0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ields defined in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elds defined in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han creates file 1, you create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551-E8E6-4B3A-9946-A649B19581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A04-72CF-4B38-B0F7-8363DF91D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6-01-13T06:22:34Z</dcterms:modified>
  <cp:revision>334</cp:revision>
  <dc:subject/>
  <dc:title>PowerPoint Presentation</dc:title>
</cp:coreProperties>
</file>