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945-A066-4992-8989-0DE2EFA4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668-A1B4-4F77-B5A1-187FD36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896-2586-4BF0-A101-7B721CD9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FA5-D5B0-4D7C-869C-9B9BF0BE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9D9-D449-42A3-905D-BA3D678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E05-8E53-49DB-B2F3-98278AB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7F6-7893-4397-8B47-F9A600B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F34-69B2-4A0C-9BCD-3173821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48F-021B-4830-84E1-3A5FA29E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7DA-2435-45BC-9467-06EFC34E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94E-B139-4D9D-906F-FE52869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D72-E7E4-4748-9A4A-4ED5798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5295-F6DD-48A8-A540-0AA58CA3B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1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08F-00E6-4B73-B111-A04BA14094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E4E-E23C-4D76-B9B3-306C8923A3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8F1-9D3C-4DAD-8269-9D68C44AFA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306-324A-44E0-84C1-9D76F248B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 = “inner joins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6200" y="2819520"/>
            <a:ext cx="694440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8680" y="4495680"/>
            <a:ext cx="59691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1240" y="441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8480" y="5943600"/>
            <a:ext cx="525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815-062D-4A1B-88E6-6DAE4E710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BC8-A606-4056-9D6A-942E7DD5B5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EF8-DA91-4233-A021-BA81D574D0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288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84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E39-7836-48EF-8764-874E0930C2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148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204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F4B-E2AD-43F2-8FAB-98DB94966B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89C-F5D2-4739-BE03-E9AF888829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203-7DD2-4181-872C-E560C2D4B6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ABB-A28D-4FCA-9D10-5C5BE66285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53F-B21B-41BD-82AE-C2F213F8A3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229-231D-4FB9-A767-12BCAB854F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CC9-A045-4F5E-909B-E0D371416A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8AD-AB82-4AF8-8C79-F70DB8FD3A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FAE-9D3E-4556-B006-0535062764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8B1-64B7-43A8-9B0D-F52DF9B252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089-F027-4522-AAB4-F7A81B176B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520" y="21877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4320" y="3886200"/>
            <a:ext cx="78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3D0-F3E7-4C4A-9081-38CB9363B3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6960" y="13032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508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86280" y="2133720"/>
            <a:ext cx="597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00 &l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Product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6840" y="289548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equival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1040" y="699480"/>
            <a:ext cx="2278800" cy="652680"/>
          </a:xfrm>
          <a:prstGeom prst="wedgeEllipseCallout">
            <a:avLst>
              <a:gd name="adj1" fmla="val -104824"/>
              <a:gd name="adj2" fmla="val 6934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bot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63B-0CDF-4D12-ADB5-D2C170FCB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6160" y="2187720"/>
            <a:ext cx="458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240" y="3886200"/>
            <a:ext cx="46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t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ts most expensiv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4E2-10AB-4289-8F21-E027496C6D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800" y="1905120"/>
            <a:ext cx="539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064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x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5720" y="15238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200" y="4724280"/>
            <a:ext cx="196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n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7F1-32A0-4115-B1FC-77EB9BDCBA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20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x.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356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727-03C8-4228-92CF-39E013134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E2C-35EB-4F7D-A022-F91D9ED65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61F-8EC0-4803-A411-AA8F6731F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suciu</cp:lastModifiedBy>
  <dcterms:modified xsi:type="dcterms:W3CDTF">2006-01-11T05:00:03Z</dcterms:modified>
  <cp:revision>215</cp:revision>
  <dc:subject/>
  <dc:title>PowerPoint Presentation</dc:title>
</cp:coreProperties>
</file>