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60B7-E00A-44FA-B710-C215E45C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A52D-4A9F-427A-A855-C97E1845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C864-7E14-475F-997D-16ED571D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BFF9-68E1-486B-B220-1E38F353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F29C-C0D3-4007-B6A6-8C3F0B4D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40F1-2506-4891-A29C-B974F22B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96B4-97D2-46ED-8BB1-378115FE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5788-1F40-47DE-9201-1F567FF8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5295-C779-47E1-A71F-7C0042CF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6505-F858-47CF-A84F-D400FDAE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312D-D470-40E8-A212-018D252D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F42E-1315-48E3-BCD3-1246C50D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FA9A-0EC0-46A0-8344-6D2E2F840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isqlsrv.cs.washington.edu/444/Project/Default.aspx" TargetMode="External"/><Relationship Id="rId2" Type="http://schemas.openxmlformats.org/officeDocument/2006/relationships/hyperlink" Target="http://iisqlsrv.cs.washington.edu/444/Project/Default.aspx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3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January 9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6A56-4ED5-4B97-9BE7-74055FD583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&amp;2. FROM-WHERE-GROUP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066680" y="2438280"/>
          <a:ext cx="6477120" cy="2894040"/>
        </p:xfrm>
        <a:graphic>
          <a:graphicData uri="http://schemas.openxmlformats.org/drawingml/2006/table">
            <a:tbl>
              <a:tblPr/>
              <a:tblGrid>
                <a:gridCol w="1619280"/>
                <a:gridCol w="1619280"/>
                <a:gridCol w="1619280"/>
                <a:gridCol w="1619280"/>
              </a:tblGrid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Qua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6C2C-2CC7-4349-8C4E-4FFC8FE883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EL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160" y="4648320"/>
            <a:ext cx="73494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date &gt; ‘10/1/200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28600" y="1981080"/>
          <a:ext cx="4038480" cy="1825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891000"/>
                <a:gridCol w="1128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562720" y="1905120"/>
          <a:ext cx="3429000" cy="180324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</a:tblGrid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talS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4419720" y="2666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481A-C0AF-441C-9BC1-6644EDAEBA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 BY v.s. Nested Quer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120" y="1523880"/>
            <a:ext cx="7273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‘10/1/200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6960" y="3505320"/>
            <a:ext cx="862668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product,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y.price*y.quantit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product = y.produ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AND y.date &gt; ‘10/1/2005’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x.date &gt; ‘10/1/200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0A24-CEB1-4CBA-A661-7B56BEE531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9520" y="3048120"/>
            <a:ext cx="6156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sum(price * quantity) AS Sum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(quantity) AS Max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44720" y="1661400"/>
            <a:ext cx="208908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B2EA-F2FD-47EF-BE94-C493F5F8D2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ING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5480" y="3352680"/>
            <a:ext cx="5595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‘10/1/200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um(quantity) &gt;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560" y="160020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query, except that we consider only products tha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100 bu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560376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clause contains conditions on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B6C9-D0E5-4BF9-ABF0-CD2A1BCE1E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may contain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/or any aggregates but NO OTHER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 = is any condition on the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 = is any condition on aggregate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640" y="3276720"/>
            <a:ext cx="1399680" cy="652680"/>
          </a:xfrm>
          <a:prstGeom prst="wedgeEllipseCallout">
            <a:avLst>
              <a:gd name="adj1" fmla="val -26962"/>
              <a:gd name="adj2" fmla="val 17293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E28C-E039-4C74-B4C4-013E4D1E91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4114800"/>
            <a:ext cx="778536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FROM-WHERE, apply condition 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 the attributes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condition C2 to each group (may have aggreg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aggregates in S and return the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88640" y="1981080"/>
            <a:ext cx="2691000" cy="21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426-6586-4AA2-931F-3B3D1B5695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SQ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around INTERSECT and EX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f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 v.s. sub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A154-828B-44F4-A984-06B95B4D93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INTERSECT and EXCEP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2286000"/>
            <a:ext cx="22107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INTERS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.A, S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2120" y="2286000"/>
            <a:ext cx="4883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=S.A and R.B=S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2895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0680" y="4495680"/>
            <a:ext cx="22107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.A, S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080" y="4495680"/>
            <a:ext cx="4883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=S.A and R.B=S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5105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35520" y="1143000"/>
            <a:ext cx="2540880" cy="1862280"/>
          </a:xfrm>
          <a:prstGeom prst="wedgeEllipseCallout">
            <a:avLst>
              <a:gd name="adj1" fmla="val -57675"/>
              <a:gd name="adj2" fmla="val 4325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R, S have n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plicates, then ca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rite witho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queri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HOW 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5080" y="151560"/>
            <a:ext cx="6001920" cy="50940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 and EXCEPT: not in SQL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1886-BDE0-4570-B1D0-3D70167186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0800" y="2057400"/>
            <a:ext cx="441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omp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 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4160" y="3352680"/>
            <a:ext cx="77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mpanies that ma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s with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4960" y="4648320"/>
            <a:ext cx="75189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,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= Product.company and Product.price &lt;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44320" y="5884920"/>
            <a:ext cx="36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Existential: easy  ! </a:t>
            </a:r>
            <a:r>
              <a:rPr b="0" lang="en-US" sz="3200" spc="-1" strike="noStrike">
                <a:solidFill>
                  <a:srgbClr val="ff505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6358-01F2-4424-A270-987A707BCA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iisqlsrv.cs.washington.edu/444/Project/Default.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sp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0: form groups of two. 1/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1: design database. 1/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2: import data, provide logic. 2/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3: checkout logic. 2/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4: publish/consume XML data. 3/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FAF2-FA0F-4AAB-AE92-61AA507B0F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0800" y="2057400"/>
            <a:ext cx="441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omp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 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5720" y="4495680"/>
            <a:ext cx="75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mpanies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ir products have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4000" y="556272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Universal: hard !  </a:t>
            </a:r>
            <a:r>
              <a:rPr b="0" lang="en-US" sz="3200" spc="-1" strike="noStrike">
                <a:solidFill>
                  <a:srgbClr val="ff505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800" y="3276720"/>
            <a:ext cx="76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mpanies that ma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s with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47640" y="388620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6365-D72E-483E-B00E-607EA12E14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8880" y="434340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Find all companies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 products have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4320" y="1828800"/>
            <a:ext cx="71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oth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ies: i.e.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2480" y="2438280"/>
            <a:ext cx="65102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comp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.price &gt;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6280" y="4952880"/>
            <a:ext cx="70862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comp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.price &gt;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2A4-A13B-445B-B365-E177FB57E7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Group-by v.s. Nes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2666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uthors who wrot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1: with nested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2520" y="4038480"/>
            <a:ext cx="7163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.ur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login=Wrote.logi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55280" y="2666880"/>
            <a:ext cx="1713960" cy="1692360"/>
          </a:xfrm>
          <a:prstGeom prst="wedgeEllipseCallout">
            <a:avLst>
              <a:gd name="adj1" fmla="val -96763"/>
              <a:gd name="adj2" fmla="val 333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0600" y="1447920"/>
            <a:ext cx="34315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uthor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logi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n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rote(login,ur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C568-7ABD-4056-9743-4D0AFE8CFA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Group-by v.s. Nes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wrote at least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2: SQL style (with GROUP B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30960" y="3962520"/>
            <a:ext cx="5004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, Wr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login=Wrote.lo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wrote.url)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82920" y="3733920"/>
            <a:ext cx="1859400" cy="1692360"/>
          </a:xfrm>
          <a:prstGeom prst="wedgeEllipseCallout">
            <a:avLst>
              <a:gd name="adj1" fmla="val -93222"/>
              <a:gd name="adj2" fmla="val -3424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97480" y="6137280"/>
            <a:ext cx="72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utomatically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25DC-01CB-4DA3-AD74-AC1FFA5D5E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Group-by v.s. Nes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3429000"/>
            <a:ext cx="7610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uthors with vocabular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000 w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560" y="4321080"/>
            <a:ext cx="8736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Author, Wrote, M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Author.login=Wrote.login AND Wrote.url=Mentions.u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distinct Mentions.word) &gt; 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960" y="1676520"/>
            <a:ext cx="30168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hor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logi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rote(login,ur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entions(url,w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F84D-E0DA-42B0-B51F-8E4BC46C726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queries (6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s (6.4.3 – 6.4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entire chapter 6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3400" y="5257800"/>
            <a:ext cx="679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for Nerds”: chapter 4, “More Complex queri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you will find it very useful for subque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BB1B-C8BA-4BD1-8A9B-191DC83D0E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86880" y="1905120"/>
            <a:ext cx="2951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03240" y="5562720"/>
            <a:ext cx="70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count, all aggregations apply to a single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2720" y="1905120"/>
            <a:ext cx="3562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vg(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“Toyo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0760" y="3657600"/>
            <a:ext cx="576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supports several aggregation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count, min, max, av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79A3-C342-4D7F-9095-B00D2655E7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11560" y="1946160"/>
            <a:ext cx="70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  applies to duplicates, unless otherwise sta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3440" y="2819520"/>
            <a:ext cx="3525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categor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5320" y="274320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6120" y="434340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probably w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0840" y="5029200"/>
            <a:ext cx="4912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68C5-7BCA-4819-99A3-B42D61D0DE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27760" y="1981080"/>
            <a:ext cx="49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4280" y="3352680"/>
            <a:ext cx="4129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7960" y="5029200"/>
            <a:ext cx="412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 = ‘bag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41600" y="4024080"/>
            <a:ext cx="234144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CABF-2D4F-4B6E-B08C-870977F4AD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19700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990720" y="1905120"/>
          <a:ext cx="6476760" cy="2895480"/>
        </p:xfrm>
        <a:graphic>
          <a:graphicData uri="http://schemas.openxmlformats.org/drawingml/2006/table">
            <a:tbl>
              <a:tblPr/>
              <a:tblGrid>
                <a:gridCol w="1619280"/>
                <a:gridCol w="1618920"/>
                <a:gridCol w="1619280"/>
                <a:gridCol w="1619280"/>
              </a:tblGrid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Qua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459360" y="5181480"/>
            <a:ext cx="412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 = ‘bag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760" y="556272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 (= 20+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B3F8-1100-4BF5-AB88-0DD8F488B4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3320" y="1641600"/>
            <a:ext cx="49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160" y="3733920"/>
            <a:ext cx="73494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date &gt; ‘10/1/200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48320" y="5985000"/>
            <a:ext cx="36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this mea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0720" y="2590920"/>
            <a:ext cx="55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otal sales after 10/1/2005 per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98D1-9E05-49DB-950E-F66118B550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2240" y="2209680"/>
            <a:ext cx="843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ompute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Group by the attributes in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Compute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: grouped attributes and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CB63-C044-4C40-823A-4104121604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6-01-09T03:38:03Z</dcterms:modified>
  <cp:revision>323</cp:revision>
  <dc:subject/>
  <dc:title>PowerPoint Presentation</dc:title>
</cp:coreProperties>
</file>