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A338-A32D-461B-A0E8-023D7859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CE4C-E6BA-4827-A2B9-436A8DEE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9288-0909-4B48-99A0-7136473B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2969-8656-40DF-B1F4-9D9477B7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7686-EC6A-4D49-8945-0CB4E86D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85AE-3F60-4340-A0F6-56341B76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C9DF-ED8E-415B-9EA4-B58BF13B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C843-4CBC-47DD-9899-FC3B1553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F866-7E3F-4139-A683-0179803A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873C-0993-4069-B802-DA1DDF5D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D105-B93B-4C66-A2B3-E867C576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655D-A4FC-4C8F-8B53-B67F3B01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C86D-5844-4C64-9CE5-E7181960E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philip.greenspun.com/sql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2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January 6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63F1-8E72-47F7-B7BA-29BC57CDF6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uple = a re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ion: all attributes are of atomic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able = a set of tu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a lis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t is unorderd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st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EF54-9DDE-4D7D-9539-5643D6ED38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9280" y="2666880"/>
            <a:ext cx="686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form: (plus many many more bells and whist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9240" y="3957480"/>
            <a:ext cx="4449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attribut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one or more relation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condition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A7AB-4DEF-4FFD-86C4-C9DAED6786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352680" y="19810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231840" y="3809880"/>
            <a:ext cx="3919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*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=‘Gadg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4480" y="19810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276720" y="5257800"/>
          <a:ext cx="5410080" cy="10047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271800" y="5852160"/>
            <a:ext cx="2175840" cy="6498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DC26-69E9-41FA-A83E-BE0191365C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352680" y="19810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30760" y="3809880"/>
            <a:ext cx="50180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, Manufacturer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4480" y="19810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114800" y="5257800"/>
          <a:ext cx="4057560" cy="10047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345600" y="5319000"/>
            <a:ext cx="290628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”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B886-9D60-4C96-BE9A-897E98A09C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1720" y="3200400"/>
            <a:ext cx="49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Price, Category, Manfactu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1120" y="5257800"/>
            <a:ext cx="39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nswer(PName, Price, Manfactu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09280" y="1752480"/>
            <a:ext cx="2653560" cy="652680"/>
          </a:xfrm>
          <a:prstGeom prst="wedgeEllipseCallout">
            <a:avLst>
              <a:gd name="adj1" fmla="val -37930"/>
              <a:gd name="adj2" fmla="val 16896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52120" y="6019920"/>
            <a:ext cx="2941560" cy="652680"/>
          </a:xfrm>
          <a:prstGeom prst="wedgeEllipseCallout">
            <a:avLst>
              <a:gd name="adj1" fmla="val 20041"/>
              <a:gd name="adj2" fmla="val -10347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0760" y="3809880"/>
            <a:ext cx="50180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, Manufacturer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EA36-33C3-4695-B865-EE1F7B898B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insensit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: SELECT  Select  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: Product  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: ‘Seattle’  ‘seattl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c’  -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c” -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9E62-7EDF-4898-8CF6-9DECDBBD83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3657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:  pattern matching on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may contain two special symbo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 = any sequence of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   = any single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5920" y="1981080"/>
            <a:ext cx="553176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*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Products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Nam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‘%gizmo%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5120-A352-4F6E-AEFA-BC6005FC57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7880" y="2133720"/>
            <a:ext cx="4039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160" y="37339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42760" y="4876920"/>
            <a:ext cx="2576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324480" y="4343400"/>
          <a:ext cx="1352520" cy="1674720"/>
        </p:xfrm>
        <a:graphic>
          <a:graphicData uri="http://schemas.openxmlformats.org/drawingml/2006/table">
            <a:tbl>
              <a:tblPr/>
              <a:tblGrid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6248520" y="1905120"/>
          <a:ext cx="1352520" cy="1339560"/>
        </p:xfrm>
        <a:graphic>
          <a:graphicData uri="http://schemas.openxmlformats.org/drawingml/2006/table">
            <a:tbl>
              <a:tblPr/>
              <a:tblGrid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5181480" y="2362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5029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F7FA-A19F-494E-ADB0-30E7C18876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ing the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2133720"/>
            <a:ext cx="5734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, manufactu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=‘gizmo’ AND price &gt;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,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160" y="4079880"/>
            <a:ext cx="840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s are broken by the second attribute on the ORDER BY lis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ing is ascending, unless you specify the DESC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1664-64E3-49B6-8708-84C7B96E90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9520" y="3772080"/>
            <a:ext cx="2759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429000" y="228600"/>
          <a:ext cx="5410080" cy="167472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5105520" y="2666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3120" y="22096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6640" y="2133720"/>
            <a:ext cx="403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6640" y="5410080"/>
            <a:ext cx="403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114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9440" y="365760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5715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9440" y="525780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09ED-2756-4092-A6E3-F443BC2F92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nistri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1 is out. Due: Wed., Jan. 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login on IISQLSRV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change your passwor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subscribe to CSE444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5518-8DF7-49AF-8974-F67432E594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and Foreign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920" y="4724280"/>
          <a:ext cx="6324480" cy="1825560"/>
        </p:xfrm>
        <a:graphic>
          <a:graphicData uri="http://schemas.openxmlformats.org/drawingml/2006/table">
            <a:tbl>
              <a:tblPr/>
              <a:tblGrid>
                <a:gridCol w="1638360"/>
                <a:gridCol w="1257120"/>
                <a:gridCol w="1676520"/>
                <a:gridCol w="17524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305640" y="41940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920" y="16034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3880" y="2133720"/>
          <a:ext cx="4419720" cy="1930320"/>
        </p:xfrm>
        <a:graphic>
          <a:graphicData uri="http://schemas.openxmlformats.org/drawingml/2006/table">
            <a:tbl>
              <a:tblPr/>
              <a:tblGrid>
                <a:gridCol w="1600200"/>
                <a:gridCol w="1371600"/>
                <a:gridCol w="1447920"/>
              </a:tblGrid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C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96920" y="2650320"/>
            <a:ext cx="977760" cy="652680"/>
          </a:xfrm>
          <a:prstGeom prst="wedgeEllipseCallout">
            <a:avLst>
              <a:gd name="adj1" fmla="val 108444"/>
              <a:gd name="adj2" fmla="val -9988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27880" y="4600080"/>
            <a:ext cx="1605240" cy="1172520"/>
          </a:xfrm>
          <a:prstGeom prst="wedgeEllipseCallout">
            <a:avLst>
              <a:gd name="adj1" fmla="val -111476"/>
              <a:gd name="adj2" fmla="val -233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A72A-CE42-4485-8D99-6656107DC3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stock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s under $200 manufactured in Japan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their names and pri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5880" y="4191120"/>
            <a:ext cx="71395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er=CName AND Country=‘Japan’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AND Price &lt;=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438280" y="3200400"/>
            <a:ext cx="6394680" cy="2209680"/>
            <a:chOff x="2438280" y="3200400"/>
            <a:chExt cx="6394680" cy="2209680"/>
          </a:xfrm>
        </p:grpSpPr>
        <p:sp>
          <p:nvSpPr>
            <p:cNvPr id="128" name=""/>
            <p:cNvSpPr/>
            <p:nvPr/>
          </p:nvSpPr>
          <p:spPr>
            <a:xfrm>
              <a:off x="2438280" y="4876920"/>
              <a:ext cx="2743200" cy="5331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74320" y="3200400"/>
              <a:ext cx="3158640" cy="1692360"/>
            </a:xfrm>
            <a:prstGeom prst="wedgeEllipseCallout">
              <a:avLst>
                <a:gd name="adj1" fmla="val -76949"/>
                <a:gd name="adj2" fmla="val 55060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oin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tween Produc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d 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E543-28C9-48EB-8870-29BEE205A4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280" y="2133720"/>
          <a:ext cx="4114800" cy="136512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  <a:gridCol w="1067040"/>
                <a:gridCol w="1143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154080" y="175248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31360" y="18288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105520" y="2209680"/>
          <a:ext cx="3809880" cy="109224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35" name=""/>
          <p:cNvCxnSpPr/>
          <p:nvPr/>
        </p:nvCxnSpPr>
        <p:spPr>
          <a:xfrm>
            <a:off x="4266720" y="2543040"/>
            <a:ext cx="83916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6" name=""/>
          <p:cNvCxnSpPr/>
          <p:nvPr/>
        </p:nvCxnSpPr>
        <p:spPr>
          <a:xfrm flipV="1">
            <a:off x="4266720" y="2892240"/>
            <a:ext cx="839160" cy="197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/>
          <p:nvPr/>
        </p:nvCxnSpPr>
        <p:spPr>
          <a:xfrm flipV="1">
            <a:off x="4266720" y="3315960"/>
            <a:ext cx="839160" cy="46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/>
          <p:nvPr/>
        </p:nvCxnSpPr>
        <p:spPr>
          <a:xfrm flipV="1">
            <a:off x="4266720" y="2618640"/>
            <a:ext cx="839160" cy="19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139" name=""/>
          <p:cNvGraphicFramePr/>
          <p:nvPr/>
        </p:nvGraphicFramePr>
        <p:xfrm>
          <a:off x="6019920" y="5257800"/>
          <a:ext cx="1904760" cy="54612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6781680" y="4038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19320" y="2362320"/>
            <a:ext cx="7619760" cy="1066680"/>
            <a:chOff x="1219320" y="2362320"/>
            <a:chExt cx="7619760" cy="1066680"/>
          </a:xfrm>
        </p:grpSpPr>
        <p:sp>
          <p:nvSpPr>
            <p:cNvPr id="142" name=""/>
            <p:cNvSpPr/>
            <p:nvPr/>
          </p:nvSpPr>
          <p:spPr>
            <a:xfrm>
              <a:off x="7772400" y="2666880"/>
              <a:ext cx="1066680" cy="7621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19320" y="2362320"/>
              <a:ext cx="838080" cy="9144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1134400">
              <a:off x="3346200" y="2746080"/>
              <a:ext cx="2971800" cy="4572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78120" y="4419720"/>
            <a:ext cx="54064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PName, Price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ufacturer=CName AND Country=‘Japan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AND Price &lt;= 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8E19-A2B6-4D53-AE3B-4C34A54745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stock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hinese companies that manufacture products both in the ‘electronic’ and ‘toy’ categ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44920" y="4191120"/>
            <a:ext cx="71301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nam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A084-9F80-460A-9BC5-B82C33179A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ubtlety about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stock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untries that manufacture some product in the ‘Gadgets’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40240" y="4191120"/>
            <a:ext cx="7563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untr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er=CName AND Category=‘Gadg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FA8D-6CA6-4C01-825D-00DAA6CEC58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ubtlety about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280" y="2133720"/>
          <a:ext cx="4114800" cy="136512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  <a:gridCol w="1067040"/>
                <a:gridCol w="1143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154080" y="175248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31360" y="18288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105520" y="2209680"/>
          <a:ext cx="3809880" cy="109224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C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59" name=""/>
          <p:cNvCxnSpPr/>
          <p:nvPr/>
        </p:nvCxnSpPr>
        <p:spPr>
          <a:xfrm>
            <a:off x="4266720" y="2543040"/>
            <a:ext cx="83916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"/>
          <p:cNvCxnSpPr/>
          <p:nvPr/>
        </p:nvCxnSpPr>
        <p:spPr>
          <a:xfrm flipV="1">
            <a:off x="4266720" y="2892240"/>
            <a:ext cx="839160" cy="197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/>
          <p:nvPr/>
        </p:nvCxnSpPr>
        <p:spPr>
          <a:xfrm flipV="1">
            <a:off x="4266720" y="3315960"/>
            <a:ext cx="839160" cy="46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/>
          <p:nvPr/>
        </p:nvCxnSpPr>
        <p:spPr>
          <a:xfrm flipV="1">
            <a:off x="4266720" y="2618640"/>
            <a:ext cx="839160" cy="19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2209680" y="2438280"/>
            <a:ext cx="76212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81680" y="4038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553080" y="5181480"/>
          <a:ext cx="1270080" cy="1092240"/>
        </p:xfrm>
        <a:graphic>
          <a:graphicData uri="http://schemas.openxmlformats.org/drawingml/2006/table">
            <a:tbl>
              <a:tblPr/>
              <a:tblGrid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451080" y="5158080"/>
            <a:ext cx="2238120" cy="15966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lem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’s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2800" y="3962520"/>
            <a:ext cx="50878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Country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ufacturer=CName AND Category=‘Gadget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0AEB-F728-494D-AB76-668BBF896D4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ple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72440" y="2819520"/>
            <a:ext cx="48700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, address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for = 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62360" y="2360520"/>
            <a:ext cx="1859400" cy="1172520"/>
          </a:xfrm>
          <a:prstGeom prst="wedgeEllipseCallout">
            <a:avLst>
              <a:gd name="adj1" fmla="val -78587"/>
              <a:gd name="adj2" fmla="val 1000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6000" y="1752480"/>
            <a:ext cx="504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address, worksfor)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mpany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add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33520" y="4152960"/>
            <a:ext cx="8338680" cy="1191240"/>
            <a:chOff x="533520" y="4152960"/>
            <a:chExt cx="8338680" cy="1191240"/>
          </a:xfrm>
        </p:grpSpPr>
        <p:sp>
          <p:nvSpPr>
            <p:cNvPr id="173" name=""/>
            <p:cNvSpPr/>
            <p:nvPr/>
          </p:nvSpPr>
          <p:spPr>
            <a:xfrm>
              <a:off x="1833480" y="4152960"/>
              <a:ext cx="70387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DISTIN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Person.pname, Company.address</a:t>
              </a:r>
              <a:br>
                <a:rPr sz="2400"/>
              </a:b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Person, Company</a:t>
              </a:r>
              <a:br>
                <a:rPr sz="2400"/>
              </a:b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WHERE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.worksfor = Company.c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520" y="46483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33520" y="5486400"/>
            <a:ext cx="6628320" cy="1191240"/>
            <a:chOff x="533520" y="5486400"/>
            <a:chExt cx="6628320" cy="1191240"/>
          </a:xfrm>
        </p:grpSpPr>
        <p:sp>
          <p:nvSpPr>
            <p:cNvPr id="176" name=""/>
            <p:cNvSpPr/>
            <p:nvPr/>
          </p:nvSpPr>
          <p:spPr>
            <a:xfrm>
              <a:off x="1834560" y="5486400"/>
              <a:ext cx="532728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DISTIN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x.pname, y.address</a:t>
              </a:r>
              <a:br>
                <a:rPr sz="2400"/>
              </a:b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Person AS x, Company AS y</a:t>
              </a:r>
              <a:br>
                <a:rPr sz="2400"/>
              </a:b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WHERE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.worksfor = y.c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3520" y="56865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B6D3-A2AA-47D8-8FF8-462CED7D7E1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(Semantics) of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5430600" cy="11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120" y="3505320"/>
            <a:ext cx="7746120" cy="290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 = Answ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5C1F-766A-48C0-8272-50B564B936A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067120" y="2743200"/>
            <a:ext cx="4658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, S,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R.A=S.A    OR   R.A=T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Unintuitive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906120" y="5562720"/>
            <a:ext cx="6540840" cy="459720"/>
            <a:chOff x="906120" y="5562720"/>
            <a:chExt cx="6540840" cy="459720"/>
          </a:xfrm>
        </p:grpSpPr>
        <p:sp>
          <p:nvSpPr>
            <p:cNvPr id="184" name=""/>
            <p:cNvSpPr/>
            <p:nvPr/>
          </p:nvSpPr>
          <p:spPr>
            <a:xfrm>
              <a:off x="906120" y="5562720"/>
              <a:ext cx="30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utes 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(S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52880" y="5562720"/>
              <a:ext cx="249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ut what if S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909880" y="447192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it compu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941C-C5A3-45ED-A80F-45EACFF506E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1640" y="3886200"/>
            <a:ext cx="751896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 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pname=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urchase .buyer = ‘Joe Blow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720" y="2971800"/>
            <a:ext cx="773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cities where one can find companies that manufactu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bought by Joe B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560" y="1600200"/>
            <a:ext cx="423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mpany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city)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maker)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urchase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product, buy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7D77-11BA-435A-B1D2-76AA6E158B4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y’s Reading Assig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read i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es ACID mea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atom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= 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 = 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d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9291-3E79-4367-B079-E27574FC62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8880" y="3102120"/>
            <a:ext cx="6409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pname 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buyer = ‘Joe Blow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3000" y="20224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equivalent to thi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3480" y="586728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Beware of duplicat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E720-4AB8-4454-84FC-42CAA10E977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v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14120" y="4800600"/>
            <a:ext cx="14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1640" y="1676520"/>
            <a:ext cx="751896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 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pname=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urchase .buyer = ‘Joe Blow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9400" y="4648320"/>
            <a:ext cx="6409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pname 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buyer = ‘Joe Blow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9CB0-3BEF-4317-AA5B-08FBEFDA2EA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4280" y="4572000"/>
            <a:ext cx="74520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 &gt;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ker=‘Gizmo-Works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0480" y="3124080"/>
            <a:ext cx="777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roducts that are more expensive than all those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“Gizmo-Work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41680" y="1905120"/>
            <a:ext cx="39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also use:   s &gt; ALL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&gt; ANY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9AC5-42C2-480D-BDE4-94A5429D96B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for Database Fa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ir Frie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express this query as a single SELECT-FROM-WHERE query, without subqueri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nt:  show that all SFW queries are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monot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figure out what this means).  A query wi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mono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8849-501B-4CD3-AF81-EAB472487E9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la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3276720"/>
            <a:ext cx="55483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Movie AS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ear &lt;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itle =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titl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3000" y="1828800"/>
            <a:ext cx="645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vie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itle,  yea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director,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movies whose title appears more than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9720" y="586728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(1) scope of variables (2) this can still be expressed as single SF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2438280"/>
            <a:ext cx="1523880" cy="762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495680" y="289548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866920" y="3200400"/>
            <a:ext cx="16002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2FDB-1649-4456-AD74-A61CB1E1F87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Correlated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, y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roducts (and their manufacturers) that are more expensive than all products made by the same manufacturer before 19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Very powerful ! Also much harder to optim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8360" y="3505320"/>
            <a:ext cx="795492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name, ma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 AS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rice &gt;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Product AS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x.maker = y.maker AND y.year &lt; 197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2392-64CB-4DD7-B006-BCD279E0E07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 Assignment for Mon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from the textb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 columns: SELECT x.name AS 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, intersection,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3, “Simple Queries” 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QL for Web Nerd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hilip Greenspun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philip.greenspun.com/sq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E785-365E-4695-84CF-ECA8DC31854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Queries in SQL (6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ies with more than one relation (6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6807-F43B-4A40-BD18-6538DDAFDD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760" y="1717560"/>
            <a:ext cx="682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language for querying and manipulat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ctured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ery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6880" y="3200400"/>
            <a:ext cx="883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standards out the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I SQL,  SQL92 (a.k.a. SQL2),  SQL99 (a.k.a. SQL3),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dors support various subsets: watch for fun discussions in clas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49A7-74B6-470D-9D1B-4BA6C1D0E4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Definition Language (DD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/alter/delete tables and their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lectur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Manipulation Language (DM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one or more tables – discussed next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/delete/modify tuples in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6C3A-0919-4456-8F88-ACD7576540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143000" y="2209680"/>
          <a:ext cx="7696080" cy="355572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610200" y="167652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01480" y="304920"/>
            <a:ext cx="3041280" cy="652680"/>
          </a:xfrm>
          <a:prstGeom prst="wedgeEllipseCallout">
            <a:avLst>
              <a:gd name="adj1" fmla="val 537"/>
              <a:gd name="adj2" fmla="val 27916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8520" y="228600"/>
            <a:ext cx="2292120" cy="652680"/>
          </a:xfrm>
          <a:prstGeom prst="wedgeEllipseCallout">
            <a:avLst>
              <a:gd name="adj1" fmla="val -22347"/>
              <a:gd name="adj2" fmla="val 19839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480" y="6095880"/>
            <a:ext cx="2856960" cy="652680"/>
          </a:xfrm>
          <a:prstGeom prst="wedgeEllipseCallout">
            <a:avLst>
              <a:gd name="adj1" fmla="val -1861"/>
              <a:gd name="adj2" fmla="val -11681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s or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9946-55E1-4B50-84C5-00AB5BEEC8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table is the table name and its attribu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PName, Price, Category, Manfactur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attribute whose values are unique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nderline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Price, Category, Manfactur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19BB-F903-4E85-8350-196007C889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mic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s: CHAR(20), VARCHAR(5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: INT, BIGINT, SMALLINT, FL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: MONEY, DATETIME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attribute must have an atomic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tables are fl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26B-5095-40D1-B61E-26DE917AE4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6-01-06T02:41:31Z</dcterms:modified>
  <cp:revision>240</cp:revision>
  <dc:subject/>
  <dc:title>PowerPoint Presentation</dc:title>
</cp:coreProperties>
</file>