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508-157C-4CC1-8649-1D742C17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290-9F27-44F7-A0C6-626DD6E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0E2-2FA5-4D48-809F-51CE63E6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2C5-B592-437F-B0FD-D0BCC632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771-461B-402E-88E9-B3888407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441-68B9-463A-9F3E-4A93DE17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F2E-4A41-43A4-95F7-29F6332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3A4-796F-4BF9-A79F-B36EA426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B5E-1E46-4971-BE98-DE0C9DA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FE0-1C09-499C-8CC1-3B95ACA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F46-E03F-4147-BA49-1484302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622-A021-4FFC-8AB1-0695168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5920-A6A9-47DE-8C8A-67859A8B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mdb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4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736-42CA-4273-ADD9-CBF5AE7F57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 (IBM), SQL Server (MS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438-BB35-4310-8F21-72E3F36558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www.computerworl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B: 35% market with $2.5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33% market with $2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: 19% market with $1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67D-DE27-48A9-B825-3B983B37CC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640" y="6172200"/>
            <a:ext cx="788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store and process locally; what functions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10E-D5E8-4077-9E70-5CAA3A8A1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(not here, but in other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893-81D5-4830-BB8C-98D7D5A392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F49-3699-4AB9-97D0-9CE0AF52F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0DD-FB48-4ECA-8744-B6E6C55756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year w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Rain man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ab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ctor,  count her/his mo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new movie; add an actor to a movie;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52B-B989-4491-B36F-4B285AA9DB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25720" y="1812240"/>
            <a:ext cx="2848680" cy="652680"/>
          </a:xfrm>
          <a:prstGeom prst="wedgeEllipseCallout">
            <a:avLst>
              <a:gd name="adj1" fmla="val -99694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17680" y="2999880"/>
            <a:ext cx="3573720" cy="1172520"/>
          </a:xfrm>
          <a:prstGeom prst="wedgeEllipseCallout">
            <a:avLst>
              <a:gd name="adj1" fmla="val -91587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able que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063-A23F-4F2C-B520-A4A639905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72F-E523-4DFB-AA6E-F2A9C26333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EF-C549-4E29-90B4-3221E05A0B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n, Room 662, suciu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Mondays 12:30 (or by appoin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i Wu, wufei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Fridays 1:00-2:00, CSE 2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han Bales, nbales@cs.washington.edu, nathan@ls3k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D1E-80CC-4193-BC5A-44C6C2FC3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; resulting in inconsist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791-5445-4F2D-8A95-5ABD61C555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s, 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s, 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s, 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s, 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2432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0EA-C81D-4358-8A63-72EEF9DA4A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3960" y="5105520"/>
            <a:ext cx="3041280" cy="1692360"/>
          </a:xfrm>
          <a:prstGeom prst="wedgeEllipseCallout">
            <a:avLst>
              <a:gd name="adj1" fmla="val -29148"/>
              <a:gd name="adj2" fmla="val -56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DAF-75ED-4547-97E5-299D166990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= Collection of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5181120"/>
            <a:ext cx="66992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6400" y="6248520"/>
            <a:ext cx="317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F2C-5136-4719-A319-639BB565DC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QL to create and 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6800" y="2819520"/>
            <a:ext cx="40320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Actors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OfBirth CHAR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5720" y="3048120"/>
            <a:ext cx="434124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(‘Tom Hanks’, 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8200" y="4952880"/>
            <a:ext cx="6563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and physical organization is handled by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ocus on modeling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4000" y="6099480"/>
            <a:ext cx="49827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data modeling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451-7BEF-4BA1-9F6B-60762CC79D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ing/Querying/Upd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 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07520" y="2666880"/>
            <a:ext cx="7352640" cy="20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tit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, Directors, Movie_Dire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Directors.lname = ‘Coppola’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s.mid = Movie_Directors.mid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_Directors.id = Directors.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0440" y="5086440"/>
            <a:ext cx="60739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tudy SQL in gory details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68720" y="6175440"/>
            <a:ext cx="56444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iscuss the query optimizer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C48-7057-4E2B-91AC-F25D8984DE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Name = IISQL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n = your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[your student id]!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your password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lay with IMDB, create your ow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E82-184D-482E-B80B-D222CD288F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ing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2040" y="3124080"/>
            <a:ext cx="4305960" cy="124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 TABLE Ac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ADD address CHAR(5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DEFAULT ‘unknow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5400" y="556272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cleverness goes on behind the sc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CAB-6273-414F-AA6F-B09BDFD08A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&amp;4 Concurrency&amp;Recove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Transfer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276720"/>
            <a:ext cx="315396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-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46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+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7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F23-6040-48F0-84BB-B133C84D4C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2B1-1E07-4714-9C04-F984A06D22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 (HW1 is po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, group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6A0-1CA8-42BC-9490-A830F37FF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execution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 (=isolation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" y="3889800"/>
            <a:ext cx="67734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echniqu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1160" y="4724280"/>
            <a:ext cx="191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2BA-B917-4246-8872-43B4F2D8B6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y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either executes completely, or doesn’t execute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 (=atomicity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0720" y="3889800"/>
            <a:ext cx="77580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ypes of log fil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6200" y="4724280"/>
            <a:ext cx="292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/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947-D926-4E9F-AC5F-8FEF380332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, Relational model, 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curity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riday, February 10th (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 and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xecution an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rch 15th, 2:30-4:20 (this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808-6314-4DCA-AE2A-1A8DB9CBF1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B9B-51B2-443F-85E5-869F67E53C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have two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SQL Server, C#, 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use other technologies, but we offer no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E93-D6B0-4523-A7CD-5EBA9C6EE9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name = your U e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"studentID" + "!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1 is posted on the Web: due on January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D1D-F239-484D-B268-0FE27DE587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5BE-35AF-45D5-8D83-9676889E4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BB2-F694-4E5C-8834-4BDE2C6C4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s for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47B-DD4E-4533-A74F-42BD60315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5B2-CFEE-4F43-A00B-81D81703D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FE-09B0-4FB1-BF8D-6933841B3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197-6376-4F26-84D4-1AE177C37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Dan Suciu</cp:lastModifiedBy>
  <cp:lastPrinted>1998-09-26T21:35:18Z</cp:lastPrinted>
  <dcterms:modified xsi:type="dcterms:W3CDTF">2006-01-04T18:56:21Z</dcterms:modified>
  <cp:revision>464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