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A89-8AE4-49EB-8AB8-E83E24A9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C10-DA6F-49DD-AF89-C7663E08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268-069C-4C47-B059-158F06EF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A96-635A-4A49-AF1D-B66A4581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F88-2A1B-46DE-8AC6-6DA7A31A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BC5-F139-47D1-A21A-38D819D1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9D8-59C9-4D9F-B957-E71198C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3C2-8A98-4804-9A27-0327991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4E5-99CB-4BAF-BB2E-4BFDE47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BFB-66A3-4CC8-91E5-2043F1C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4B4-3C99-4AC3-A773-D44ADCC8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255-5268-445E-B65C-197FBE8A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46A-EF8A-4B4A-8F00-9048B793F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284-7608-48C4-AE55-0AAC573DF0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C94-C32B-468E-8F2B-02E518098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500-3C39-4707-86AD-B146580A3D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3: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983-DCDE-4C86-9D54-8AE2D6D5BF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F65-5E66-4F41-842B-C552F6FE79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7BB-2F36-44F0-8A44-36F6FC89AE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4: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you know how to convert from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se expressions are equal ? What if we have keys/foreign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be able to discuss alternative choices of query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3BE-216A-4509-A67D-372F36CC84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ECD-423B-419E-97BF-033A012EF4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: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: 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: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s: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317-2E5B-4A70-822A-3D6865EFFC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84D-5F07-485D-9EF7-655B4A7EFA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Monday, December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8:30 – 10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A5B-98CE-43D4-9A24-4B1898215A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BA5-612C-49DF-8E45-F720C1282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2E1-FD1D-4775-AB8D-2948DD46A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D61-3B1D-4353-BE33-986B97911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F82-80B0-4F3B-98EB-4DB5D00678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E85-8402-4C1C-824E-069FA934E2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/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1B1-293B-4EDC-B418-F41FD376B7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2: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FD5-8B89-46E3-BBC8-DCB823BB6A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suciu</cp:lastModifiedBy>
  <dcterms:modified xsi:type="dcterms:W3CDTF">2006-12-08T03:44:40Z</dcterms:modified>
  <cp:revision>382</cp:revision>
  <dc:subject/>
  <dc:title>Lecture 09:</dc:title>
</cp:coreProperties>
</file>