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416C2F-91E9-4433-B310-F4F14A6F2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B40-571F-47EE-BC04-501E018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A62-A4C1-467D-A6D3-FF8FCE5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739-391C-4402-9CB5-C0C23FC0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FF2-385D-479F-B3B2-98E3B347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71F-FE0E-43CA-85C7-2F17EB0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020-FB20-45CF-8B76-092DA1F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512-A4FF-4DB9-B40A-94561DB1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CCC-A81F-4038-996A-11EC393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2A6-3CD0-4C8D-BF1E-4CEC43B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202-684A-4A70-B84B-39A14E8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AEA-D798-4178-9145-928FA89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0F6-B1D4-44C4-8E79-8B858CA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DC20-84AE-46CE-ACA0-BDA153764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4th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8E0-77F1-475C-9681-A030209A5D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69E-8507-47A9-AD91-6F57B6FCD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291-A649-4F5D-A092-F1EA7F384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1D3-7479-4607-9533-4EFCCC5F85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845-37C0-48BA-BD19-218969FCE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876-2DE2-4DD6-A826-2072A2660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487-9416-4380-95AA-A884D18F1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A1E-108F-4B06-A637-60BC232AED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8D9-8A3F-4104-A36D-D84A550DB9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BD6-157A-4950-8BF1-D078489B6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D00-EBE1-4CDE-AE6C-69C2A68D6E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D1A-0199-4039-BB19-8C187DE377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B7F-E476-4C56-9112-7DBC796990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1B0-1FD9-4FC3-888A-135318CC82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4D9-AAC6-4051-BFA8-60CE059E43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76B-F9A7-4823-9C9A-DD67CC24A2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426-78D4-4FF4-8DEB-B7CA4E8F2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5864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48840" y="3422520"/>
            <a:ext cx="6001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0124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3"/>
            <a:endCxn id="221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1" idx="3"/>
            <a:endCxn id="222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2" idx="3"/>
            <a:endCxn id="226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2" idx="5"/>
            <a:endCxn id="227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1" idx="5"/>
            <a:endCxn id="225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0" idx="5"/>
            <a:endCxn id="228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C69-497C-44BB-97DB-DDC0CCC988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4BC-A45C-47CF-B0D6-040CD8F44E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5864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48840" y="3422520"/>
            <a:ext cx="6001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0124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4" idx="3"/>
            <a:endCxn id="245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5" idx="3"/>
            <a:endCxn id="246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6" idx="3"/>
            <a:endCxn id="250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5"/>
            <a:endCxn id="251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5" idx="5"/>
            <a:endCxn id="249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4" idx="5"/>
            <a:endCxn id="252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62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570000">
              <a:off x="484920" y="32418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67C-5340-42C6-8C4D-7566A7A574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41F-5E9D-4D99-A557-D9DEB31049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5864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8840" y="3422520"/>
            <a:ext cx="6001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2160" y="4857840"/>
            <a:ext cx="6001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7" idx="3"/>
            <a:endCxn id="268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8" idx="3"/>
            <a:endCxn id="269" idx="7"/>
          </p:cNvCxnSpPr>
          <p:nvPr/>
        </p:nvCxnSpPr>
        <p:spPr>
          <a:xfrm flipH="1">
            <a:off x="1312200" y="4109760"/>
            <a:ext cx="93564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3"/>
            <a:endCxn id="273" idx="7"/>
          </p:cNvCxnSpPr>
          <p:nvPr/>
        </p:nvCxnSpPr>
        <p:spPr>
          <a:xfrm flipH="1">
            <a:off x="713520" y="5544720"/>
            <a:ext cx="19764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69" idx="4"/>
            <a:endCxn id="274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8" idx="5"/>
            <a:endCxn id="278" idx="1"/>
          </p:cNvCxnSpPr>
          <p:nvPr/>
        </p:nvCxnSpPr>
        <p:spPr>
          <a:xfrm>
            <a:off x="2649240" y="4110120"/>
            <a:ext cx="2437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67" idx="5"/>
            <a:endCxn id="280" idx="1"/>
          </p:cNvCxnSpPr>
          <p:nvPr/>
        </p:nvCxnSpPr>
        <p:spPr>
          <a:xfrm>
            <a:off x="3659040" y="2725200"/>
            <a:ext cx="174240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01720" y="3638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92280" y="50227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0" idx="3"/>
            <a:endCxn id="284" idx="7"/>
          </p:cNvCxnSpPr>
          <p:nvPr/>
        </p:nvCxnSpPr>
        <p:spPr>
          <a:xfrm flipH="1">
            <a:off x="4791960" y="43254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4" idx="3"/>
            <a:endCxn id="272" idx="7"/>
          </p:cNvCxnSpPr>
          <p:nvPr/>
        </p:nvCxnSpPr>
        <p:spPr>
          <a:xfrm flipH="1">
            <a:off x="4215600" y="5710320"/>
            <a:ext cx="1753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0" idx="5"/>
            <a:endCxn id="287" idx="1"/>
          </p:cNvCxnSpPr>
          <p:nvPr/>
        </p:nvCxnSpPr>
        <p:spPr>
          <a:xfrm>
            <a:off x="5802120" y="4325760"/>
            <a:ext cx="61812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4" idx="5"/>
            <a:endCxn id="289" idx="1"/>
          </p:cNvCxnSpPr>
          <p:nvPr/>
        </p:nvCxnSpPr>
        <p:spPr>
          <a:xfrm>
            <a:off x="4792680" y="5710320"/>
            <a:ext cx="1720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2793600" y="4248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78" idx="3"/>
            <a:endCxn id="292" idx="7"/>
          </p:cNvCxnSpPr>
          <p:nvPr/>
        </p:nvCxnSpPr>
        <p:spPr>
          <a:xfrm flipH="1">
            <a:off x="2760480" y="4935240"/>
            <a:ext cx="1324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78" idx="5"/>
            <a:endCxn id="293" idx="1"/>
          </p:cNvCxnSpPr>
          <p:nvPr/>
        </p:nvCxnSpPr>
        <p:spPr>
          <a:xfrm>
            <a:off x="3293640" y="4935240"/>
            <a:ext cx="299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60080" y="51624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2" idx="3"/>
            <a:endCxn id="295" idx="7"/>
          </p:cNvCxnSpPr>
          <p:nvPr/>
        </p:nvCxnSpPr>
        <p:spPr>
          <a:xfrm flipH="1">
            <a:off x="2211120" y="5850000"/>
            <a:ext cx="148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2" idx="5"/>
            <a:endCxn id="297" idx="1"/>
          </p:cNvCxnSpPr>
          <p:nvPr/>
        </p:nvCxnSpPr>
        <p:spPr>
          <a:xfrm>
            <a:off x="2760840" y="5850000"/>
            <a:ext cx="1512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7A0-A5CD-4533-B610-0423CEEDA3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F5D-4529-4F08-B1FC-B7592B252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309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314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516-15B5-4581-BB57-0EFE5C474D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2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729-FAD6-40F5-ADFA-3BCD0922DF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5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5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5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CD0-8D8C-48AD-B390-EC5E3DE678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7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7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7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7ED-6862-4631-A559-8079F0A3DE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9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9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0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EC5-CC4E-4E5F-A0F1-7FF2BB5B5B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41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1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2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2D5-4D9B-43FB-9305-2199D1CF29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913-E706-404A-841F-7424CEAC62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89B-341C-4FAA-B2AC-89611C20D9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792-A57E-4E41-A0B3-0764C90A27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0A9-95C0-4F8B-9898-75058D47FF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18E-5210-4D62-976E-FA34A4CFC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C9B-DD1F-4D65-AE2B-72C5548DBE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C20-D745-4BD9-B3AF-3A91D28A02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3D9-0FF2-44E9-9361-34EA5976441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999-03CA-4AEC-A9E3-F8685710B1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7CD-7396-4E96-8611-15A906D875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68D-0E6D-4164-A4DD-27C2061929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445-C98F-47B5-98A7-74C5FB672B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A80-8380-4CFB-9E34-C63C276403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200400" y="213372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200400" y="362916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6A9-03B4-4F28-8BC0-96606FCDA6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25880" y="2819520"/>
            <a:ext cx="61963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51F-FD0D-4D85-BC50-DAFB45981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66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71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76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7BD-E0DA-4AAF-8029-BB63F75753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89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4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99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4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D9-DC4A-4D11-843C-1C9FC86DB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28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33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38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49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973-18F3-483E-AD5B-541FFD1889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59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4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69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4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1E2-A745-4F2B-950F-D72A32649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2-04T04:43:02Z</dcterms:modified>
  <cp:revision>354</cp:revision>
  <dc:subject/>
  <dc:title>Lecture 09:</dc:title>
</cp:coreProperties>
</file>