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C1A-2B96-4F8A-AAFB-785E7D78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848-8468-451B-99F6-A393B7A0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ED0-CFD9-4BBC-872D-841DFB57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38C-536C-4855-A7AF-F5D02F97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36F-335E-42F9-B5AB-2E945CB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40C-7991-485A-A15C-162E8ACD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E13-AB6D-4ECE-867F-02C762AE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C79-75B9-4453-B953-C1B30ABE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7A2-D06D-40F4-963E-4D85DBD2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536-596C-4DAB-9452-D7E1F17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C37-DA3D-4E86-9403-0EC3F4A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AD0-34E1-430E-B36A-17BF78D0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8024-FE63-4B0C-BA8B-0ACFF333E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7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11A-C281-40E4-8F12-CCD6C3B422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296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8248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9724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DB5-6F38-4455-83ED-D0DB319BD1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84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8A1-C793-418B-9747-F8CBF1D55C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20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68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DAD-4601-4AA2-A6D1-947BA30B11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923-22AA-4E13-8C83-4418E4DF37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SQL query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pla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quivalent plans P = P’ = P’’ =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“cheapest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48200" y="3336120"/>
            <a:ext cx="1783080" cy="652680"/>
          </a:xfrm>
          <a:prstGeom prst="wedgeEllipseCallout">
            <a:avLst>
              <a:gd name="adj1" fmla="val -35773"/>
              <a:gd name="adj2" fmla="val 1062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55F-562C-4537-AD41-0390827C34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2156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P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136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268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2864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2568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468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0924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3096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6600" y="5362200"/>
            <a:ext cx="4089240" cy="1172520"/>
          </a:xfrm>
          <a:prstGeom prst="wedgeEllipseCallout">
            <a:avLst>
              <a:gd name="adj1" fmla="val 42768"/>
              <a:gd name="adj2" fmla="val -1153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2513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99160" y="1217880"/>
            <a:ext cx="29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se(buyer, c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(name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AA4-423B-4BE4-8C3D-145F686E8B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0280" y="2251080"/>
            <a:ext cx="395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sum(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quantity)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4520" y="54864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quantity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92520" y="40384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92520" y="30481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600" y="5362200"/>
            <a:ext cx="4089240" cy="1172520"/>
          </a:xfrm>
          <a:prstGeom prst="wedgeEllipseCallout">
            <a:avLst>
              <a:gd name="adj1" fmla="val 62347"/>
              <a:gd name="adj2" fmla="val -1495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0400" y="2056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6960" y="3123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A0A-AA05-418B-8EB7-418A73CC9C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9BA-CEA0-40E1-9401-731AD4FFB9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DF0-0EF6-4BA3-90DA-A57BF0DDF1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D6E-E428-4AB8-8856-1274E7E54E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8D4-22ED-481D-B798-492D4730D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0E3-9791-4ACD-BA20-5DACC7A9B0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A83-ABDA-41E7-BB29-C15A006D0D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C87-DE0E-42E2-B0B0-437EE9BA9F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DVANCED STUFF; NOT ON THE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schema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R(A1,…An),  S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T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4149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5201280" y="40536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90E-1336-4771-90AF-D9DBF831E3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joins: a bit of theory (see [AHV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ll reducer for Q is a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no dangling tuples remain in any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8640" y="2819520"/>
            <a:ext cx="4347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. . . |x|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52960" y="3886200"/>
            <a:ext cx="1825560" cy="14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172200" y="4038480"/>
            <a:ext cx="304560" cy="1066680"/>
            <a:chOff x="6172200" y="4038480"/>
            <a:chExt cx="304560" cy="1066680"/>
          </a:xfrm>
        </p:grpSpPr>
        <p:sp>
          <p:nvSpPr>
            <p:cNvPr id="191" name=""/>
            <p:cNvSpPr/>
            <p:nvPr/>
          </p:nvSpPr>
          <p:spPr>
            <a:xfrm>
              <a:off x="6172200" y="4038480"/>
              <a:ext cx="304560" cy="1281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4294440"/>
              <a:ext cx="304560" cy="1281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2200" y="4977000"/>
              <a:ext cx="304560" cy="1281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067-B22D-41A2-9E91-E8C8D91B8A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reducer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1280" y="2133720"/>
            <a:ext cx="5697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A,E) :- R1(A,B) |x| R2(B,C) |x|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93400" y="3276720"/>
            <a:ext cx="4636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1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(C,D,E) := R3(C,D,E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(A,B) := R1(A,B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6920" y="609480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ables have only the tuples necessary to compute Q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F32-D416-4067-98EC-AE28652517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full reducer (we can reduce for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query has a full reducer iff it is “acycl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74080" y="2895480"/>
            <a:ext cx="5478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A,C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5E5-34BC-4820-A341-AA8871E538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in [Chaudhuri’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0960" y="2819520"/>
            <a:ext cx="52207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DepAvgSal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FA1-E6FB-42B7-8F9D-8C855A925C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6640" y="2819520"/>
            <a:ext cx="57816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t D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WHERE E.did = D.did AND D.bu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B63-1D59-4F6A-9D0C-C4AF6A1065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full re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590920"/>
            <a:ext cx="63864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PartialResult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id, E.sal, E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=D.did AND E.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.budget &gt; 100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Filter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DISTINCT P.did FROM PartialResul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LimitedAvgSal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Filt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F.did 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A12-B077-475D-B288-5C07AB9D97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588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D6D-B5E4-4665-869E-290BDF06D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0360" y="2971800"/>
            <a:ext cx="5781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.eid, P.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artialResult P, LimitedDepAvgSa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.did = V.did AND P.sal &gt; V.avg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C2B-64C9-43F8-AB37-7F3119F2DE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3C5-BDF9-41A3-B3D7-781DFA112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9341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42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43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2D1-FC26-4B75-B40E-E3BAA8D17F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544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50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816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144-D709-4C7C-8188-C267009A30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32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607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100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840" y="528048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0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1AB-60AE-4625-B3E8-8853445F2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544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0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52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788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8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112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73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0884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B1E-C70B-42C4-AA5A-5F66FFE58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32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07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796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388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840" y="528048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108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232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332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960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1D3-2473-4D3C-99B6-F5688C7B0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suciu</cp:lastModifiedBy>
  <dcterms:modified xsi:type="dcterms:W3CDTF">2006-11-27T04:47:51Z</dcterms:modified>
  <cp:revision>378</cp:revision>
  <dc:subject/>
  <dc:title>Lecture 09:</dc:title>
</cp:coreProperties>
</file>