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7BA9D8-D7C8-417F-97AE-A93D26A52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A73C3F-485A-4CCE-A29B-5B6690A4B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7B0917-75C5-479B-A584-5D0DE7EC1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FAECBE-B494-451E-82D8-39DB12491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AD40F4-A554-43FF-9E64-E4DF149A2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CD6973-8F3A-4095-A0E5-116968D39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8EF-25F9-4C89-A3D0-DDCF4ACE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BA3-74BC-4470-9732-26912D06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BE7-E8A1-4588-AC45-93FEA0CE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057-6C95-4DED-9A01-DEB6F568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A79-E382-4AC7-AC63-7F525E3F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2CF-687F-4BDF-80D2-03590EEE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857-1B73-439F-AD07-CE74C21C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E7F-8E76-44E6-8023-3080F8D9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156-3E03-4485-B940-EB1CC4BD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C12-5BB2-4C1F-AB90-CB616DE7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88C-6083-4FEB-9F6B-6262814B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1DF-A139-4192-A76C-656EE5B5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8D31-F808-4483-AB63-59422266F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20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54F-9746-473E-B61E-4DCDE14BA8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operation = total number of I/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assumed to be delivered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size of main memory buffer pool, in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40A-0695-4AC9-A2D8-4B8BDCCEA7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consists only of records from thi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&lt;&lt;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records are placed on blocks with oth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a key, V(R,a) = T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not a key, V(R,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D27-FA81-42D7-9271-CB251ED70A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and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, 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ple-at-a-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9600" y="4499280"/>
            <a:ext cx="164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62480" y="4499280"/>
            <a:ext cx="185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43434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002-52A7-4392-AE91-4CAEDEB60C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data structure used in man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be used for indexes, as alternative to B+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bas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ash function f(k) maps a key k to {0, 1, …, n-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in bucket f(k) a pointer to record with key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storage: bucket = block, use overflow blocks when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367-F624-4496-B198-457CFF9A97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1 bucket (block) stores 2 keys + po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e)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b)=h(f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g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a)=h(c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8320" y="5985000"/>
            <a:ext cx="2768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: h(x) = x mo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5DF-897F-41AD-A82B-1E0A382B1C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h(a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ucke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disk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in a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7CA-25FA-4C9A-93CF-DC11D45538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 right bucket, i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d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825-B891-4BE3-B181-5D69F07F21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overflow block, if n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k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v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962520" y="304812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318636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86360" y="39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86360" y="464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8636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19920" y="3809880"/>
            <a:ext cx="3096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70572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172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076-EE61-456E-BE1F-67555DC5AB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, if no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ades considerably when number of keys exceeds the number of buckets (I.e. many overflow block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63A-03A3-4DF2-BEB9-3CC969A30A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join: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S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205-0857-40B7-8477-5343EA2E5F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-tables (1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332-0355-4754-B576-750A17CA07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A26-8925-4535-8D71-D6DC636DD2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name, department,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(department,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: How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9A9-045B-4C1E-BE55-0E81A14B07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B(S) when S is 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T(S) when S is un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000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5E2-CB1D-40B9-8F48-7D3A5CB98E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3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831-5DBD-4BAB-AD68-EEEC6F7453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440" y="2743200"/>
            <a:ext cx="796104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2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r and s join”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84B-0CD2-4D81-BC65-F00470565D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57280" y="2979720"/>
            <a:ext cx="844560" cy="2026440"/>
            <a:chOff x="1457280" y="2979720"/>
            <a:chExt cx="844560" cy="2026440"/>
          </a:xfrm>
        </p:grpSpPr>
        <p:sp>
          <p:nvSpPr>
            <p:cNvPr id="208" name="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57280" y="4766040"/>
              <a:ext cx="838080" cy="2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66400" y="3935520"/>
            <a:ext cx="140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57320" y="3247920"/>
            <a:ext cx="140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8440" y="2625840"/>
            <a:ext cx="94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-2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904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16240" y="381168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119280" y="2979720"/>
            <a:ext cx="1404360" cy="2026440"/>
            <a:chOff x="6119280" y="2979720"/>
            <a:chExt cx="1404360" cy="2026440"/>
          </a:xfrm>
        </p:grpSpPr>
        <p:grpSp>
          <p:nvGrpSpPr>
            <p:cNvPr id="233" name=""/>
            <p:cNvGrpSpPr/>
            <p:nvPr/>
          </p:nvGrpSpPr>
          <p:grpSpPr>
            <a:xfrm>
              <a:off x="6334200" y="2979720"/>
              <a:ext cx="844560" cy="2026440"/>
              <a:chOff x="6334200" y="2979720"/>
              <a:chExt cx="844560" cy="2026440"/>
            </a:xfrm>
          </p:grpSpPr>
          <p:sp>
            <p:nvSpPr>
              <p:cNvPr id="234" name="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334200" y="4766040"/>
                <a:ext cx="837720" cy="24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19280" y="393372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788440" y="2624040"/>
            <a:ext cx="1861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D91-83E4-40B3-B7A3-6F703AB3AE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2) times, and each time need to read R: costs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2AB-3CBD-4CAF-9DF6-4CCF065BCA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447920" y="2133720"/>
                <a:ext cx="576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717840" y="3048120"/>
            <a:ext cx="7857360" cy="16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up the tuple(s) s in S using the inde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2FB-54B3-400A-976D-10AC1B0A18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(Assuming R is clustere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228-520D-4BDA-B81C-CC6FE7153F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ig-zag 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zig-zag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07B-8801-42FB-9F29-6EA0A5C07E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Databas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13320" y="2208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76640" y="3066480"/>
            <a:ext cx="26049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g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5520" y="3923640"/>
            <a:ext cx="270684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hys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25320" y="4780800"/>
            <a:ext cx="2306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98960" y="5638680"/>
            <a:ext cx="762120" cy="914400"/>
          </a:xfrm>
          <a:prstGeom prst="can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3" idx="2"/>
            <a:endCxn id="54" idx="0"/>
          </p:cNvCxnSpPr>
          <p:nvPr/>
        </p:nvCxnSpPr>
        <p:spPr>
          <a:xfrm>
            <a:off x="4478400" y="2717280"/>
            <a:ext cx="2160" cy="35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4" idx="2"/>
            <a:endCxn id="55" idx="0"/>
          </p:cNvCxnSpPr>
          <p:nvPr/>
        </p:nvCxnSpPr>
        <p:spPr>
          <a:xfrm>
            <a:off x="4479480" y="357516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2"/>
            <a:endCxn id="56" idx="0"/>
          </p:cNvCxnSpPr>
          <p:nvPr/>
        </p:nvCxnSpPr>
        <p:spPr>
          <a:xfrm flipH="1">
            <a:off x="4478040" y="443232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6" idx="2"/>
            <a:endCxn id="57" idx="1"/>
          </p:cNvCxnSpPr>
          <p:nvPr/>
        </p:nvCxnSpPr>
        <p:spPr>
          <a:xfrm>
            <a:off x="4478400" y="528948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716640" y="1447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2"/>
            <a:endCxn id="53" idx="0"/>
          </p:cNvCxnSpPr>
          <p:nvPr/>
        </p:nvCxnSpPr>
        <p:spPr>
          <a:xfrm flipH="1">
            <a:off x="4478040" y="1905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666880" y="297180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4520" y="3241800"/>
            <a:ext cx="17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27640" y="2725200"/>
            <a:ext cx="1582200" cy="1172520"/>
          </a:xfrm>
          <a:prstGeom prst="wedgeEllipseCallout">
            <a:avLst>
              <a:gd name="adj1" fmla="val -157912"/>
              <a:gd name="adj2" fmla="val 3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57800" y="4096800"/>
            <a:ext cx="1726560" cy="1172520"/>
          </a:xfrm>
          <a:prstGeom prst="wedgeEllipseCallout">
            <a:avLst>
              <a:gd name="adj1" fmla="val -157064"/>
              <a:gd name="adj2" fmla="val -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B3A-CFA0-4FD2-8CC3-7F748E264B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seen that this is like a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649-E023-42EB-A6DE-38287BE0DA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 (assuming R is cluster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(R) = 2,000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based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dex is clustered: B(R)/V(R,a) = 100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dex is unclustered: T(R)/V(R,a) = 5,000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: don’t build unclustered indexes when V(R,a) is smal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02320" y="1523880"/>
            <a:ext cx="240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2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100,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48840" y="1981080"/>
            <a:ext cx="2760840" cy="5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6B3-3A82-4FDD-AD2D-E12094D50C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Very Large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ed hash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-sor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69B-66C4-4654-BF98-3CD0324BBAC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589040" y="2895480"/>
            <a:ext cx="5639040" cy="2820960"/>
            <a:chOff x="1589040" y="2895480"/>
            <a:chExt cx="5639040" cy="2820960"/>
          </a:xfrm>
        </p:grpSpPr>
        <p:sp>
          <p:nvSpPr>
            <p:cNvPr id="264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274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5092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7352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5092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0092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295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89040" y="435348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304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130320" y="5867280"/>
            <a:ext cx="6123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FCB-B739-4EC9-B06E-8E4DB0DA99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3E4-0173-4358-A25D-34A3E7FD06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EE2-3255-4583-9E88-48097C0739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DB9-7F9B-4288-8814-0BC4B7F411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334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1820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357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373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378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282480" y="328680"/>
            <a:ext cx="5878080" cy="2971800"/>
            <a:chOff x="3282480" y="328680"/>
            <a:chExt cx="5878080" cy="2971800"/>
          </a:xfrm>
        </p:grpSpPr>
        <p:sp>
          <p:nvSpPr>
            <p:cNvPr id="387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397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418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82480" y="187632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427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564-9237-44D7-8435-762FCC44D34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115-5E1D-4125-931A-08855243968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a file of size B with memory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e need th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BY in SQL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physic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discuss only 2-pass sorting, for when B &lt;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59A-7C2B-492A-ADCB-2A1DF171C58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Algebra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495-9C57-4D42-8032-1505F028F8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: Step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ne: load M bytes in memory,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5181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812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61160" y="30304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22480" y="34196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22480" y="44197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76320" y="30654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77080" y="35053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91480" y="37861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711520" y="28195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57880" y="486252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48960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2160" y="31878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59080" y="31878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911160" y="4483440"/>
            <a:ext cx="1530000" cy="367200"/>
            <a:chOff x="911160" y="4483440"/>
            <a:chExt cx="1530000" cy="367200"/>
          </a:xfrm>
        </p:grpSpPr>
        <p:sp>
          <p:nvSpPr>
            <p:cNvPr id="463" name=""/>
            <p:cNvSpPr/>
            <p:nvPr/>
          </p:nvSpPr>
          <p:spPr>
            <a:xfrm>
              <a:off x="993600" y="44834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11160" y="44834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6697440" y="4416840"/>
            <a:ext cx="1536120" cy="348480"/>
            <a:chOff x="6697440" y="4416840"/>
            <a:chExt cx="1536120" cy="348480"/>
          </a:xfrm>
        </p:grpSpPr>
        <p:sp>
          <p:nvSpPr>
            <p:cNvPr id="466" name=""/>
            <p:cNvSpPr/>
            <p:nvPr/>
          </p:nvSpPr>
          <p:spPr>
            <a:xfrm>
              <a:off x="6780240" y="44168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97440" y="44168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6784920" y="31878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151840" y="31878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3463920"/>
            <a:ext cx="100188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867280" y="4017600"/>
            <a:ext cx="917640" cy="2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22480" y="36972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3603600"/>
            <a:ext cx="822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91480" y="43401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75800" y="360504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76720" y="2971800"/>
            <a:ext cx="2590560" cy="205740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4952880"/>
            <a:ext cx="32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50600" y="5792400"/>
            <a:ext cx="4329360" cy="627480"/>
          </a:xfrm>
          <a:prstGeom prst="wedgeRoundRectCallout">
            <a:avLst>
              <a:gd name="adj1" fmla="val 27481"/>
              <a:gd name="adj2" fmla="val -15400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s of length M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894-DA65-41B0-9DCA-0BDF7FE9128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: Step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 – 1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57880" y="531972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95280" y="53532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495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498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4060800"/>
            <a:ext cx="822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75800" y="406224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82120" y="4956480"/>
            <a:ext cx="1172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26640" y="6018840"/>
            <a:ext cx="49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B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n we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95480" y="5410080"/>
            <a:ext cx="32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403-913F-49D7-BA07-24B7B0CB5A9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+write+read = 3B(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7A8-EFC2-4A84-A25D-27C06CAC2DE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do a two step merge sort, but change one of the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n class: which step needs to be changed and how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7AE-8F51-4601-B255-50225E39D79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ECE-2CEF-4F59-BA54-30CFC641F7C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a: initial runs for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b: initial runs for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merge and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4E6-3F35-4134-8464-B7ED373160D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4370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124080" y="4370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37480" y="2219400"/>
            <a:ext cx="1393560" cy="25380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98440" y="2608200"/>
            <a:ext cx="109872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98440" y="3608280"/>
            <a:ext cx="112896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52640" y="2254320"/>
            <a:ext cx="1387440" cy="26496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441972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953400" y="2693880"/>
            <a:ext cx="1118880" cy="15732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67440" y="2975040"/>
            <a:ext cx="112104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87480" y="2008080"/>
            <a:ext cx="3625920" cy="279252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34200" y="405144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71600" y="408456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68480" y="2376360"/>
            <a:ext cx="0" cy="14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5400" y="2376360"/>
            <a:ext cx="0" cy="14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987480" y="3672360"/>
            <a:ext cx="1530000" cy="367200"/>
            <a:chOff x="987480" y="3672360"/>
            <a:chExt cx="1530000" cy="367200"/>
          </a:xfrm>
        </p:grpSpPr>
        <p:sp>
          <p:nvSpPr>
            <p:cNvPr id="547" name=""/>
            <p:cNvSpPr/>
            <p:nvPr/>
          </p:nvSpPr>
          <p:spPr>
            <a:xfrm>
              <a:off x="1069920" y="367236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87480" y="367236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773760" y="3605400"/>
            <a:ext cx="1536120" cy="348480"/>
            <a:chOff x="6773760" y="3605400"/>
            <a:chExt cx="1536120" cy="348480"/>
          </a:xfrm>
        </p:grpSpPr>
        <p:sp>
          <p:nvSpPr>
            <p:cNvPr id="550" name=""/>
            <p:cNvSpPr/>
            <p:nvPr/>
          </p:nvSpPr>
          <p:spPr>
            <a:xfrm>
              <a:off x="6856560" y="360540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73760" y="360540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6861240" y="2376360"/>
            <a:ext cx="0" cy="13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28160" y="2376360"/>
            <a:ext cx="0" cy="13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274840" y="246852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74840" y="302256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27720" y="2652840"/>
            <a:ext cx="64260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527720" y="3300120"/>
            <a:ext cx="64260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216480" y="3206880"/>
            <a:ext cx="644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98440" y="2886120"/>
            <a:ext cx="109872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55840" y="366876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27720" y="3022560"/>
            <a:ext cx="64260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86600" y="2792520"/>
            <a:ext cx="8222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67440" y="3529080"/>
            <a:ext cx="112104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52120" y="279396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58440" y="3803760"/>
            <a:ext cx="1172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163960"/>
            <a:ext cx="144792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52680" y="2849760"/>
            <a:ext cx="144792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643200" y="3192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01640" y="292608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9880" y="5236920"/>
            <a:ext cx="49492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B(R)/M runs for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B(S)/M runs for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B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n we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A5F-40BB-4903-8F2F-AA0A7CB1398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6B0-B049-4352-AA02-62B1E5F8690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ternal Joi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Nested Loop: B(S) + B(R)*B(S)/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Join: B(R) + T(R)B(S)/V(S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ed Hash: 3B(R)+3B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B(R),B(S)) 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Join: 3B(R)+3B(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+B(S) 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B31-EBCD-4C75-A235-22D412372EC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8028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07560" y="548640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8556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92880" y="40384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92880" y="30481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2880" y="1905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(city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18440" y="623628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, T2, T3  = temporary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373-9D55-4A59-B713-C54093FA0A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195840" y="1295280"/>
            <a:ext cx="463536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P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78400" y="27972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65880" y="27972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7000" y="278136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95760" y="4794120"/>
            <a:ext cx="349200" cy="123840"/>
            <a:chOff x="5495760" y="4794120"/>
            <a:chExt cx="349200" cy="123840"/>
          </a:xfrm>
        </p:grpSpPr>
        <p:sp>
          <p:nvSpPr>
            <p:cNvPr id="89" name=""/>
            <p:cNvSpPr/>
            <p:nvPr/>
          </p:nvSpPr>
          <p:spPr>
            <a:xfrm>
              <a:off x="549576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4352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900680" y="530532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16520" y="530532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72160" y="408132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72160" y="315432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7520" y="379404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3560" y="3807000"/>
            <a:ext cx="75960" cy="14580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1240" y="574524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27560" y="57294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26400" y="49989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7200" y="377496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3200" y="377496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2040" y="2865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9440" y="371484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27760" y="270828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8520" y="347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1720" y="1425600"/>
            <a:ext cx="36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ph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D2E-0D9B-409E-A4A0-887174AC73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195840" y="1295280"/>
            <a:ext cx="463536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00400"/>
            <a:ext cx="329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ery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choice at every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05080" y="1447920"/>
            <a:ext cx="5038920" cy="3802320"/>
            <a:chOff x="4105080" y="1447920"/>
            <a:chExt cx="5038920" cy="3802320"/>
          </a:xfrm>
        </p:grpSpPr>
        <p:sp>
          <p:nvSpPr>
            <p:cNvPr id="113" name=""/>
            <p:cNvSpPr/>
            <p:nvPr/>
          </p:nvSpPr>
          <p:spPr>
            <a:xfrm>
              <a:off x="5421240" y="153684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08360" y="153684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79840" y="1521000"/>
              <a:ext cx="174600" cy="180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538600" y="3534120"/>
              <a:ext cx="349200" cy="123840"/>
              <a:chOff x="5538600" y="3534120"/>
              <a:chExt cx="349200" cy="123840"/>
            </a:xfrm>
          </p:grpSpPr>
          <p:sp>
            <p:nvSpPr>
              <p:cNvPr id="117" name=""/>
              <p:cNvSpPr/>
              <p:nvPr/>
            </p:nvSpPr>
            <p:spPr>
              <a:xfrm>
                <a:off x="553860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8636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77"/>
                    </a:moveTo>
                    <a:lnTo>
                      <a:pt x="219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943160" y="404532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59360" y="4045320"/>
              <a:ext cx="68400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15000" y="2821320"/>
              <a:ext cx="1440" cy="56016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189432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70360" y="253404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56040" y="2546640"/>
              <a:ext cx="7632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484880"/>
              <a:ext cx="1160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urch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0400" y="4469040"/>
              <a:ext cx="9194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69240" y="3738960"/>
              <a:ext cx="1257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=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59680" y="2514960"/>
              <a:ext cx="1291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ty=‘seattle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56040" y="2514960"/>
              <a:ext cx="171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ne&gt;’5430000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74520" y="160524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15000" y="373896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02280" y="24544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0600" y="144792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11360" y="22100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0508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1020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14600" y="548640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me operators are from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ebra, and others (e.g., sc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39C-4DCF-4FA2-B0DF-52CFBC8A56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Company(cname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 three physical operators for the join, assuming the tables are in main mem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55F-F01D-4A7B-A0F8-E41853F861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 Company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000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time do the following physical operators take if the data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main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sted loop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rt and merge = merge-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931D-07CF-44EF-B426-17E2796AB1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suciu</cp:lastModifiedBy>
  <dcterms:modified xsi:type="dcterms:W3CDTF">2006-11-20T02:13:24Z</dcterms:modified>
  <cp:revision>350</cp:revision>
  <dc:subject/>
  <dc:title>Lecture 09:</dc:title>
</cp:coreProperties>
</file>