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40C1-88A0-4C53-A9C1-A704DADD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2B92-DA60-474F-B40D-DCF33F5E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A49-A76F-4798-A444-EA4C93AC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52E-DB2C-4409-8E24-43D83421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0325-42AA-4C43-A07C-C29D4B0E7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710D-463F-4CA6-B8B7-1BB2AC62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AB8F-EBA8-456D-99A6-A1290CFF2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means: read the City-index and find the entries for Seattle.  Each such entry consists of a key, the ‘buyer’ key.  For each of them go to Purchase and use the primary index to retrieve the purc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F3F-7DC1-470C-B6B9-EE9DC4C1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015-D32E-4432-A226-50CA3D07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140-5FDA-468C-A396-F71002DD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48F-9D20-4C41-B88D-9CF88FC2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D54-0A80-47C1-842B-DB4BE90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DBC-B2A8-46DD-A1A3-2B8717C2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5B7-C349-4388-82E2-F2ED4FCE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E6A-658B-4843-8366-02027366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7F2-35D0-4ED3-AF1C-77FC43D6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9BC-5C71-435E-A3DD-6C0238A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E1F-4C8E-447C-AB62-77C7417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94B-1B22-4DC7-BCFF-A735FA4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DAE-5522-4BD8-83CD-6F1A70D2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: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7A6-EB66-4769-8192-5242C15E2C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0F7-7C23-4D6C-8BB7-775095951A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69F-5A8A-4D80-9FBB-7B4254E3F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A64-57FC-481D-AD4F-FC71A4FE8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5AD-3FEF-4DE3-9390-FDCEA0705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657-CBC2-45CC-844E-EDCADCF3D2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EB0-28FA-410A-AD85-EE10FA895B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1A2-115E-49D9-8358-EBD59B09E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2520" y="4191120"/>
            <a:ext cx="7674480" cy="782280"/>
            <a:chOff x="542520" y="4191120"/>
            <a:chExt cx="7674480" cy="782280"/>
          </a:xfrm>
        </p:grpSpPr>
        <p:sp>
          <p:nvSpPr>
            <p:cNvPr id="179" name=""/>
            <p:cNvSpPr/>
            <p:nvPr/>
          </p:nvSpPr>
          <p:spPr>
            <a:xfrm>
              <a:off x="54252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848240" y="4247640"/>
              <a:ext cx="193680" cy="3852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492-242A-4632-A7CE-B654B285B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355-D048-4ED4-B350-5C3BE05556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2DD-A916-4666-934B-F7F152654F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B9B-511B-480B-A4A8-E787EA7B9C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12D-7EFB-453A-B4BC-B0066D40C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C68-61DF-4C33-A4DE-46260FFA9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BCB-2CA0-4000-B23B-95F79BAE4D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6"/>
            <a:endCxn id="199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5680" y="4884840"/>
            <a:ext cx="73537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94560" y="6216480"/>
            <a:ext cx="40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24B-1597-427C-8235-CB1F311F0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17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20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23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9B6-72A9-479A-A4FC-4F29CCFC2E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421-84B4-4826-9D62-D5EB149BE4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057400" y="2590920"/>
          <a:ext cx="4876920" cy="18255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713-1D83-493A-A77A-D05EF6E2CF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SQL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582480" y="298944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30880" y="21463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18360" y="21463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9840" y="21304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48600" y="4143240"/>
            <a:ext cx="349200" cy="123840"/>
            <a:chOff x="7248600" y="4143240"/>
            <a:chExt cx="349200" cy="123840"/>
          </a:xfrm>
        </p:grpSpPr>
        <p:sp>
          <p:nvSpPr>
            <p:cNvPr id="249" name=""/>
            <p:cNvSpPr/>
            <p:nvPr/>
          </p:nvSpPr>
          <p:spPr>
            <a:xfrm>
              <a:off x="72486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963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86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86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6531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93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246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24640" y="250344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160" y="509436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81480" y="507852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803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1840" y="312408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99000" y="3352680"/>
            <a:ext cx="175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 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4880" y="22147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2280" y="3063960"/>
            <a:ext cx="1839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21000" y="2717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680" y="137160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A9C-CB96-4F35-83DC-F5C1125B83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08920" y="27511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96040" y="27511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7520" y="27352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272" name=""/>
            <p:cNvSpPr/>
            <p:nvPr/>
          </p:nvSpPr>
          <p:spPr>
            <a:xfrm>
              <a:off x="69660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37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3705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867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20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12560" y="60642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9888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240" y="54864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3680" y="542592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400" y="50799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764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2576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5638680"/>
            <a:ext cx="1440" cy="513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556272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E7A-C938-4C06-A13E-E4B707D7CF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monontone Queries (in cla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820520" y="2549520"/>
            <a:ext cx="12377160" cy="39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exists (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2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2.product =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P2.buyer = Q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Q.age &gt;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72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C88-B3B2-4A4D-9BFA-45F4A7E8F4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4" idx="3"/>
            <a:endCxn id="55" idx="1"/>
          </p:cNvCxnSpPr>
          <p:nvPr/>
        </p:nvCxnSpPr>
        <p:spPr>
          <a:xfrm>
            <a:off x="2604960" y="501768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3"/>
            <a:endCxn id="56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569-A0B1-46F1-A446-3892EF445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ed Logical Algebra Oper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perate on Bags, not Se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5A4-DED2-4C74-A5B0-BEDD53F87A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0CF-7878-469B-8D87-EF04537031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v.s. Physic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een the logical algebr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basic operators, plus group-by, plus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ysical algebra refines each operator into a concret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75D-BA87-4E6C-BF3B-89CE428832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27511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96040" y="27511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67520" y="27352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19" name=""/>
            <p:cNvSpPr/>
            <p:nvPr/>
          </p:nvSpPr>
          <p:spPr>
            <a:xfrm>
              <a:off x="69660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37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3705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867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420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60480" y="601992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9376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0800" y="544212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8560" y="54259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9960" y="5035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252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2100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559440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556272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4240" y="3886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13360" y="5257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6120" y="990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175248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89920" y="1066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ash-based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up. e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B35-0B21-47AD-AB6F-D1B41F29E4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s Can Be Sub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153720" y="2209680"/>
            <a:ext cx="5549760" cy="15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746680" y="3838680"/>
            <a:ext cx="349200" cy="123840"/>
            <a:chOff x="5746680" y="3838680"/>
            <a:chExt cx="349200" cy="123840"/>
          </a:xfrm>
        </p:grpSpPr>
        <p:sp>
          <p:nvSpPr>
            <p:cNvPr id="347" name=""/>
            <p:cNvSpPr/>
            <p:nvPr/>
          </p:nvSpPr>
          <p:spPr>
            <a:xfrm>
              <a:off x="5746680" y="383868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440" y="383868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6680" y="383868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46680" y="383868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151600" y="4349880"/>
            <a:ext cx="66960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7440" y="4349880"/>
            <a:ext cx="866880" cy="151740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46120" y="57150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75160" y="5743440"/>
            <a:ext cx="1472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y-inde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4043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3920" y="51372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9240" y="512136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1680" y="47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525780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6200" y="3581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rimary-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940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279720" y="59850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join come fr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D55-1ACA-4C8B-87E6-592F38FC70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6D8-FCDC-45E8-8E22-53D073D5B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DA0-056A-4CB8-8258-9CA380AA1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7CA-3672-4060-B506-5A257D787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E17-FBA7-4B97-82F3-F7C01601B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820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488-5875-4D38-B84D-C3BC293B4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52D-941D-4B14-B538-B37C1D06C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suciu</cp:lastModifiedBy>
  <dcterms:modified xsi:type="dcterms:W3CDTF">2006-11-17T06:11:25Z</dcterms:modified>
  <cp:revision>50</cp:revision>
  <dc:subject/>
  <dc:title>Relational Algebra</dc:title>
</cp:coreProperties>
</file>