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3BF-D3DC-4303-9E4D-5732E28D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B544-280B-4AFA-A831-7CEC80A22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F5D-3587-47D4-9E78-42FC082EF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0F62-4A98-4C91-94F4-D91C1C6A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E1D-3BEE-4F84-AB9B-04A326DD4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EEBC-1542-47C4-B883-71872A4EE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E61A-09CB-4AE3-9BD3-A68F846B8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13E-0340-4D41-9DAD-3C1C13DF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032-0DBD-4D7C-8490-18B2ACC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E52-3332-41F9-830E-510FF536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2B2-1586-4370-904F-4080FFCE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F58-D892-435C-81B3-18293A07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58C-DCEA-4039-9050-32415ACA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8DC-16D8-41F8-B104-C3E8FA7F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435-E53A-4B72-8046-EB184565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996-AE6D-48A6-85B1-7AD73F62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E82-FD96-486C-BC68-2004161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2C1-2F0E-42CF-80F1-961E85D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87A-B1D4-4730-ACCC-AA7545A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71BC-A1BE-4511-922D-16859483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942-CDDD-4AF7-947F-9A86AE0AE9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nning Records Across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cords are ver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medium size: saves space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4290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3429000"/>
            <a:ext cx="3505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4290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3429000"/>
            <a:ext cx="3812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7000" y="2705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1320" y="2743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14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7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4868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168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4724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4864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4320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486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DED-2F3B-446A-B7AE-4145101D44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F5B-0CF7-4A59-A42B-71D478E8C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(he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(e.g. by p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B97-652D-4BFB-AD6D-F325B10A76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DE0-669E-477C-86B5-337FBF66A3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FD8-ED79-4001-999E-8DF721B94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8560" y="5942880"/>
            <a:ext cx="587088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record in a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429-B333-4CD3-A84F-AF16B3B03F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A75-FD79-4259-96A0-28CF10A960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pointer to a record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block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ffset in the block’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1480" y="6019200"/>
            <a:ext cx="451116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view what a pointer in C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16640" y="145080"/>
            <a:ext cx="2567160" cy="1692360"/>
          </a:xfrm>
          <a:prstGeom prst="wedgeEllipseCallout">
            <a:avLst>
              <a:gd name="adj1" fmla="val -74337"/>
              <a:gd name="adj2" fmla="val 1161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C93-DA68-4903-9F79-06488D8AB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1DA-296A-4FA2-AA90-82395D8A8C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336-0C7F-46D7-B3FF-AB8A4B1F0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192-087C-4216-BDC5-3D566C8DD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A35-86B8-4934-BBF7-432D4F84B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4D8-42EE-49F0-A2C9-0C19080581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CE2-03A2-47D3-8893-99D61C08C6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6520" y="4605480"/>
            <a:ext cx="183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48440" y="4681440"/>
            <a:ext cx="21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BC1-57D6-4453-98AF-73EA72CCA9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8FC-DE95-49E2-8815-06974AFEE9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9CD-7430-49EA-A2A7-E8E7B38171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6344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230-CF5C-4155-A940-997DF4A307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CD4-45E8-435F-85A1-DBF44AE4F9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 and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k = a sequence of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= a subsequence of blocks, usually cont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tables/records/indexes in files/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5E4-14F4-4B52-85BC-0CA9FD9DD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EA0-FEE8-4790-ADD7-13A3D998E3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938-4FAA-416C-BDC7-8921E63F41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780-C826-4783-8181-94C2C400C3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484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040-2820-46D4-8428-A2740BE1A7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667-7B7A-4BE1-9D97-F92F4A1D84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6852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204-E968-47B8-89EE-81A53D74F3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80F-2484-4F9A-8D5A-75C69A8838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816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73D-96AF-4DC6-8AB3-D0E703E8F9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996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0CA-474A-4E99-A30B-9E452DFA4A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ble is a sequence of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4880" y="251460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5EF-15D7-4672-AB82-071F9EBD8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68D-F6DA-4BA4-85E3-40428D8467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057-CB83-474D-93A1-0200BE8F6C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8B4-7CAB-4D5E-A935-37636A2C59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EEC-613F-46CF-8366-1C4D084053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678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7DE-5FBA-4F23-AADC-DEDA4F6A75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888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ACA-88D6-4338-8CE9-DDC0131A22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dex structure on most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effective at answering ‘point’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productName = ‘gizmo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for range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AND price &lt;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effective for multiran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&lt; 100  AND 2 &lt; quant &l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EF7-39A9-4C08-BC96-D9D45C2B31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ttributes inside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records inside the bl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3DE-EA64-4043-81D9-3C6F8651B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64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4800" y="3863880"/>
            <a:ext cx="311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668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564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99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8160" y="3862440"/>
            <a:ext cx="329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70F-29D8-4C40-B4EE-9B30B5381F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84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348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208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028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012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16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668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564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99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04A-3029-439E-9597-A20C47076E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13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880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2,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44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895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8954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15" idx="3"/>
          </p:cNvCxnSpPr>
          <p:nvPr/>
        </p:nvCxnSpPr>
        <p:spPr>
          <a:xfrm flipH="1" flipV="1" rot="5400000">
            <a:off x="3969000" y="612360"/>
            <a:ext cx="65520" cy="4631040"/>
          </a:xfrm>
          <a:prstGeom prst="bentConnector4">
            <a:avLst>
              <a:gd name="adj1" fmla="val -830939"/>
              <a:gd name="adj2" fmla="val 10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endCxn id="114" idx="3"/>
          </p:cNvCxnSpPr>
          <p:nvPr/>
        </p:nvCxnSpPr>
        <p:spPr>
          <a:xfrm flipV="1">
            <a:off x="1424160" y="2895120"/>
            <a:ext cx="3142080" cy="65520"/>
          </a:xfrm>
          <a:prstGeom prst="bentConnector5">
            <a:avLst>
              <a:gd name="adj1" fmla="val 550"/>
              <a:gd name="adj2" fmla="val -1517679"/>
              <a:gd name="adj3" fmla="val 995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05668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564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99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425-995F-4B13-B0A4-1E05AD00DA4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 – 8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D8F-5B5D-4DF5-9A15-19809A8AF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1-15T04:54:55Z</dcterms:modified>
  <cp:revision>309</cp:revision>
  <dc:subject/>
  <dc:title>Lecture 09:</dc:title>
</cp:coreProperties>
</file>