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E09-DAF5-48C6-B6D8-393E9FC41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stamp of U is given by WT(X) or by RT(X)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5EF-DC0F-4F93-B23F-44958B84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17A-1FA4-4AE2-8D89-A78BA7FD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871-59D1-4B26-A44C-5216FB33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B9C-A1C9-4949-BCA4-7231AFE6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B0F-51EA-4650-A024-926A75D1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F5C-0618-4F39-8DFA-86C0C976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2A1-64CC-4BFC-86FD-F21655EA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092-EA71-4A0C-AC69-CC547359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C78-9E0C-48F4-8EAE-DE4831F6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D89-92D4-4466-8370-1ED40574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C54-819E-42FB-BC4C-3711AC2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A8C-01BF-498D-80ED-629477D5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6556-157D-484D-8506-79B238469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s 17 and 1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-Wednesda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6-8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A5F-CF65-477F-977F-78581C2C0E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90920" y="2057400"/>
          <a:ext cx="4038480" cy="4498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32C-BD3F-47BC-A7F0-B45CBA8D36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5EA-CB66-490D-929D-F78D1EB6F0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057400" y="1676520"/>
          <a:ext cx="5638680" cy="449892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23920" y="617220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6C9-AF06-4BAC-B9B9-C230499E63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362320" y="1825560"/>
          <a:ext cx="4724280" cy="4498920"/>
        </p:xfrm>
        <a:graphic>
          <a:graphicData uri="http://schemas.openxmlformats.org/drawingml/2006/table">
            <a:tbl>
              <a:tblPr/>
              <a:tblGrid>
                <a:gridCol w="2362320"/>
                <a:gridCol w="236196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9F6-2456-45A6-9DAD-C16905F854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ansactions’ actions may commute accidentally because of specific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is undecida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shouldn’t look at the transactions’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orst case updates, only care about reads r(A) and writes w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815-32B1-44FB-96F0-62F5260E56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2160" y="2763720"/>
            <a:ext cx="6134400" cy="132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578-1F7F-4895-A9A6-556158613D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9810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2000" y="2867040"/>
            <a:ext cx="2087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0480" y="2773440"/>
            <a:ext cx="60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ctions by same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2000" y="4152960"/>
            <a:ext cx="22460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4440" y="4068720"/>
            <a:ext cx="622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rites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42000" y="5295960"/>
            <a:ext cx="2087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800" y="5288040"/>
            <a:ext cx="6165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write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2000" y="5981760"/>
            <a:ext cx="2087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92B-8BB4-4E47-BD62-E3CC4CA6ED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formed into a serial schedule by a series of swappings of adjacent non-conflict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1920" y="386712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6080" y="598176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6080" y="461016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190-6A1C-472D-BB89-5F092B386E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nflict serializable schedule is also a serializable schedule 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true, even under the “worst case update”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01200" y="6134040"/>
            <a:ext cx="6038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25240" y="4915080"/>
            <a:ext cx="6038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5638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038480" y="57146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90600" y="3563640"/>
            <a:ext cx="1148400" cy="1172520"/>
          </a:xfrm>
          <a:prstGeom prst="wedgeEllipseCallout">
            <a:avLst>
              <a:gd name="adj1" fmla="val -161750"/>
              <a:gd name="adj2" fmla="val 72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5883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’t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0EB-4CE2-47BE-9A88-BB888F2C11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cedence Graph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chedule conflict-serializ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graph of all transaction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n action that conflicts with one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m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: if the graph has no cycles, then it is conflict serializ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578-ED49-4AC1-91E3-8B2DF286DA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and Serializable Schedules (1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 (1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(1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ock modes (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protocol (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timestamps 1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validation 18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721-B770-4B1F-B215-373A0BB6CF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6080" y="2708280"/>
            <a:ext cx="8774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6"/>
            <a:endCxn id="111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1" idx="6"/>
            <a:endCxn id="112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896840" y="563868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060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7760" y="418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9BA-E73E-4AFA-AFDC-7B9A1AA557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080" y="270504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0" idx="6"/>
            <a:endCxn id="121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1" idx="6"/>
            <a:endCxn id="122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897920" y="56386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NOT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1" idx="1"/>
            <a:endCxn id="120" idx="7"/>
          </p:cNvCxnSpPr>
          <p:nvPr/>
        </p:nvCxnSpPr>
        <p:spPr>
          <a:xfrm rot="5400000">
            <a:off x="3198960" y="3886920"/>
            <a:ext cx="2160" cy="1353600"/>
          </a:xfrm>
          <a:prstGeom prst="curvedConnector5">
            <a:avLst>
              <a:gd name="adj1" fmla="val -18600000"/>
              <a:gd name="adj2" fmla="val 49986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4736160" y="4206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7200" y="457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02120" y="383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96A-5159-488A-93AA-E78FBDD9A6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the module that schedules the transaction’s actions, ensuring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?  Three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CDE-614E-4AE7-8229-10911E4CED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uniqu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must first acquire the lock before reading/writing tha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ock is taken by another transaction, then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ust release the lock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264-593A-4D97-80F5-3829E121CB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7080" y="2895480"/>
            <a:ext cx="81770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FCB-7D91-4104-B5FB-FBB7646F50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447920"/>
          <a:ext cx="8458200" cy="484488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22720" y="62485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has ensured a conflict-serializabl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7BC-5791-42C1-9A96-6BAC64A506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62120" y="1523880"/>
          <a:ext cx="7696080" cy="44989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4640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did not enforce conflict-serializability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E59-E05E-4317-944D-05CE4BF911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hase Locking (2P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PL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very transaction, all lock requests must preceed all un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conflict serializability !  (wh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481-D728-4F17-B3A6-CB88445DC3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2PL transact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371600"/>
          <a:ext cx="8153640" cy="484488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298800" y="60958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377-A0BC-46EB-AD42-19BDA8B94F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voided, by ordering all elements (see book); or deadlock detection plus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946-9122-4B6C-B621-913CA4B456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actions are running concurr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ad/write some common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prevent unwanted inter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responsible for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568-F1E6-49D1-909B-C379C89696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hared lock (for 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exclusive lock (for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upda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ik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may be upgraded to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crement lock (for A := A + some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18.4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5AC-4438-426E-A3D6-AC68C86CA9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s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k/unlock requests to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all READ(A) or WRITE(A)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ppropriate 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2P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608-DBEC-45DA-9EA0-687C8022BA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the locks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able: a big, critical data structure in a DBM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quested, check the lock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, or add the transaction to the element’s wai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leased, re-activate a transaction from its wai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transaction aborts, release all its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deadlock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555-08AC-4D76-8987-D956746B70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1B2-8A95-4498-A834-32450DE4CC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can be unlocked in any order (no 2PL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A70-ED27-4865-88AE-B23ADAE135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receives a unique timestam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’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counter, incremented by th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C4A-0636-4B82-A909-D1E261035B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8160" y="4038480"/>
            <a:ext cx="6953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stamp order de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rialization order of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89640" y="2590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nvari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05E-B1E3-4C11-A7C2-F206B623D3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o each element 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(X) = the highest timestamp of any transaction that rea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= the highest timestamp of any transaction that wrot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X) = the commit bit: says if the transaction with highest timestamp that wrote X com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35800" y="60958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ssociated to each page X in the buffer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34F-56A4-4E97-B8A0-86A47C4F2F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two conflicting actions, ensure that their order is the serialized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S(U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2240" y="5638680"/>
            <a:ext cx="732384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 wants to read X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how do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U, and TS(U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79720" y="2344320"/>
            <a:ext cx="1809000" cy="1172520"/>
          </a:xfrm>
          <a:prstGeom prst="wedgeEllipseCallout">
            <a:avLst>
              <a:gd name="adj1" fmla="val -145541"/>
              <a:gd name="adj2" fmla="val 3179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72840" y="3106440"/>
            <a:ext cx="1908720" cy="1172520"/>
          </a:xfrm>
          <a:prstGeom prst="wedgeEllipseCallout">
            <a:avLst>
              <a:gd name="adj1" fmla="val -205458"/>
              <a:gd name="adj2" fmla="val 20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12160" y="4325400"/>
            <a:ext cx="2339280" cy="1172520"/>
          </a:xfrm>
          <a:prstGeom prst="wedgeEllipseCallout">
            <a:avLst>
              <a:gd name="adj1" fmla="val -139597"/>
              <a:gd name="adj2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94A-7AC5-4BD8-9D58-B23674EC757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TS(T) &lt; W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1520" y="3886200"/>
            <a:ext cx="76518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2920" y="57913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FF1-999B-4DA9-BEC5-E651D57A188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if we didn’t have concurrency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t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120" y="5791320"/>
            <a:ext cx="77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Many other things may go wrong, but have n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046-7449-4773-B72D-FF5D31645B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&lt; TS(T) &lt; R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1880" y="3886200"/>
            <a:ext cx="765144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86960" y="495288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1920" y="601992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check WT(X) &lt; TS(T) 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898-6285-4D8E-81F1-36355F2E37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, but we can still handl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 &lt; RT(X)  but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1880" y="3886200"/>
            <a:ext cx="78102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V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88040" y="5334120"/>
            <a:ext cx="36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rite X at al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ut see later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806-5A3D-4786-836A-E4D72105F98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WT(X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8600" y="4191120"/>
            <a:ext cx="87426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U) … START(T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. . .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8640" y="571500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879-81DE-4572-84D9-BF7FD4B4E8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 not to write at all, bu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320" y="4191120"/>
            <a:ext cx="87915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T) … START(U)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. . .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8640" y="586728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7CB-AC3E-4209-ACBD-EAAF2674B77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T requests r(X) or w(X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examines RT(X), WT(X), C(X), and decides on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rant the request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ollback T (and restart with later timest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lay T until C(X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712-7202-4CD6-96BC-2B5A70BE39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4 long rules in the textbook, on page 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understand them, or even derive them yourself, based on the previous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understand the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60880" y="6019920"/>
            <a:ext cx="522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: 18.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F0E-3EB3-467D-B9D7-54D8F64C331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ersion Timest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action T requests r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T(X) &gt; TS(T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 must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keep multiple versions of 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 read an older version, with appropriate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09760" y="4267080"/>
            <a:ext cx="569916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942-4E11-4D75-852B-19F8935A4A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 create a new version, denoted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t = T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, find a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 &lt; TS(T) and t is the largest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T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t and it never ch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maintained, to reject certain writes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n we delet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we have a later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ll active transactions T have TS(T) &gt;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363-F088-40E2-919D-5E18D031780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when there are many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when there are few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when there are many conflicts (rollbac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when there are few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ONLY transac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/WRITE transac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82C-5554-4E67-B18D-21287AB84CC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 by 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T defines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d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S(T) and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ite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proceeds in three ph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all elements in RS(T).  Time = START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te (may need to rollback).  Time = VAL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ll elements in WS(T). Time = FIN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9440" y="5562720"/>
            <a:ext cx="7168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nvariant: the serialization order is VAL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B24-794B-4C5E-B35A-BEB23702462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3080" y="3086280"/>
            <a:ext cx="3143520" cy="23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B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93120" y="3162240"/>
            <a:ext cx="28278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FDE-E3BC-4CCE-80DC-B82E22EA9A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5800" y="2819520"/>
          <a:ext cx="632448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612360" y="1981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996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964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2"/>
          </p:cNvCxnSpPr>
          <p:nvPr/>
        </p:nvCxnSpPr>
        <p:spPr>
          <a:xfrm flipH="1">
            <a:off x="1390320" y="2437920"/>
            <a:ext cx="7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4" idx="2"/>
          </p:cNvCxnSpPr>
          <p:nvPr/>
        </p:nvCxnSpPr>
        <p:spPr>
          <a:xfrm>
            <a:off x="4884480" y="236232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5" idx="2"/>
          </p:cNvCxnSpPr>
          <p:nvPr/>
        </p:nvCxnSpPr>
        <p:spPr>
          <a:xfrm flipH="1">
            <a:off x="7009560" y="236232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19" name=""/>
          <p:cNvGraphicFramePr/>
          <p:nvPr/>
        </p:nvGraphicFramePr>
        <p:xfrm>
          <a:off x="3524400" y="3733920"/>
          <a:ext cx="45529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34502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20" idx="0"/>
          </p:cNvCxnSpPr>
          <p:nvPr/>
        </p:nvCxnSpPr>
        <p:spPr>
          <a:xfrm flipV="1">
            <a:off x="42177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533160" y="5181480"/>
            <a:ext cx="773208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START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beg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/>
          <p:nvPr/>
        </p:nvCxnSpPr>
        <p:spPr>
          <a:xfrm flipH="1">
            <a:off x="5190840" y="3336480"/>
            <a:ext cx="7912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587088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8FD-C8F3-4734-8BE5-35A96373E45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2971800"/>
          <a:ext cx="6324480" cy="51768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155160" y="2133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12760" y="20574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2244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7" idx="2"/>
          </p:cNvCxnSpPr>
          <p:nvPr/>
        </p:nvCxnSpPr>
        <p:spPr>
          <a:xfrm flipH="1">
            <a:off x="933120" y="2590920"/>
            <a:ext cx="720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8" idx="2"/>
          </p:cNvCxnSpPr>
          <p:nvPr/>
        </p:nvCxnSpPr>
        <p:spPr>
          <a:xfrm>
            <a:off x="4427280" y="251460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2"/>
          </p:cNvCxnSpPr>
          <p:nvPr/>
        </p:nvCxnSpPr>
        <p:spPr>
          <a:xfrm flipH="1">
            <a:off x="6552360" y="251460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33" name=""/>
          <p:cNvGraphicFramePr/>
          <p:nvPr/>
        </p:nvGraphicFramePr>
        <p:xfrm>
          <a:off x="1600200" y="3733920"/>
          <a:ext cx="67057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923840"/>
                <a:gridCol w="2152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5260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83960" y="4800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4" idx="0"/>
          </p:cNvCxnSpPr>
          <p:nvPr/>
        </p:nvCxnSpPr>
        <p:spPr>
          <a:xfrm flipV="1">
            <a:off x="22935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0"/>
          </p:cNvCxnSpPr>
          <p:nvPr/>
        </p:nvCxnSpPr>
        <p:spPr>
          <a:xfrm flipH="1" flipV="1">
            <a:off x="6152400" y="4250880"/>
            <a:ext cx="291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530640" y="5283360"/>
            <a:ext cx="807336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W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VAL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valid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792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/>
          <p:nvPr/>
        </p:nvCxnSpPr>
        <p:spPr>
          <a:xfrm>
            <a:off x="5524560" y="3489120"/>
            <a:ext cx="1705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748-E0FA-4A0D-B22C-26A47060660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nd timestamps: SQL Server, 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6520" y="51055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E21-ED83-4DB7-B54B-5AA60838666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60280" y="2514600"/>
            <a:ext cx="3029040" cy="34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+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5960" y="2590920"/>
            <a:ext cx="3041280" cy="35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*1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558-B2DC-4253-9783-F32D9B7EB6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6560" y="2367000"/>
            <a:ext cx="4204080" cy="29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 := 20;  B := 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B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69800" y="2362320"/>
            <a:ext cx="304272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B)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2C0-DC76-4463-A6B4-8DB289EA40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ultipl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interleaved actions from al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62F-C96F-41EA-9505-118AFBCEF2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133720" y="2057400"/>
          <a:ext cx="4647960" cy="3622680"/>
        </p:xfrm>
        <a:graphic>
          <a:graphicData uri="http://schemas.openxmlformats.org/drawingml/2006/table">
            <a:tbl>
              <a:tblPr/>
              <a:tblGrid>
                <a:gridCol w="2324160"/>
                <a:gridCol w="2323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CA2-B7E5-4EAE-B254-81F2398DFC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11-06T04:03:46Z</dcterms:modified>
  <cp:revision>371</cp:revision>
  <dc:subject/>
  <dc:title>Lecture 09:</dc:title>
</cp:coreProperties>
</file>