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B8EBE-D42B-463B-A104-45351A627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we UNDO the changes, writing back A=8, and B=8.  The transaction is atomic: none of its actions was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don’t need to do any recovery actions.  The transaction is still atomic: both actions have been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277-B4ED-473C-9FB5-A2516541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69A-111D-47C7-AD52-D3ACC94F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386-C814-4A0C-9242-8B94D8F3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F9B-F0F5-4CE5-8EF7-EE7E978D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962-8A16-434F-A394-2787A672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154-4757-4419-8D60-5DEF1D22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DF6-D908-45F1-879A-757E79C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61F-8A11-4E56-A23B-DD2DCD45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BAE-E800-4A58-9FED-BA329D29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D25-4618-4180-BE86-DCFC6022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935-EF75-4449-8265-0C08682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C79-265B-4126-B7B1-307C135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5851-96AC-4007-BDBA-28220418A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487-38D4-4D9D-9636-E073978554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 rot="5400000">
            <a:off x="44193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920" y="914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9339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3480" y="914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2552400" y="9525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760" y="9144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113040" y="152280"/>
            <a:ext cx="4123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A,t); t := t*2; WRITE(A,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B,t); t := t*2; WRITE(B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D6D-8382-4621-A9FA-5B0ED3734A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04920" y="685800"/>
          <a:ext cx="784836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560"/>
                <a:gridCol w="1231920"/>
                <a:gridCol w="12319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6519600" y="454356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2160" y="5883120"/>
            <a:ext cx="671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occurs after OUTPUT(A), before OUTPUT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se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9A7-351B-45B8-90E7-59BEBF1DD7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A65-1E1F-4885-80ED-03F5CDBCB7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093-D024-4A79-8BC1-4C7E9AE852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DCE-EB04-4889-A583-4207C16602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6595560" y="4848840"/>
            <a:ext cx="2639880" cy="113796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CBE-48E9-4FE2-9CED-77E901A60F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2286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614640" y="574848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654-E189-4C5F-8816-6C18A12CEE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irst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UNDO both changes: A=8, B=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action is atomic, since none of its actions has been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econd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undo any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action is atomic, since both it’s actions have been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34A-859E-4D68-AD38-96D2D99905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OUTPUT(X) must be written to disk before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512-211E-488A-BA1A-319315E82E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380880" y="2624040"/>
            <a:ext cx="8382240" cy="2862360"/>
            <a:chOff x="380880" y="2624040"/>
            <a:chExt cx="8382240" cy="2862360"/>
          </a:xfrm>
        </p:grpSpPr>
        <p:sp>
          <p:nvSpPr>
            <p:cNvPr id="96" name=""/>
            <p:cNvSpPr/>
            <p:nvPr/>
          </p:nvSpPr>
          <p:spPr>
            <a:xfrm>
              <a:off x="380880" y="49528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26240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" name=""/>
            <p:cNvCxnSpPr>
              <a:stCxn id="97" idx="2"/>
              <a:endCxn id="96" idx="7"/>
            </p:cNvCxnSpPr>
            <p:nvPr/>
          </p:nvCxnSpPr>
          <p:spPr>
            <a:xfrm flipH="1">
              <a:off x="1550520" y="2933280"/>
              <a:ext cx="5841360" cy="20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" name=""/>
          <p:cNvGrpSpPr/>
          <p:nvPr/>
        </p:nvGrpSpPr>
        <p:grpSpPr>
          <a:xfrm>
            <a:off x="457200" y="4452840"/>
            <a:ext cx="8305920" cy="1490760"/>
            <a:chOff x="457200" y="4452840"/>
            <a:chExt cx="8305920" cy="1490760"/>
          </a:xfrm>
        </p:grpSpPr>
        <p:sp>
          <p:nvSpPr>
            <p:cNvPr id="100" name=""/>
            <p:cNvSpPr/>
            <p:nvPr/>
          </p:nvSpPr>
          <p:spPr>
            <a:xfrm>
              <a:off x="7391520" y="44528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54100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stCxn id="100" idx="2"/>
              <a:endCxn id="101" idx="6"/>
            </p:cNvCxnSpPr>
            <p:nvPr/>
          </p:nvCxnSpPr>
          <p:spPr>
            <a:xfrm flipH="1">
              <a:off x="1828440" y="4762440"/>
              <a:ext cx="55634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3" name=""/>
          <p:cNvGrpSpPr/>
          <p:nvPr/>
        </p:nvGrpSpPr>
        <p:grpSpPr>
          <a:xfrm>
            <a:off x="1627200" y="5781600"/>
            <a:ext cx="7059600" cy="619200"/>
            <a:chOff x="1627200" y="5781600"/>
            <a:chExt cx="7059600" cy="619200"/>
          </a:xfrm>
        </p:grpSpPr>
        <p:sp>
          <p:nvSpPr>
            <p:cNvPr id="104" name=""/>
            <p:cNvSpPr/>
            <p:nvPr/>
          </p:nvSpPr>
          <p:spPr>
            <a:xfrm>
              <a:off x="7315200" y="578160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101" idx="5"/>
              <a:endCxn id="104" idx="2"/>
            </p:cNvCxnSpPr>
            <p:nvPr/>
          </p:nvCxnSpPr>
          <p:spPr>
            <a:xfrm>
              <a:off x="1627200" y="5865840"/>
              <a:ext cx="568872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172-2A71-435B-996C-379F1042B2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842-2A1B-4E36-B71C-72B5A48870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601-DFC7-42F1-A4EE-3E3B79CB2B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EAD-055A-402F-9658-D07FBCB97E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8440" y="1600200"/>
            <a:ext cx="219240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2704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4400" y="5622120"/>
            <a:ext cx="1627200" cy="912600"/>
          </a:xfrm>
          <a:prstGeom prst="wedgeEllipseCallout">
            <a:avLst>
              <a:gd name="adj1" fmla="val 84458"/>
              <a:gd name="adj2" fmla="val 137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B14-1C0D-4049-928C-0B3A69169D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2D1-C5BF-4B50-89AD-008C8DB7C7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: use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A9A-3E44-4577-9362-F585D87A22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EB5-FF78-4675-9C4A-2F95D70359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849-4507-42E1-A197-BF3E835A44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244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BE6-E2E4-44E5-9AC8-0E7F6E0707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60C-862E-4E5F-9607-272092AF6C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278-1C27-4C24-99D3-EDC67824AC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from crashes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:      A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operate on the buffer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BAB-3DA2-486C-AAEF-38C2860297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A39-BB6E-45E0-A371-13EC57EDC9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E7D-8E0E-4275-AB2A-5F5A423FA3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2C3-4A8E-490B-AFFA-777F3A48ED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80880" y="49528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4419720"/>
            <a:ext cx="1371600" cy="61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7" idx="2"/>
            <a:endCxn id="146" idx="7"/>
          </p:cNvCxnSpPr>
          <p:nvPr/>
        </p:nvCxnSpPr>
        <p:spPr>
          <a:xfrm flipH="1">
            <a:off x="1550520" y="4728960"/>
            <a:ext cx="561240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3049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7" idx="3"/>
            <a:endCxn id="149" idx="6"/>
          </p:cNvCxnSpPr>
          <p:nvPr/>
        </p:nvCxnSpPr>
        <p:spPr>
          <a:xfrm flipH="1">
            <a:off x="1676160" y="4948200"/>
            <a:ext cx="568872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0FE-AADF-41A9-B410-242F88D4A7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A16-D4F6-4A48-94E8-7BAFFF8485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3D0-FA91-4202-96AD-988F0C63B1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856-C263-4AEF-BDC5-503921B04B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28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18840" y="2556000"/>
            <a:ext cx="16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, T5, T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E40-1157-4F4A-B717-6E0641128D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E2B-96D1-4203-B307-587DD3B27C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9F0-9DA5-4023-9D32-1A627B8352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which of the events below can a database actually recov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ng 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/ earthquake / bankrupcy /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s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C05-037F-485F-88A0-B6B3F28524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relative to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0B3-6157-4DBD-9FC1-5F427FD70E7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066680" y="61722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UTPUT whenever we want: before/after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C51-FA8E-4F0D-8E52-12374911976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19C-0F06-4B1C-816E-70755A9125F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F95-D73E-4A14-B3E3-670711E6DF4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93320" y="5392440"/>
            <a:ext cx="1702800" cy="1172520"/>
          </a:xfrm>
          <a:prstGeom prst="wedgeEllipseCallout">
            <a:avLst>
              <a:gd name="adj1" fmla="val 56824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9EB-3ECA-4716-9E5B-BFE7202358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D90-804D-45EA-B062-7E65348CB2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6AC-4971-4435-BA9B-2C3AE2A528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C99-7880-4A07-BA47-4DB2013C7A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4449960" cy="470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B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B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21360" y="2971800"/>
            <a:ext cx="28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ultiplied b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26C-BAF6-4A4B-898C-94425EB250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juewang</cp:lastModifiedBy>
  <dcterms:modified xsi:type="dcterms:W3CDTF">2006-11-01T01:55:12Z</dcterms:modified>
  <cp:revision>344</cp:revision>
  <dc:subject/>
  <dc:title>Lecture 09:</dc:title>
</cp:coreProperties>
</file>