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6F7E-A003-4B19-9CCB-1340C733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A75-0889-4DA6-A0D9-AE65C409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51C-A4BC-4537-8A5F-D589431C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C2A-D90C-418F-99BD-392F7C6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EE2-F621-4F2C-9A08-D4101103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B02-7A13-4A81-A818-2833C364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765-4286-4DA2-B019-62F53D2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F43-20A9-49B5-9CC0-4C79A61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AE0-9268-4FED-A90E-330CE18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3B9-2A3C-4BED-ACBC-1AACFFB0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027-7A99-4D70-A50E-194FFA6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E16-46E2-45D2-8B4A-4AD1D56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657-FDB8-421E-821A-7785A07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96F-5203-421C-BB44-F013E8E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18B-39AF-4428-BD9C-D7BA30FD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3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F9C-8ABA-44E0-881D-73EC3CFE5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rouped in transactions, all problems in previous slide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5BD-8909-44CF-B6CF-B787A7384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7F1-8FEE-4BA9-87B4-03CB7DB8C9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14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7EF-EFF0-475F-B328-E7861CEBEA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BFE-3827-4A5B-AA2D-8F4DC5D21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05E-262F-4E9B-BF1D-CE32DF09E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824-04B4-43C1-83B9-3F3A7A018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55F-8C99-4E49-A226-85CC33C3F9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EC4-DB62-4C91-B6AB-EF0935DC0E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B6-E403-43A2-AE71-4931DE236E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9AD-3EF7-4E34-99E8-B15B51582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uffer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9F6-1403-469D-BE37-99EF0BA10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252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B6F-1C51-4B07-8C85-72FC84561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1A7-3CC9-4DAD-8263-573F6CC9FD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1B8-EFD4-4C73-AA8B-77B0D08EE2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7B5-E761-4F8A-B6CD-D83F256E8F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1FB-C03C-4C22-8BE8-D2A4E48E62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4F6-32A3-4E7C-8673-6789079B5A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FD3-41AC-4A81-A04E-099D60A1F0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24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27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62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165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69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BA6-53F8-403B-93DB-7504E0FB7F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ABB-E912-40EC-96CD-A82B43ABC6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7A7-4F80-4A80-A60E-EB5AB4E60B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for most applications; arguably more so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awards to database researc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Bachma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ar Codd 1981 for inventing 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Gray 1998 for inven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77D-8035-4128-9F29-A88C587559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89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01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02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98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556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5920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0600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816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63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568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684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DC4-8302-474A-897E-C556E793785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4560" y="1828800"/>
            <a:ext cx="839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BCD-871F-403F-AEE0-C9E5D3C5C1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ages by the time of last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replace the least recently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3400" y="34290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5, P2, P8, P4, P1, P9, P6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426708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1480" y="4479120"/>
            <a:ext cx="2049480" cy="652680"/>
          </a:xfrm>
          <a:prstGeom prst="wedgeEllipseCallout">
            <a:avLst>
              <a:gd name="adj1" fmla="val -38620"/>
              <a:gd name="adj2" fmla="val -93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080" y="52578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6, P5, P2, P8, P4, P1, P9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600" y="6172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is expensive (why ?); the clock algorithm is good appr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4EC-B945-40BD-86A3-8258074790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000" y="1600200"/>
            <a:ext cx="723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ine grained control fo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F87-9BB8-4B73-A733-D425B98448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action Management and the Buffer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anager operates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: ‘log-file write-ahead’, then careful policy about which pages to force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: locks at the page level, multiversion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2560" y="6023160"/>
            <a:ext cx="60436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details during the next few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868-9BE6-4D47-9B17-2DA5B65F67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FF6-10E0-4BB4-AD3F-A90A001DE8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urrency contro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reads data written by T’ while T’ i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’ ab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178-A46F-46BE-9517-75BF40DC7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880" y="1371600"/>
            <a:ext cx="455148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 + 10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1111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222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X &lt; 100    /* abort . . . . 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 -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1111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222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4440" y="1860480"/>
            <a:ext cx="3708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ithdraw $100 from account 1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111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X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 -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No = ‘1111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 . . Dispense cash . . . .C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916-AEC4-4C69-9110-E7565470BB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0" y="2895480"/>
            <a:ext cx="4426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13840" y="2895480"/>
            <a:ext cx="4274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B97-CBC7-489C-B975-398515746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9640" y="2819520"/>
            <a:ext cx="3163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quantit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E8D-574D-48E3-AAC0-8686EC499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764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451-BC64-4FF1-9C3E-6FC250893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suciu</cp:lastModifiedBy>
  <dcterms:modified xsi:type="dcterms:W3CDTF">2006-10-30T03:55:31Z</dcterms:modified>
  <cp:revision>414</cp:revision>
  <dc:subject/>
  <dc:title>Lecture 09:</dc:title>
</cp:coreProperties>
</file>