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4CE-6B87-402F-85CA-0C67E6B2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C64-077A-4ECD-B01C-C0E29449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109-127D-4401-847C-0A439828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1DA-70D8-4095-BABE-C915914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D85-D7D7-4FF6-A25E-62A015D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9EA-66B8-4266-A955-06176557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9FF-B7D9-4BFF-A050-3C49BC9B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B54-4BEC-41ED-9C9A-12BA5FB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6BC-57CF-4753-9383-67DCCC3D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26A-DA83-4598-831C-3874769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249-E1D7-46E4-AEF1-0E3F347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B24-8E86-462E-B007-EAAFCFB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70A-7A82-459B-9DF8-8D09AA3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C39-F668-485B-BCED-1C5D581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6A57-3ED8-4B57-98EE-18F7DF3E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73F-83B3-489D-AAB4-9FE25CC02E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0040" y="4153680"/>
            <a:ext cx="7163280" cy="2584800"/>
            <a:chOff x="1760040" y="4153680"/>
            <a:chExt cx="7163280" cy="2584800"/>
          </a:xfrm>
        </p:grpSpPr>
        <p:sp>
          <p:nvSpPr>
            <p:cNvPr id="80" name=""/>
            <p:cNvSpPr/>
            <p:nvPr/>
          </p:nvSpPr>
          <p:spPr>
            <a:xfrm>
              <a:off x="1760040" y="5181480"/>
              <a:ext cx="62143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Public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Name,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PublicCustomers TO F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25760" y="4153680"/>
              <a:ext cx="1897560" cy="566640"/>
            </a:xfrm>
            <a:prstGeom prst="wedgeEllipseCallout">
              <a:avLst>
                <a:gd name="adj1" fmla="val -83587"/>
                <a:gd name="adj2" fmla="val 17317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286000" y="266688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29760" y="1105920"/>
            <a:ext cx="2040480" cy="566640"/>
          </a:xfrm>
          <a:prstGeom prst="wedgeEllipseCallout">
            <a:avLst>
              <a:gd name="adj1" fmla="val 41263"/>
              <a:gd name="adj2" fmla="val 148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1220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1680" y="1436400"/>
            <a:ext cx="1884600" cy="1432800"/>
          </a:xfrm>
          <a:prstGeom prst="wedgeEllipseCallout">
            <a:avLst>
              <a:gd name="adj1" fmla="val -71731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80E-CEAB-4B47-8898-3F8FEAE1E3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36232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2064600" y="4175640"/>
            <a:ext cx="6772680" cy="2525400"/>
            <a:chOff x="2064600" y="4175640"/>
            <a:chExt cx="6772680" cy="2525400"/>
          </a:xfrm>
        </p:grpSpPr>
        <p:sp>
          <p:nvSpPr>
            <p:cNvPr id="89" name=""/>
            <p:cNvSpPr/>
            <p:nvPr/>
          </p:nvSpPr>
          <p:spPr>
            <a:xfrm>
              <a:off x="2064600" y="4778280"/>
              <a:ext cx="670500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BadCredit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Balance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BadCreditCustomers TO 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10720" y="4175640"/>
              <a:ext cx="1726560" cy="522360"/>
            </a:xfrm>
            <a:prstGeom prst="wedgeEllipseCallout">
              <a:avLst>
                <a:gd name="adj1" fmla="val -20694"/>
                <a:gd name="adj2" fmla="val 16294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2320" y="516960"/>
            <a:ext cx="2040480" cy="566640"/>
          </a:xfrm>
          <a:prstGeom prst="wedgeEllipseCallout">
            <a:avLst>
              <a:gd name="adj1" fmla="val -5814"/>
              <a:gd name="adj2" fmla="val 1886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44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11960" y="1505520"/>
            <a:ext cx="1930320" cy="1866240"/>
          </a:xfrm>
          <a:prstGeom prst="wedgeEllipseCallout">
            <a:avLst>
              <a:gd name="adj1" fmla="val -79027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1BA-D35D-4C59-972C-27068E1E2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ustomer should see only her/his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43600" y="2514600"/>
            <a:ext cx="3948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Mar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Mary TO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8680" y="5486400"/>
            <a:ext cx="403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-le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259884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282800" y="364680"/>
            <a:ext cx="1726560" cy="523080"/>
          </a:xfrm>
          <a:prstGeom prst="wedgeEllipseCallout">
            <a:avLst>
              <a:gd name="adj1" fmla="val -18731"/>
              <a:gd name="adj2" fmla="val 333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343400"/>
            <a:ext cx="3948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Sue TO 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5997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10E-123D-40CE-A9E1-45D543580A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364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8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2200" y="586728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F17-E7FE-41EE-8603-095CFACF3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132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8041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128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5B3-6CED-4A7F-92D6-EF09F29293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2" idx="4"/>
            <a:endCxn id="113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6"/>
            <a:endCxn id="114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19" name=""/>
          <p:cNvCxnSpPr>
            <a:stCxn id="113" idx="4"/>
            <a:endCxn id="115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5" idx="6"/>
            <a:endCxn id="116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4" idx="5"/>
            <a:endCxn id="116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6" idx="1"/>
            <a:endCxn id="114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06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E00-2AF6-4FD7-8606-FDC13709D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QL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w level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or owns the data: that’s unfa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800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pectacular fail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0% assign privileges to users/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o protect entire tables, no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3000" y="3943440"/>
            <a:ext cx="878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control = great success story of the DB commun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E6B-C48A-4712-B6CC-ED90253DE457}" type="slidenum">
              <a:t>16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licies in middleware: slow, error pr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 has 10**4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E over 10**5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kerage house has 80,000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S government entity thinks that it has 35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databas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enter of the policy administration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880" y="6248520"/>
            <a:ext cx="273816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6E0-9536-4A75-AADB-35C068E8690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’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0D7-10D3-4C31-89AF-47CB9F3A7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41" name="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4480" y="160020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320" y="404964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72840" y="5054760"/>
            <a:ext cx="2940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120" y="26668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78400" y="2603520"/>
            <a:ext cx="3492360" cy="1191240"/>
            <a:chOff x="3578400" y="2603520"/>
            <a:chExt cx="3492360" cy="1191240"/>
          </a:xfrm>
        </p:grpSpPr>
        <p:sp>
          <p:nvSpPr>
            <p:cNvPr id="149" name=""/>
            <p:cNvSpPr/>
            <p:nvPr/>
          </p:nvSpPr>
          <p:spPr>
            <a:xfrm>
              <a:off x="3578400" y="2603520"/>
              <a:ext cx="34923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7240" y="2666880"/>
              <a:ext cx="143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87960" y="3276720"/>
              <a:ext cx="1400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6095880"/>
            <a:ext cx="8629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60" y="76320"/>
            <a:ext cx="45716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55" name="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>
              <a:stCxn id="155" idx="4"/>
              <a:endCxn id="156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58" name="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59" name="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59" idx="5"/>
              <a:endCxn id="160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4F8-E37A-4C86-A07A-3763DF67C8CD}" type="slidenum">
              <a:t>19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10:30-11:20,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3: Conceptual design, 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0200" y="6176880"/>
            <a:ext cx="2608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4D2-D1A8-4134-9682-C639BBA6D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002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8160" y="2692800"/>
            <a:ext cx="486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2800" y="4343400"/>
            <a:ext cx="7849080" cy="1902240"/>
            <a:chOff x="532800" y="4343400"/>
            <a:chExt cx="7849080" cy="1902240"/>
          </a:xfrm>
        </p:grpSpPr>
        <p:sp>
          <p:nvSpPr>
            <p:cNvPr id="167" name=""/>
            <p:cNvSpPr/>
            <p:nvPr/>
          </p:nvSpPr>
          <p:spPr>
            <a:xfrm>
              <a:off x="532800" y="4343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1760" y="5413680"/>
              <a:ext cx="354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13120" y="3782880"/>
            <a:ext cx="8530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96B-685D-4B32-A376-26F038D3F0B7}" type="slidenum">
              <a:t>20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3120" y="16002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81040" y="2975040"/>
            <a:ext cx="48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C64-7CCA-4E0F-800C-4FE9C4E960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CD3-3F55-47CE-8678-10F6C2867D1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440" y="5105520"/>
            <a:ext cx="737244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0A0-46AF-4BAC-9DB0-3D90500B0552}" type="slidenum">
              <a:t>23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7440" y="4724280"/>
            <a:ext cx="7372440" cy="107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0A1-7349-43AC-8EEC-4DEB9454E7E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160" y="20574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659-07B8-414D-B1B9-5D133F67F46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7520" y="5257800"/>
            <a:ext cx="73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BE6-9596-4B1E-B0E7-803E98734A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inj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rrectnes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olicy implemented poorly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ney’s fi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orrect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occurred when all systems work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7D1-F659-4BCF-836C-B56DBB03B8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Nove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anonymity, information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w-level 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E5C-7B1E-4C4F-ADE5-53BC54789F2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y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t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Anony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4040" y="1708200"/>
            <a:ext cx="68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uple is equal to at least k-1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zing: through suppression and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9080" y="5756400"/>
            <a:ext cx="642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:  NP-complete for suppress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 exists; but work poorly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5800" y="76320"/>
            <a:ext cx="4280400" cy="3373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amarati&amp;Sweeney’98, Meyerson&amp;Williams’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0120" y="2895480"/>
          <a:ext cx="1447560" cy="259236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2D3-A67A-43B9-BD4D-417CB99F51C1}" type="slidenum">
              <a:t>29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F76-6D2E-452A-A95D-3C4365880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view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49360" y="2949480"/>
          <a:ext cx="7543800" cy="103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losur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49360" y="398628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(name,dept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(dept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49360" y="4930920"/>
          <a:ext cx="7543800" cy="51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de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49360" y="545616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H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R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535400" y="1981080"/>
            <a:ext cx="651132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mployee(name, dept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40" y="19810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45600" y="3483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2280" y="4168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21920" y="49309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46320" y="56926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5160" y="76320"/>
            <a:ext cx="491868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iklau&amp;S’04, Miklau&amp;Dalvi&amp;S’05,Yang&amp;L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C81-5500-4049-8A7B-2F986AB6939A}" type="slidenum">
              <a:t>30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at the tupl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pec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B25-1AB3-4CC6-8DED-8D60DFDCE41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5160" y="2666880"/>
            <a:ext cx="771084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HERE Patient.doctorID = Doctor.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Doctor.login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90480" y="5239800"/>
            <a:ext cx="2161800" cy="1172520"/>
          </a:xfrm>
          <a:prstGeom prst="wedgeEllipseCallout">
            <a:avLst>
              <a:gd name="adj1" fmla="val 46967"/>
              <a:gd name="adj2" fmla="val -9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720" y="1676520"/>
            <a:ext cx="69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, but usually based on parameterized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B5C-9F43-478C-9E4E-B79CBC3DEC5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0040" y="1706400"/>
            <a:ext cx="44600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9920" y="4168800"/>
            <a:ext cx="49035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tient.doctorID = Doctor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login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4800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965-649F-4614-A580-AF73EAA8B8E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 = filte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 = deny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define multiple security views for a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5520" y="6400800"/>
            <a:ext cx="1134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zv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5920" y="2514600"/>
            <a:ext cx="33886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sease=‘fl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F25-A88D-4F7E-82F2-218F012EA4A9}" type="slidenum">
              <a:t>34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Information Dis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tical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 new connections between databases and information theory, probability theory,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year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5160" y="3581280"/>
            <a:ext cx="25610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adi&amp;Warinschi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032-4CD3-412D-B4ED-BCE94BE317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Fine 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n industry: label-base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ler app: application h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franchises share a single table at headquarters (e.g., Holiday I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runs under requester’s label, cannot see oth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quarters runs Read queries ove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’s Virtual Privat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44280" y="6442200"/>
            <a:ext cx="273816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998-2CD8-4A45-B721-2612B8C47690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6160" y="2087640"/>
            <a:ext cx="45957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privileg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ON ob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WITH GRANT OPTION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114800"/>
            <a:ext cx="55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192-82CE-4158-93EA-3D1D5AC41C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760" y="1940040"/>
            <a:ext cx="6544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INSERT, DELETE ON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3320" y="309888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3680" y="56386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1880" y="363204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940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7F2-A375-49D4-98A9-24E90A2E33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1920" y="2498760"/>
            <a:ext cx="6872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B0F-4D15-4777-A70B-1C18234A8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7600" y="2544840"/>
            <a:ext cx="537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7160" y="396252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4AF-2EE2-4754-BBB4-3562AB371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000" y="2422440"/>
            <a:ext cx="7229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400" y="41148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E8B-1409-4B14-9001-462BAEC622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7920" y="4525920"/>
            <a:ext cx="673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6000" y="1889280"/>
            <a:ext cx="711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, address, balanc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amount)            cid=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8928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9A8-D324-4AEE-B720-E48A7EE82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0-25T03:18:56Z</dcterms:modified>
  <cp:revision>375</cp:revision>
  <dc:subject/>
  <dc:title>Lecture 09:</dc:title>
</cp:coreProperties>
</file>