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ECDD-57DD-4004-86F3-A711A1C66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CBFD-7D59-482A-8C32-CAE37AEE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B14B-DEF8-4613-B5EC-C0BF9E0BA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8EF2-8A37-4756-A445-7E2FAAAA4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C753-8B18-4626-ACAD-F24A178A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237D-48B4-4437-8F74-C3638A84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F415-93A2-4CC3-8D7E-A3347C10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D846-6935-4FCD-807E-17E1D8D8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3044-F046-4A7E-A3ED-7B16AA16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9947-9E6F-41E1-BE35-D1BB3D25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C038-82F5-4956-8F3C-76039F0F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DF7E-ABBF-4AF3-B85A-B15A077E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5A94-497C-4165-A6BA-77D3407F3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msdn.microsoft.com/library/default.asp?url=/library/en-us/dnsql90/html/sql2k5xml.asp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 in SQL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October 23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A335-0577-4A2E-B4AF-04AD027692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-LET-WHERE-RETURN  = FLW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37480" y="3492360"/>
            <a:ext cx="2034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/LET Cla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320" y="4594320"/>
            <a:ext cx="1803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Cla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02280" y="5726160"/>
            <a:ext cx="1904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Cla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54480" y="40212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54480" y="514656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75960" y="39546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of tu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75960" y="51958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of tu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77040" y="6248520"/>
            <a:ext cx="32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nce of Xquery data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9C39-4116-4118-B9D6-2BF36B7EF4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s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ed and unordered coll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 =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llection: result i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cument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) = an unordered collection: the output order is implementation 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collection (several authors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0200" y="5251320"/>
            <a:ext cx="5374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78320" y="5025960"/>
            <a:ext cx="274356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EFD2-E708-41EB-B148-E469DB36F2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s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 collections in expressions 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st of n pric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0.7   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st of n numb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quant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st of n x m numbers ?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quant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quant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quant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quant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D1DD-3AFB-4775-B8BF-2C116446DA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XML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sp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AP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M = “Document Object Mode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langu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link, XPo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6120" y="5105520"/>
            <a:ext cx="415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ww.w3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t don’t spend rest of your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g those standards 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BB79-E058-4D20-ABC3-9449A0B217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in SQL Server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tables with attributes of type 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Xquery in SQL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 of the slides are fr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nkar Pal et al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dexing XML data stored in a relational datab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VLDB’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9F5B-A423-40EC-B239-AD0BFEBCF5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66160" y="1295280"/>
            <a:ext cx="403020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TABLE DOCS (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ID int primary key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XDOC xm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080" y="3448080"/>
            <a:ext cx="881424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ID, XDOC.query(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$s in  /BOOK[@ISBN= “1-55860-438-3”]//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&lt;topic&gt;{data($s/TITLE)} &lt;/topic&gt;'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DO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57B1-9FFF-4ABD-AC5B-4AEA50D668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Method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() = returns XML data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() = extracts scalar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() = checks conditions on XML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s() = returns a rowset of XML nodes that the Xquery expression evaluates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1441-07E6-4CA4-95DD-94D9C1FDF4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here:</a:t>
            </a:r>
            <a:br>
              <a:rPr sz="3200"/>
            </a:b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msdn.microsoft.com/library/default.asp?url=/library/en-us/dnsql90/html/sql2k5xml.a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35BC-A276-4812-BDC4-D57192CE87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8120" y="3124080"/>
            <a:ext cx="5080320" cy="204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ABLE docs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k INT PRIMARY KEY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Col XML not nu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9FF8-08C0-4C79-881E-197D37770D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ng an XML Va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6960" y="2666880"/>
            <a:ext cx="8750160" cy="35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INTO docs VALUES (2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'&lt;doc id="123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ection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ection num="1"&gt;&lt;title&gt;XML Schema&lt;/title&gt;&lt;/section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ection num="3"&gt;&lt;title&gt;Benefits&lt;/title&gt;&lt;/section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ection num="4"&gt;&lt;title&gt;Features&lt;/title&gt;&lt;/section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section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doc&gt;'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2AAB-92C8-4B6B-A02C-036DD598F8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 2 due on Wednes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dterm on Friday. To stud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/R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al dependencies and BC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phase 2 due next Wednes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8FC5-C8B9-4355-A9CF-25C9A643D3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(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1040" y="3124080"/>
            <a:ext cx="8721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pk, xCol.query('/doc[@id = 123]//section'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  do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7D3D-4266-422E-8BD2-362030354E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sts(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0840" y="3276720"/>
            <a:ext cx="736344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xCol.query('/doc[@id = 123]//section')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  do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 xCol.exist ('/doc[@id = 123]')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57F8-3792-470A-A80B-D8D0631EA8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(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4800" y="3200400"/>
            <a:ext cx="879588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xCol.value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'data((/doc//section[@num = 3]/title)[1])', 'nvarchar(max)'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do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A287-0173-41B0-8697-7545EFC358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des(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40" y="2895480"/>
            <a:ext cx="7474680" cy="265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nref.value('first-name[1]', 'nvarchar(50)'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 FirstNam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ref.value('last-name[1]', 'nvarchar(50)'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Last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  @xVar.nodes('//author') AS R(nre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 nref.exist('.[first-name != "David"]')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B5B4-B671-4D96-9C54-CAE847E79C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des(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760" y="3448080"/>
            <a:ext cx="90075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nref.value('@genre', 'varchar(max)') Last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docs CROSS APPLY xCol.nodes('//book') AS R(nre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2041-7F13-4B8F-A550-9801E6F951E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al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is “shredded” as a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w important ide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wey decimal numbering of nodes; store in clustered B-tree in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nly odd numbers to allow inser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erse PATH-ID encoding, for efficient processing of postfix expressions like //a/b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more indexes, e.g. on data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BE3D-AE3C-44B6-B6E0-1BD8D70BFD5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06200" y="1295280"/>
            <a:ext cx="5453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BN=“1-55860-438-3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Bad Bugs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body loves bad bu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G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PTION=“Sample bug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Tree Frogs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right-thinking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love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fro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E00E-1346-4539-BDD5-BEA5FBF3671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758960"/>
            <a:ext cx="8458200" cy="365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43CD-3409-4666-8351-951D2F8C2F3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547560"/>
            <a:ext cx="7277040" cy="5830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473840" y="633420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set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76B9-EC8E-4A93-AC79-13B3B505785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74240" y="990720"/>
            <a:ext cx="6101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BOOK[@ISBN = “1-55860-438-3”]/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4360" y="3498840"/>
            <a:ext cx="797436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SerializeXML (N2.ID, N2.ORDPA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infosettab N1  JOIN infosettab N2 ON (N1.ID = N2.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N1.PATH_ID = PATH_ID(/BOOK/@ISB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N1.VALUE = '1-55860-438-3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N2.PATH_ID = PATH_ID(BOOK/S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Parent (N1.ORDPATH) = Parent (N2.ORDPA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1905120"/>
            <a:ext cx="761760" cy="1066680"/>
          </a:xfrm>
          <a:prstGeom prst="downArrow">
            <a:avLst>
              <a:gd name="adj1" fmla="val 50000"/>
              <a:gd name="adj2" fmla="val 350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2003-8C6E-4020-9189-907466D4F5C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ing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7320" y="1828800"/>
            <a:ext cx="8365680" cy="435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1752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document("bib.xml")/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[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ye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= “97”]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rice/tex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A73F-AC8A-4260-8651-0C893D534A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-Then-E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36160" y="1981080"/>
            <a:ext cx="7092720" cy="39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1752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IN /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hold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hold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ti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@type = "Journal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edi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hold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9438-DDA7-4AF6-88AA-336C2B2102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stential Qua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5960" y="2133720"/>
            <a:ext cx="8162280" cy="35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/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a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ATISF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(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"sailing"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tains(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"windsurfing"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31A0-34CE-4E06-95B6-96358253C4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versal Qua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6600" y="2362320"/>
            <a:ext cx="7634160" cy="280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/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a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ATISF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(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"sailing"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858B-F047-49C1-8779-D33DCAC5B9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plicate Eli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ist-of-text-valu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eliminate duplicate “tuples”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3276720"/>
            <a:ext cx="50940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3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00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8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500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3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00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3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200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8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500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3886200"/>
            <a:ext cx="609480" cy="485640"/>
          </a:xfrm>
          <a:prstGeom prst="rightArrow">
            <a:avLst>
              <a:gd name="adj1" fmla="val 50000"/>
              <a:gd name="adj2" fmla="val 3137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86200" y="5486400"/>
            <a:ext cx="50176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3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00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8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500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3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200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A3AC-D61D-45D5-9861-1B52E1F80B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v.s. 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d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de vari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d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llection vari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e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9E1A-768F-4494-8D29-2133EDE955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v.s. 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7280" y="2438280"/>
            <a:ext cx="521784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7280" y="4343400"/>
            <a:ext cx="521784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29080" y="2236680"/>
            <a:ext cx="3661560" cy="3980160"/>
            <a:chOff x="5329080" y="2236680"/>
            <a:chExt cx="3661560" cy="3980160"/>
          </a:xfrm>
        </p:grpSpPr>
        <p:sp>
          <p:nvSpPr>
            <p:cNvPr id="64" name=""/>
            <p:cNvSpPr/>
            <p:nvPr/>
          </p:nvSpPr>
          <p:spPr>
            <a:xfrm>
              <a:off x="5329080" y="2236680"/>
              <a:ext cx="3661560" cy="164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turn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resul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 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...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resul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resul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 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...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resul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resul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 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...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resul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682960" y="4294080"/>
              <a:ext cx="28357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turn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resul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 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...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...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...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resul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4D99-D768-494A-AE4A-FE75027A3F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6-10-23T03:08:59Z</dcterms:modified>
  <cp:revision>362</cp:revision>
  <dc:subject/>
  <dc:title>Lecture 09:</dc:title>
</cp:coreProperties>
</file>