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D0F70-F88E-49DB-9E37-5349F6C13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B18FF-F8F4-406C-B9D5-622124F11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7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0F1-49B2-4446-AB7E-474C6451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856-C744-4D9F-BF82-C77A9838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1FB-AC67-4BFF-A589-255EB39A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E91-D76E-4CC8-943A-5383A478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44E-DC68-47C0-9FB9-95741528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664-D28C-4E67-87A4-65343F28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747-1350-4857-AA6E-C60EEDD0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D6A-7025-4D64-ABBE-4FFB55AB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326-BD49-4DEC-A739-7E84453B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F47-25FF-44A1-A6F1-64F88ABA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7A1-9D8F-4510-B75B-C24C30D6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2A7-9AC3-441C-BD60-09E9930F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10ED-466C-49C3-A828-B5B2AE9ED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va.sun.com/webservices/docs/ea2/tutorial/doc/JAXPXSLT2.html" TargetMode="External"/><Relationship Id="rId2" Type="http://schemas.openxmlformats.org/officeDocument/2006/relationships/hyperlink" Target="http://www.w3.org/TR/xmlquery-use-cases/" TargetMode="External"/><Relationship Id="rId3" Type="http://schemas.openxmlformats.org/officeDocument/2006/relationships/hyperlink" Target="http://www.xmlportfolio.com/xquery.html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/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20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76A-B3D5-482D-A72D-8F3988BE79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ctor Vian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k Hull doesn’t appear because he has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90512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1F8-DF2D-43C6-9C43-0129C1AE6C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4280" y="190512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F12-FB23-461D-A374-6EDEB8DAAF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4840" y="1828800"/>
            <a:ext cx="735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.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480" y="4038480"/>
            <a:ext cx="502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read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move all qualifiers (predicate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120" y="4965840"/>
            <a:ext cx="3465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 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8320" y="561960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dd them one by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172200"/>
            <a:ext cx="5868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3280" y="6137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C8A-9AA1-440A-B5EC-482ADD73FE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4040" y="2286000"/>
            <a:ext cx="40485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6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2240" y="3657600"/>
            <a:ext cx="4955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2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4040" y="51055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E11-8652-42A2-82DE-1945A625E3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720" y="2286000"/>
            <a:ext cx="3452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1240" y="242892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ea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1600" y="3581280"/>
            <a:ext cx="334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9200" y="36576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9760" y="3581280"/>
            <a:ext cx="31251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040" y="5257800"/>
            <a:ext cx="3938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. /first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67640" y="53341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1160" y="5181480"/>
            <a:ext cx="3621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first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732-555D-4966-82D2-7B663FBE80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00" y="4343400"/>
            <a:ext cx="5558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review/../comment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520" y="2209680"/>
            <a:ext cx="27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 mea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en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000" y="495288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00" y="2743200"/>
            <a:ext cx="41554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.. /author/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5000" y="28195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4360" y="2743200"/>
            <a:ext cx="25812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6160" y="5410080"/>
            <a:ext cx="5241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comments/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5360" y="6019920"/>
            <a:ext cx="5875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*[comments][review]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3FF-DB24-425E-A0D3-18D3198589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657540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[@price&lt;“55”]/author/lastname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C5B-9E1F-4C22-894D-C52221FBC2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, which is based on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XPath to express more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B9B-AB8E-453C-9E28-AE79824257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626-1880-4CBC-9402-4DEF983493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16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0360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3BD-71EC-4FC1-BB5B-9918533FD6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poin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java.sun.com/webservices/docs/ea2/tutorial/doc/JAXPXSLT2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w3.org/TR/xmlquery-use-cas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xmlportfolio.com/xquery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B71-F3D1-46EB-A9A1-D074D5767C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61786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 (perhaps more geek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720" y="28954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520" y="4495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n shor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2600" y="5562720"/>
            <a:ext cx="707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875-648F-45A0-BF8E-247FC293E0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and the year when they wer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5040" y="2971800"/>
            <a:ext cx="586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6360" y="5076720"/>
            <a:ext cx="85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2002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80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07B-8E87-4138-BE0D-130F998776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e use of “{“ and “}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esult without th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98040" y="3048120"/>
            <a:ext cx="5500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640" y="5334120"/>
            <a:ext cx="7766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284-FEDA-4212-B6E8-71E314934D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0040" y="2971800"/>
            <a:ext cx="8433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organ Kaufmann”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7520" y="61722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lause comma concatenates XM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12C-43D4-4C75-84CA-570831AEE4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E3A-2058-40DC-AD10-60CEC3EBD4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s with more than 3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5960" y="4876920"/>
            <a:ext cx="528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tha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computes the average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mputes the sum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960" y="2971800"/>
            <a:ext cx="5397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54B-8BAD-4E44-AD6D-E0607B22B5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5720" y="2971800"/>
            <a:ext cx="7665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]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D25-31CE-4C15-A66D-057139E48D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all authors who published more than 3 books – be aware of duplicat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8880" y="4267080"/>
            <a:ext cx="6229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$a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book/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4CD-7A14-40DA-A9E8-050D5B2098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1160" y="2971800"/>
            <a:ext cx="53766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 &gt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0A3-A89E-42F7-BD18-86C581D35F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ten” the authors, i.e. return a list of (author, title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880" y="3352680"/>
            <a:ext cx="54741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x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y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89760" y="3429000"/>
            <a:ext cx="2838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kj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1E5-5FBC-45DE-8676-48FE97D986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5EF-D180-4C90-B4EC-7CF14800A1C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, return all titles of her/his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7520" y="3276720"/>
            <a:ext cx="60030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320" y="5334120"/>
            <a:ext cx="15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11880" y="2819520"/>
            <a:ext cx="283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l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4F0-59D2-48BF-8BF3-3177AA7864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, but eliminate duplicate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1120" y="2819520"/>
            <a:ext cx="61135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41F-8330-4D67-BB96-50CA32BAC8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2920" y="2819520"/>
            <a:ext cx="6246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509-F573-410C-800B-8FFEE74DCB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 titles by the coauthors of “Database Theor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0640" y="3114720"/>
            <a:ext cx="68990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]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]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4960" y="4811760"/>
            <a:ext cx="382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720" y="5410080"/>
            <a:ext cx="35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y do we get duplic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C84-A020-49D4-A6A2-6D4C9C66AE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inct-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, but eliminate dupl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000" y="4800600"/>
            <a:ext cx="382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6360" y="4952880"/>
            <a:ext cx="84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pply to a col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, no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s – note how query has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040" y="2971800"/>
            <a:ext cx="851328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5CA-CE5F-4E86-8550-830A2360B8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3920" y="175248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2960" y="1600200"/>
            <a:ext cx="39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 names, pric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by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83600" y="2735280"/>
            <a:ext cx="2625120" cy="2556360"/>
            <a:chOff x="183600" y="2735280"/>
            <a:chExt cx="2625120" cy="2556360"/>
          </a:xfrm>
        </p:grpSpPr>
        <p:sp>
          <p:nvSpPr>
            <p:cNvPr id="205" name=""/>
            <p:cNvSpPr/>
            <p:nvPr/>
          </p:nvSpPr>
          <p:spPr>
            <a:xfrm>
              <a:off x="183600" y="2735280"/>
              <a:ext cx="26251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x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 BY x.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0600" y="46389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720080" y="2666880"/>
            <a:ext cx="7317000" cy="3090960"/>
            <a:chOff x="1720080" y="2666880"/>
            <a:chExt cx="7317000" cy="3090960"/>
          </a:xfrm>
        </p:grpSpPr>
        <p:sp>
          <p:nvSpPr>
            <p:cNvPr id="208" name=""/>
            <p:cNvSpPr/>
            <p:nvPr/>
          </p:nvSpPr>
          <p:spPr>
            <a:xfrm>
              <a:off x="2973240" y="2666880"/>
              <a:ext cx="606384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 B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price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,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i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&lt;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20080" y="510516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14B-D99B-43C0-8615-96B3C43F55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6240" y="2057400"/>
            <a:ext cx="36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abc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7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def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3680" y="434340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formed document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686-D055-48E4-9E51-A1DF9F5BBD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ing a Well-Forme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2438280"/>
            <a:ext cx="6514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pric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AED-99A5-4963-B108-E6E0AF08FE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06240" y="2057400"/>
            <a:ext cx="3843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abc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7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def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1280" y="29718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well-form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5D6-1368-4B88-A3D1-34397C5B1E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6040" y="152388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, reven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8728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58400" y="2895480"/>
            <a:ext cx="3864240" cy="2556360"/>
            <a:chOff x="158400" y="2895480"/>
            <a:chExt cx="3864240" cy="2556360"/>
          </a:xfrm>
        </p:grpSpPr>
        <p:sp>
          <p:nvSpPr>
            <p:cNvPr id="222" name=""/>
            <p:cNvSpPr/>
            <p:nvPr/>
          </p:nvSpPr>
          <p:spPr>
            <a:xfrm>
              <a:off x="158400" y="2895480"/>
              <a:ext cx="38642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, Company 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x.maker=y.c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and y.city=“Seattl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6840" y="47991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242520" y="2362320"/>
            <a:ext cx="5750280" cy="3090960"/>
            <a:chOff x="3242520" y="2362320"/>
            <a:chExt cx="5750280" cy="3090960"/>
          </a:xfrm>
        </p:grpSpPr>
        <p:sp>
          <p:nvSpPr>
            <p:cNvPr id="225" name=""/>
            <p:cNvSpPr/>
            <p:nvPr/>
          </p:nvSpPr>
          <p:spPr>
            <a:xfrm>
              <a:off x="4497480" y="2362320"/>
              <a:ext cx="4495320" cy="265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and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 = “Seattle”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42520" y="480060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40760" y="5546880"/>
            <a:ext cx="8856720" cy="1264320"/>
            <a:chOff x="140760" y="5546880"/>
            <a:chExt cx="8856720" cy="1264320"/>
          </a:xfrm>
        </p:grpSpPr>
        <p:sp>
          <p:nvSpPr>
            <p:cNvPr id="228" name=""/>
            <p:cNvSpPr/>
            <p:nvPr/>
          </p:nvSpPr>
          <p:spPr>
            <a:xfrm>
              <a:off x="205164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0760" y="5638680"/>
              <a:ext cx="1650960" cy="1172520"/>
            </a:xfrm>
            <a:prstGeom prst="wedgeEllipseCallout">
              <a:avLst>
                <a:gd name="adj1" fmla="val 64712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3EC-DCEE-4F8A-B94D-B0F7255135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2EC-EC93-41A0-AB4F-9390C865F8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428120" y="1260360"/>
            <a:ext cx="47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….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7B9-EB66-47ED-8A49-5604BBA397F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8800" y="152388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ompany with revenues &lt; 1M count the products over 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240" y="2009880"/>
            <a:ext cx="8498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y.name, count(*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price &gt; 100 and x.maker=y.cid and y.revenue &lt; 10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5280" y="3809880"/>
            <a:ext cx="8649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[revenue/text()&lt;1000000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{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&gt;100]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EFE-5D42-41B8-BCB9-58B70892E75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4480" y="152388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ith at least 30 products, and their averag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2009880"/>
            <a:ext cx="32896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y.name, avg(x.pri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count(*)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66640" y="2971800"/>
            <a:ext cx="56858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30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)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080" y="4114800"/>
            <a:ext cx="2389680" cy="652680"/>
          </a:xfrm>
          <a:prstGeom prst="wedgeEllipseCallout">
            <a:avLst>
              <a:gd name="adj1" fmla="val 103333"/>
              <a:gd name="adj2" fmla="val -7568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88080" y="2133720"/>
            <a:ext cx="2268360" cy="652680"/>
          </a:xfrm>
          <a:prstGeom prst="wedgeEllipseCallout">
            <a:avLst>
              <a:gd name="adj1" fmla="val -41893"/>
              <a:gd name="adj2" fmla="val 135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729-72DF-43BF-AB5C-341841D4B35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58" name="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7180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1800" y="59436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dison-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44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0920" y="2057400"/>
            <a:ext cx="1223640" cy="459720"/>
          </a:xfrm>
          <a:prstGeom prst="wedgeRectCallout">
            <a:avLst>
              <a:gd name="adj1" fmla="val -182763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12560" y="3048120"/>
            <a:ext cx="2267280" cy="459720"/>
          </a:xfrm>
          <a:prstGeom prst="wedgeRectCallout">
            <a:avLst>
              <a:gd name="adj1" fmla="val -109736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ED9-CA6E-4396-8FC9-C385EB2858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9400" y="1752480"/>
            <a:ext cx="2257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9360" y="4038480"/>
            <a:ext cx="26496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880" y="5964120"/>
            <a:ext cx="81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9400" y="6019920"/>
            <a:ext cx="293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71880" y="5928480"/>
            <a:ext cx="4298400" cy="649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e differen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2" idx="2"/>
            <a:endCxn id="80" idx="3"/>
          </p:cNvCxnSpPr>
          <p:nvPr/>
        </p:nvCxnSpPr>
        <p:spPr>
          <a:xfrm flipH="1">
            <a:off x="1434600" y="6253200"/>
            <a:ext cx="7754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82" idx="6"/>
            <a:endCxn id="81" idx="1"/>
          </p:cNvCxnSpPr>
          <p:nvPr/>
        </p:nvCxnSpPr>
        <p:spPr>
          <a:xfrm>
            <a:off x="6432120" y="6253200"/>
            <a:ext cx="73116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8FA-2599-4662-A166-FCD6A0E068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2760" y="182880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840" y="5513400"/>
            <a:ext cx="208404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5DD-56E4-43BB-BC41-F76E4F08A2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7600" y="182880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825-E431-4D63-A2B9-2E08490615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es any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8000" y="201132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2E6-7AB2-44AD-964D-9CBD442E52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juewang</cp:lastModifiedBy>
  <dcterms:modified xsi:type="dcterms:W3CDTF">2006-10-18T01:15:25Z</dcterms:modified>
  <cp:revision>199</cp:revision>
  <dc:subject/>
  <dc:title>Lecture 09:</dc:title>
</cp:coreProperties>
</file>