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AB4A3-87C1-4009-BBB7-D2CA24CB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may be non-well formed: e.g. &lt;br&gt; without &lt;/br&gt;.  Better: &lt;br/&gt;; XML must be well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has semantics: &lt;br&gt; means newline, &lt;i&gt; means italic etc.  XML has no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D9C-FC9F-40E6-9C25-5D5063D4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FB4-63F6-48A9-B36D-0B2F2D1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97C-F8E6-4A8F-B772-C4663B94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F5C-6300-4E21-BBA1-81A6D89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02A-D0B6-4743-806D-D6E2BCB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DF2-7B1B-4075-B635-5EA81DEB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E3F-65DD-4733-BD94-7BC4DDA9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C7C-F4FC-4EE3-969B-3FCE75C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1FF-764B-4D13-BAC9-2BBFE27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AB6-95DC-4105-A93B-B305ABE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4E5-C403-4CB3-A2C8-AA4016E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239-4B1F-4C2E-8798-5AD0DE4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035-8454-4A06-AA53-99E19B398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XML/" TargetMode="External"/><Relationship Id="rId2" Type="http://schemas.openxmlformats.org/officeDocument/2006/relationships/hyperlink" Target="http://www.w3.org/XML/1999/XML-in-10-points" TargetMode="External"/><Relationship Id="rId3" Type="http://schemas.openxmlformats.org/officeDocument/2006/relationships/hyperlink" Target="http://www.zvon.org/xxl/XMLTutorial/General/book_en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DB5-EA6E-405B-A1AA-DA088FF225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464-53F5-473C-9789-0AFB0065B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6FF-E5BA-4E6B-B7D5-442F771AB3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500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00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AF8-1788-4491-A64C-EC76C781D0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85B-043A-4436-80D3-0D5CAC196C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.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ifferences between XML and HTM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D26-16CE-4A14-B262-AD0B43F9D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50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5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544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CCB-4800-4BEC-BEF4-07B99AF839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07F-0B9F-4273-828A-034C521F3D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225-08A2-4E5E-BCC0-26DB1EFB4A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56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9F6-A367-457D-8B54-ABECA3FE8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E84-2866-4C71-95E0-D82A50F8F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9C7-75EA-4680-9919-60705FFC37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60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2360" y="5009040"/>
            <a:ext cx="3567960" cy="1692360"/>
          </a:xfrm>
          <a:prstGeom prst="wedgeEllipseCallout">
            <a:avLst>
              <a:gd name="adj1" fmla="val -38250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E99-2973-4B5B-A47D-E002A4EFA7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09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B95-B916-4974-A362-4194C48754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6676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3" idx="3"/>
            <a:endCxn id="115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3" idx="5"/>
            <a:endCxn id="116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5" idx="3"/>
            <a:endCxn id="117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5" idx="4"/>
            <a:endCxn id="118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6" idx="3"/>
            <a:endCxn id="119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6" idx="4"/>
            <a:endCxn id="120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7" idx="4"/>
            <a:endCxn id="114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8" idx="3"/>
            <a:endCxn id="121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8" idx="4"/>
            <a:endCxn id="122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8" idx="5"/>
            <a:endCxn id="123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1" idx="4"/>
            <a:endCxn id="124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2" idx="4"/>
            <a:endCxn id="125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3" idx="4"/>
            <a:endCxn id="126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4"/>
            <a:endCxn id="127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0" idx="4"/>
            <a:endCxn id="128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16" idx="5"/>
            <a:endCxn id="144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4"/>
            <a:endCxn id="145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5" idx="2"/>
            <a:endCxn id="148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8" idx="3"/>
            <a:endCxn id="149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53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027-B3D5-445C-B8A6-B0CDEB101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FC0-6F73-43EC-A977-50853249C9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5388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C4B-A087-4B37-8C03-18659AE600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636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5244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232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09C-E8B2-4585-877C-FE468DD2D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24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029200" y="5029200"/>
          <a:ext cx="2133720" cy="15526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358-E868-45AB-8B1C-F4D6B203FC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46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19720" y="5105520"/>
          <a:ext cx="3200400" cy="136656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F91-1E96-466A-9D6F-033D5FE293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16120" y="3822840"/>
            <a:ext cx="1765800" cy="999720"/>
          </a:xfrm>
          <a:prstGeom prst="wedgeEllipseCallout">
            <a:avLst>
              <a:gd name="adj1" fmla="val -8725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066-3028-4968-9DDA-E32F6612F8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1F0-058F-4529-AFE0-64BFEC06FB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recommend rea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XML/1999/XML-in-10-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von.org/xxl/XMLTutorial/General/book_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XPath and 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laxque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830-6269-42C4-A2DF-8CC1EBD09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tags and attributes ar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ded by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ex: DTDs still used wid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DA5-97FA-4A78-92F1-B01504DB75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3EE-8FFE-469C-BDFE-119CF845EE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B3B-9517-46CB-A07E-AA45DF1AA6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5AC-E7C7-44CC-87A8-6EBC71F4F9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0120" y="2489040"/>
            <a:ext cx="4363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08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0480" y="4013280"/>
            <a:ext cx="5301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480" y="5079960"/>
            <a:ext cx="4651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0120" y="6146640"/>
            <a:ext cx="539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14D-25E0-4273-B850-FCA41A4154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exible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databases: e.g. proper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s: e.g. 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markup: e.g.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- a very nast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5040" y="6062400"/>
            <a:ext cx="4894200" cy="576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only XML a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DB0-BC26-4E62-AEEA-8C2422BF8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syntaxes: CSV (comma-separated-values), ASN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: Databa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/transfor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: XM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s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2C7-39E7-44B8-B151-903B9B9336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 have rigid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evolution is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flexible: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not normal form !  Not even 1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ry this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A23-2045-4F68-A588-AC7F5BB76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435-BDF3-46E9-8F95-99FB1B5ED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7FD-6077-4AB8-8392-19B6ED242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345-6DD6-46B1-9138-F6A91B04A7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juewang</cp:lastModifiedBy>
  <dcterms:modified xsi:type="dcterms:W3CDTF">2006-10-18T01:14:25Z</dcterms:modified>
  <cp:revision>227</cp:revision>
  <dc:subject/>
  <dc:title>Lecture 09:</dc:title>
</cp:coreProperties>
</file>