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C5B-1730-43DD-8577-826DC40E6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FF7-FC24-4BC3-9479-9565E608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A3E-3361-4C44-8186-D6A9C2F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F5B-C194-4C22-8253-F9CB0949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1CB-EE40-4863-98A3-ECE2FCF5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799-47DD-470F-A59D-42292A3F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FAC-7F22-4FFC-91DF-BFD5AF10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1A5-8466-451C-9EFF-FB9F6AC0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06E-C486-48CC-BC71-46EFF99A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653-3187-4FBF-A287-5178A5F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810-E6FE-4482-AA36-F14ADA1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0B9-562B-44B4-81B5-C5CAE32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66A-AF99-45D9-A376-1F323C4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BD09-089D-4A62-A7FA-2168C8D7C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8 and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onday, October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052-C8FC-416F-B90D-D0FA42B1C5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FFB-858D-440D-8927-B1F59BC56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A75-BB26-4F36-81EA-2C3FEF507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96D-D407-4259-B747-12587129EB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an FD 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0A0-1234-415E-8D5D-B0B56B43F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0" y="15336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317-DA37-47F5-9F28-0E2304058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7520" y="5334120"/>
            <a:ext cx="26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3623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634-4C8D-4D89-83CF-DBA0C08B75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15200" y="5257800"/>
            <a:ext cx="37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not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919-F455-41D4-83DC-50AB9C5660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27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288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356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71A-B148-4521-95E8-9E69627DDA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310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584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977-1252-4699-96AB-ACB7469D4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397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284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228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284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80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057-BA35-41C9-9D12-F27330E3BF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/Remi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: solutions a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2: posted (due Wed. Oct. 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 due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8D3-258F-4CAE-96D0-AE814FF57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 Find ALL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 occur when certain “bad” FDs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some of th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Ds, then look for the bad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5C8-F904-49AC-999A-F54B4CB04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A37-D961-4799-A488-C414515661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364212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AC9-2A20-4E64-A43B-5CAF89C2BD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89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8016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190-7A5B-41C1-951F-E6A9DD2587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E5C-C787-456D-B0EF-E16B0B847F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92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776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F07-4DB8-4B66-A0C4-84A5BD852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10408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76B-AA47-43C6-AFF1-9A4287695F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2520" y="1625760"/>
            <a:ext cx="7473240" cy="197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the set of attributes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s.t.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4560" y="40413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2800" y="4038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13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6BE-95FF-498C-977A-794F834F1B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0864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936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572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392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58D-9E94-4099-91FE-CD257CE388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780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168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5F9-66F0-4BA3-933E-692B7029E9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9AB-827E-4CFE-9E11-27428D0237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losure we can find all FD’s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i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D3A-0E32-40AC-AD5F-652CA86C63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572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0680" y="32767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760" y="3782160"/>
            <a:ext cx="7962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ABCD, AC+=AC, AD+=ABC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BC+=BCD,  BD+=BD,  CD+=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0480" y="57913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0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F3C-844C-4117-B136-2A1AD9A8E4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1AD-434B-4ADC-84CC-5F9EBE4A96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E34-024B-437C-91BB-CBAD65C7C1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3B7-6FC5-44B9-8E02-8C5F7421DB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380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332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4EB-F765-4CBE-BC60-3D298125E7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380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32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48760" y="533412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) +  = name, category, price,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3800" y="59436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name, category)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4E1-C5F9-4E17-84BF-D8A7149AA2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88760" y="3016080"/>
            <a:ext cx="38109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69840" y="5078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 keys at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009-34D3-40FF-A723-C1EAAB905E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OK if X is a (super)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not OK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D18-2CEF-4A40-9E12-A973393BAC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0720" y="571500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“bad”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2D4-4DE6-4C8F-A2A4-AF6B823F89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store data in relations (= 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 of tabl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tables = First Norm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nomalies = Boyce Codd Norm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FDC-8416-4083-A6CD-23E3432D8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16B-E37B-442D-B1D4-3C196F454D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236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5012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904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8760" y="57913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03760" y="623556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design FDs such that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E93-17B6-47D1-858A-74627149E0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600" y="457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: there are no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984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48520" y="53341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either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)    or  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CCE-45D6-40C1-B2D0-2769AECDF0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BNC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47120" y="59436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coming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B3B-0CF2-4972-97B3-9D56262DA2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0720" y="5715000"/>
            <a:ext cx="31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63E-5F9C-4209-950F-E64614C2E6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8736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A92-A401-4404-A06D-1EAD87F0D0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100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888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04F-BF34-45DD-9FC4-CCB2F883CF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204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EDD-BD9E-4527-8E4E-A6072738E4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096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4208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49280" y="509040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015-B911-4F7D-970B-F6E8D52A91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01920" y="4709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72160" y="380880"/>
            <a:ext cx="1381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81560" y="1828800"/>
            <a:ext cx="4386960" cy="121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2920" y="1778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7960" y="6019920"/>
            <a:ext cx="84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08520" y="2844720"/>
            <a:ext cx="7175880" cy="2158920"/>
            <a:chOff x="1208520" y="2844720"/>
            <a:chExt cx="7175880" cy="2158920"/>
          </a:xfrm>
        </p:grpSpPr>
        <p:sp>
          <p:nvSpPr>
            <p:cNvPr id="327" name=""/>
            <p:cNvSpPr/>
            <p:nvPr/>
          </p:nvSpPr>
          <p:spPr>
            <a:xfrm>
              <a:off x="1208520" y="3581280"/>
              <a:ext cx="3634560" cy="142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,C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BC ≠ 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3440" y="3657600"/>
              <a:ext cx="1920960" cy="8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23" idx="3"/>
              <a:endCxn id="327" idx="0"/>
            </p:cNvCxnSpPr>
            <p:nvPr/>
          </p:nvCxnSpPr>
          <p:spPr>
            <a:xfrm flipH="1">
              <a:off x="3025080" y="2844720"/>
              <a:ext cx="205560" cy="73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3" idx="5"/>
              <a:endCxn id="328" idx="0"/>
            </p:cNvCxnSpPr>
            <p:nvPr/>
          </p:nvCxnSpPr>
          <p:spPr>
            <a:xfrm>
              <a:off x="6318000" y="2844720"/>
              <a:ext cx="1105560" cy="81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294840" y="4700160"/>
            <a:ext cx="5425920" cy="1198080"/>
            <a:chOff x="294840" y="4700160"/>
            <a:chExt cx="5425920" cy="1198080"/>
          </a:xfrm>
        </p:grpSpPr>
        <p:sp>
          <p:nvSpPr>
            <p:cNvPr id="332" name=""/>
            <p:cNvSpPr/>
            <p:nvPr/>
          </p:nvSpPr>
          <p:spPr>
            <a:xfrm>
              <a:off x="294840" y="5105520"/>
              <a:ext cx="196812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B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24920" y="5062320"/>
              <a:ext cx="199584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4" name=""/>
            <p:cNvCxnSpPr>
              <a:stCxn id="327" idx="3"/>
              <a:endCxn id="332" idx="0"/>
            </p:cNvCxnSpPr>
            <p:nvPr/>
          </p:nvCxnSpPr>
          <p:spPr>
            <a:xfrm flipH="1">
              <a:off x="1278720" y="4700160"/>
              <a:ext cx="46908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7" idx="5"/>
              <a:endCxn id="333" idx="0"/>
            </p:cNvCxnSpPr>
            <p:nvPr/>
          </p:nvCxnSpPr>
          <p:spPr>
            <a:xfrm>
              <a:off x="4303800" y="4700160"/>
              <a:ext cx="41976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9E4-1AC9-449D-AD74-5AE3B8BD5A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1312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541044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153-F540-4AAB-9663-4104B2630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96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928-120D-41AE-A5C8-A94C35947F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3504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CFD-F754-45AE-B779-8C3B192D1A0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188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440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0E8-0CCB-49B1-BDFE-1B80C9599A6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788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8960" y="6028560"/>
            <a:ext cx="7226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 is always lossless. 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472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3E5-382C-4EBC-992E-921BC32AEDC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73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880" y="5257800"/>
            <a:ext cx="28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392-E4B3-44E1-A4CD-F06EA0861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707-A5B8-47B1-B8E7-3D6DA33D3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752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24520" y="403848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son may have multiple phones, but lives in only on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B08-582C-4069-A7FE-762B182FC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7584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BA9-448C-4843-A6B4-6AD84DC53A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0-13T03:16:01Z</dcterms:modified>
  <cp:revision>236</cp:revision>
  <dc:subject/>
  <dc:title>Lecture 10</dc:title>
</cp:coreProperties>
</file>