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883-F06C-4C15-9A00-5B45FE39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83C-2D50-423B-9510-267BFF16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AF9-2AA6-4C98-963F-2C7D74FD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5C3-A7E6-43DE-821C-CED9C8DD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D05-71DA-4CF7-B3D1-CE02E667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2CF-1104-4CC9-82A3-CC969F6A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AB1-CBB4-4F28-9ECC-1E5D113D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AA9-7552-443F-9DB6-E2EEAA6C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846-7E5A-4444-A5F3-A2403B21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1E3-3086-4FE1-AE83-8108290E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0F6-4052-4DA0-AA76-B07AE452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7AB-90C9-4CC3-93DA-86086515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BA05-8BEE-41B1-B2FD-86F029DDA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isqlsrv.cs.washington.edu/CSE444/Phase1_Example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cma-international.org/activities/Languages/Introduction%20to%20Csharp.pdf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11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E2D-3052-4643-A02E-FC8CBD59BE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# - Highl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#   =  C++.Sytnax  +   Java.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“safe” language (like Jav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embedded in Web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ccess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, but you should see the predecessor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141-3A62-4A63-9F8B-B13149135B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17160" y="2057400"/>
            <a:ext cx="688644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System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Hello 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void Main() {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ole.WriteLine("Hello world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923-2462-4AFE-AF2E-6B4002D155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6440" y="1523880"/>
            <a:ext cx="4713120" cy="52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class Point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int 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string 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positio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{ return x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 { x = value; c = “red”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ring color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{ return c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{ c = value; x++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: Getters and Se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47640" y="1905120"/>
            <a:ext cx="3836880" cy="39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uvw = new po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.position = 5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.color = “green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.positio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.position * 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uvw.color == “green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0D54-0EA5-45C4-B221-2337A91899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12760" y="18367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ters and setters with […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5800" y="1701720"/>
            <a:ext cx="5820840" cy="308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class Stuff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int x[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this[int i]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{x[2*i+1]=0; return x[2*i]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{ x[2*i] = value; x[2*i+1]=1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01800" y="4724280"/>
            <a:ext cx="39816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ff uvw = new Stuff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[12] = 5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[99] = uvw[12]*7 + 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F0D-9BD0-4571-B3B3-99C538C63F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04760" y="2362320"/>
            <a:ext cx="511416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um Color: byt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= 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= 2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 = 4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 = 0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 = Red | Green | Blu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DF2D-BB8B-4008-99A3-8C966E1F10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fields defined in fil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fields defined in fi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an creates file 1, you create fi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BBD3-1138-4280-9951-00755A99F7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n important class that allows you to interact with a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set = a “mini” database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2C5-42CE-41AA-91CF-A5CF7F6E41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22320" y="1676520"/>
            <a:ext cx="723384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myLocalDB = new DataSe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/* create inside a table called “books”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/* (this is shown on a following slide)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now use “books”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Table x = myLocalDB.Tables[“books”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ch (DataRow y in x.Rows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y[“title”] == “Harry Potter”) y[“price”]++;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97C-BD92-46D8-8BCC-7464B0BEC4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ng to a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or edit web.confi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iisqlsrv, user, 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a ‘nam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Sql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‘nam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SqlDataAda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 SQL query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the Fill( ) method to run query and store answers in a data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54E-2575-4C37-A002-2878DE8813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2480" y="1930320"/>
            <a:ext cx="828072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create inside a table called “books”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Connection c = new SqlConnection( . . . “name” . . .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q = “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select title, price ye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from produ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where price &lt; 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DataAdapter a = new SqlDataAdapter(q, 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myLocalDB = new DataSe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Fill(myLocalDB, “books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ng to a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96920" y="3561120"/>
            <a:ext cx="3368520" cy="1692360"/>
          </a:xfrm>
          <a:prstGeom prst="wedgeEllipseCallout">
            <a:avLst>
              <a:gd name="adj1" fmla="val -61185"/>
              <a:gd name="adj2" fmla="val -10166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= a string !!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impeda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mat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6B0-2E06-44B9-B1E6-AD0ED75A59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2: Import sampl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CB7-F053-48B8-BF9D-BFFDB696B4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have to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_Code/Phase1/Billing and Shipping/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280" y="3429000"/>
            <a:ext cx="6101640" cy="308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partial class Customer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add your own fields, like: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int i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List&lt;invoice&gt; GetInvoices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your GetInvoices code goes here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EB2-17B5-4745-BBA3-010B6CD669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040" y="1676520"/>
            <a:ext cx="872280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your GetInvoices code goes here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s = String.Format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@“SELECT 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FROM …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WHERE x.customerId = {0} …”, i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Context store = StoreContext.curr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ds = new DataSet(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Table invoices = store.GetDataTable(s, ds, “invoices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continued on next slide….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81400" y="1905120"/>
            <a:ext cx="2161800" cy="1172520"/>
          </a:xfrm>
          <a:prstGeom prst="wedgeEllipseCallout">
            <a:avLst>
              <a:gd name="adj1" fmla="val -60972"/>
              <a:gd name="adj2" fmla="val 109481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for {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56720" y="3581280"/>
            <a:ext cx="2099880" cy="1172520"/>
          </a:xfrm>
          <a:prstGeom prst="wedgeEllipseCallout">
            <a:avLst>
              <a:gd name="adj1" fmla="val -98611"/>
              <a:gd name="adj2" fmla="val 13302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43D-F187-4E56-B981-E89A1B26D1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4160" y="1752480"/>
            <a:ext cx="718956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… continued from previous slide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&lt;Invoice&gt; invoiceList new List&lt;Invoice&gt; (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ch(datarow r in invoices.Rows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iceList.Add(new Invoice( r 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invoice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01600" y="4648320"/>
            <a:ext cx="3296880" cy="1172520"/>
          </a:xfrm>
          <a:prstGeom prst="wedgeEllipseCallout">
            <a:avLst>
              <a:gd name="adj1" fmla="val -52736"/>
              <a:gd name="adj2" fmla="val -6930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you ne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mplemen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B7C-ED05-40F8-8EB1-C827124437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1520" y="1676520"/>
            <a:ext cx="823968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partial class Invoice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voice(DataRow invoiceData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here goes your code, something like that: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(invoiceData);   /* may need it in several places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void init(DataRow invoiceData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iceId  = (int) invoiceData[“invoiceId”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Date = (DateTime) invoiceData[“date”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400" y="6019920"/>
            <a:ext cx="2292120" cy="652680"/>
          </a:xfrm>
          <a:prstGeom prst="wedgeEllipseCallout">
            <a:avLst>
              <a:gd name="adj1" fmla="val 9324"/>
              <a:gd name="adj2" fmla="val -8864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18560" y="6019920"/>
            <a:ext cx="2300400" cy="652680"/>
          </a:xfrm>
          <a:prstGeom prst="wedgeEllipseCallout">
            <a:avLst>
              <a:gd name="adj1" fmla="val 20583"/>
              <a:gd name="adj2" fmla="val -111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you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D0B-44D6-4FDC-8E69-378EEE9885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Estim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1: about 9 tables or so, 2 hours o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2: try 2 tuples per table, 1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3: here’s when you’ll discover that tasks 1 and 2 are bad: DROP TABLEs then go to Task 1 (should be faster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).  Total time here: 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an will be in the lab for questions: WHE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077-0A1A-48ED-BA1B-384CC4C4B9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ial requi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project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a “good” database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9B5-2922-44BC-84ED-FED5F43C42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should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description AND look inside the starter code App_code/Provided/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classes, determine the field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130-5D73-43CB-B65F-D70A919F5E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al: draw an E/R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econd file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8280" y="2819520"/>
            <a:ext cx="4649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 (   . . 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ice (   . . 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36400" y="4495680"/>
            <a:ext cx="3310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4A7-DF88-4759-8058-AA39C26D2A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to worry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/foreign keys: note table order matte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represent all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-able or not (don’t worry too much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not to worry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name or FirstName or PersonFirst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char(20) or char(200) or varchar(120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8A0-D6B8-48CA-9EAB-EDCE0AA3E8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2: Import Sampl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ay need to run thi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02080" y="1752480"/>
            <a:ext cx="42786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 (   . . 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‘John’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 (   . . 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‘Sue’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36400" y="4495680"/>
            <a:ext cx="3310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41A-7080-43F3-BAB4-7F8F765D0E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rter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.NET (you do not need to understand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rovides a Website for accessing your online store BUT it misses the fragments of code that get the data from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iisqlsrv.cs.washington.edu/CSE444/Phase1_Example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0FE-60BA-4CBC-9315-D2F4E03520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# - Crash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 (getters/set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set: DataTable, Data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ng to a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9120" y="5943600"/>
            <a:ext cx="75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cma-international.org/activities/Languages/Introduction%20to%20Csharp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0084-8259-4442-8FA9-3D5F3F8402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suciu</cp:lastModifiedBy>
  <dcterms:modified xsi:type="dcterms:W3CDTF">2006-10-11T03:19:43Z</dcterms:modified>
  <cp:revision>391</cp:revision>
  <dc:subject/>
  <dc:title>PowerPoint Presentation</dc:title>
</cp:coreProperties>
</file>