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909-B33C-425B-A116-AC44C28A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B6A-BDCE-4A7E-8857-A0E51ACF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2E9-E51B-4FCF-8A52-0D865D6F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2E1-E554-4170-9DF5-F873E799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FB6-E9E6-43B0-A0DE-547331D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7E9-3DF7-4570-BAE7-A53EA38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61E-542A-44FA-9ADF-D24B289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AD0-7569-45D6-BF84-B72240D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9C2-F27A-411B-ABAF-6CD0F6DE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C11-8DE0-4BC0-9286-45B3FCF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0A0-E32D-4F7E-982A-D111FA9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CFA-B7D6-40BC-9BA9-53DC680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7F6-45D1-48EE-AD08-28FA205BB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9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9CF-F059-46C8-921A-CEA57658D8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4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A67-22AF-4620-81DD-994C298C8C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680" y="5943600"/>
            <a:ext cx="779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C76-75D5-473D-B295-707A2D15F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680" y="5943600"/>
            <a:ext cx="7794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store sells to every person at most on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AF9-2CEF-4AE6-B371-C62F8782B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0740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do we say that every person shops at at most one st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5120" y="5943600"/>
            <a:ext cx="537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annot.  This is the best approxim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only approxi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96B-89D1-4AE3-878A-669B303555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0AD-0BBE-4DB8-B8D1-4C25BDAD61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CEA-7689-414F-ACF4-954AD70F9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5B7-77B1-4EF1-A9A4-D729373A20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92E-6FA2-43DA-A5A2-688CA3549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322-2F31-418A-9317-21D073874C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832-2607-4C94-966E-9CED758271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, normal 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this is hard, come to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71E-E1A3-4DC9-A0A7-E6F97CB3B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296" idx="0"/>
            <a:endCxn id="311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296" idx="0"/>
            <a:endCxn id="297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6" idx="0"/>
            <a:endCxn id="298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294" idx="0"/>
            <a:endCxn id="305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294" idx="3"/>
            <a:endCxn id="295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CA0-BA33-4B29-BCAB-5B15B48091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22" idx="0"/>
            <a:endCxn id="33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22" idx="0"/>
            <a:endCxn id="32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22" idx="0"/>
            <a:endCxn id="32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20" idx="0"/>
            <a:endCxn id="33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20" idx="3"/>
            <a:endCxn id="32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27B-0752-4376-A18B-C953CE9F4E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90D-67C6-44D4-9CBE-9C477F3412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071-189D-4ADA-A457-9DAFCDA183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FDD-B0B9-4942-92C9-B6CF5CC028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397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00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03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15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18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21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AD3-248E-4C06-9B70-DE4AF464C8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28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7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CFA-824F-445A-B145-C4B7C4686B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55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B78-481A-4C4A-96A0-75AA27AB83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475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FDC-71A3-4BA9-90AA-C6E8A9540E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491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53341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026-8D47-4FAE-ADE6-6CB9D686F8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ormalisms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DAE-E81C-4A17-8850-F0439F5386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08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5BB-F83C-40CB-95CA-539B95E31E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15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9D2-D9D6-4869-A160-EEFFB1F029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28" idx="0"/>
            <a:endCxn id="526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9" idx="0"/>
            <a:endCxn id="532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6" idx="0"/>
            <a:endCxn id="531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2" idx="0"/>
            <a:endCxn id="531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960-B780-46D9-83DE-12BCCB9DF4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7C4-394A-447C-9B3B-112B7B6F1D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9C8-45EB-408F-A1C4-9FCB91C56A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8492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0400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68D-4DA4-4A22-BA5A-6CB2570B89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6164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8460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531-001B-4B9D-A238-FAE5D3CAC7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92D-C5A3-4BB1-9AA2-9D2CE2B52E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916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BCA-3C37-48E3-A78D-F3DD2D3EC1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872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CF5-A84B-43E6-927E-04B5322B38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DAF-0D8E-4AF5-AD5E-A7FCB7D75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1600200"/>
            <a:ext cx="6400800" cy="3581280"/>
            <a:chOff x="1371600" y="1600200"/>
            <a:chExt cx="6400800" cy="3581280"/>
          </a:xfrm>
        </p:grpSpPr>
        <p:sp>
          <p:nvSpPr>
            <p:cNvPr id="59" name=""/>
            <p:cNvSpPr/>
            <p:nvPr/>
          </p:nvSpPr>
          <p:spPr>
            <a:xfrm>
              <a:off x="1371600" y="350532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16002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6576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971440" y="2286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337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48769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638680" y="4343400"/>
              <a:ext cx="609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1" idx="0"/>
              <a:endCxn id="56" idx="2"/>
            </p:cNvCxnSpPr>
            <p:nvPr/>
          </p:nvCxnSpPr>
          <p:spPr>
            <a:xfrm flipV="1">
              <a:off x="7010280" y="2666520"/>
              <a:ext cx="49608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grpSp>
          <p:nvGrpSpPr>
            <p:cNvPr id="69" name=""/>
            <p:cNvGrpSpPr/>
            <p:nvPr/>
          </p:nvGrpSpPr>
          <p:grpSpPr>
            <a:xfrm>
              <a:off x="152280" y="457200"/>
              <a:ext cx="4038840" cy="1828440"/>
              <a:chOff x="152280" y="457200"/>
              <a:chExt cx="4038840" cy="1828440"/>
            </a:xfrm>
          </p:grpSpPr>
          <p:sp>
            <p:nvSpPr>
              <p:cNvPr id="70" name=""/>
              <p:cNvSpPr/>
              <p:nvPr/>
            </p:nvSpPr>
            <p:spPr>
              <a:xfrm>
                <a:off x="11430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432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teg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2280" y="1371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142640" y="198072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905120" y="1142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514600" y="1142640"/>
                <a:ext cx="7621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295280" y="5486400"/>
              <a:ext cx="6705720" cy="1219320"/>
              <a:chOff x="1295280" y="5486400"/>
              <a:chExt cx="6705720" cy="1219320"/>
            </a:xfrm>
          </p:grpSpPr>
          <p:sp>
            <p:nvSpPr>
              <p:cNvPr id="77" name=""/>
              <p:cNvSpPr/>
              <p:nvPr/>
            </p:nvSpPr>
            <p:spPr>
              <a:xfrm>
                <a:off x="1295280" y="601992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8620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5308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590920" y="5486400"/>
                <a:ext cx="1676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7080" y="54864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9200" y="5486400"/>
                <a:ext cx="1676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391520" y="685800"/>
              <a:ext cx="1600200" cy="2971800"/>
              <a:chOff x="7391520" y="685800"/>
              <a:chExt cx="1600200" cy="2971800"/>
            </a:xfrm>
          </p:grpSpPr>
          <p:sp>
            <p:nvSpPr>
              <p:cNvPr id="84" name=""/>
              <p:cNvSpPr/>
              <p:nvPr/>
            </p:nvSpPr>
            <p:spPr>
              <a:xfrm>
                <a:off x="7543800" y="29718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91520" y="685800"/>
                <a:ext cx="144756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772400" y="129528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56" idx="2"/>
                <a:endCxn id="84" idx="0"/>
              </p:cNvCxnSpPr>
              <p:nvPr/>
            </p:nvCxnSpPr>
            <p:spPr>
              <a:xfrm>
                <a:off x="7505280" y="2666520"/>
                <a:ext cx="762840" cy="30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2B5-FA6F-411B-8DD7-BFCFE3ED2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454-5BF0-4787-A6B4-B6329BDE2C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00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821040" y="5843520"/>
            <a:ext cx="746280" cy="67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5640" y="5992920"/>
            <a:ext cx="108288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6180120"/>
            <a:ext cx="104616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67320" y="618012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84080" y="6180120"/>
            <a:ext cx="33660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0BB-69F9-49DB-8040-5DDAAC68A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31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7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40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A3D-FC15-40CB-A62D-C49CBA731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58" idx="0"/>
            <a:endCxn id="159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9" idx="2"/>
            <a:endCxn id="163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65E-C454-4134-A662-B5BCA737FB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10-09T01:31:36Z</dcterms:modified>
  <cp:revision>396</cp:revision>
  <dc:subject/>
  <dc:title>PowerPoint Presentation</dc:title>
</cp:coreProperties>
</file>