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D0D-66E7-4F6C-9C73-33EEB50E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E20-77E0-45E7-9E09-076CD18D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7B5-853B-4361-B58D-DDC3B84B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3C3-8735-4F9C-90B9-1463DF7F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7BB-201C-46AD-8BD3-1F48169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323-8BA3-4D1C-A50B-08A6034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0CB-8233-465A-95A9-6F2BD86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A64-B36D-4DA8-B7CC-8ECB606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D6F-25FE-422D-91AF-388043CE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5F3-226A-4D00-8CDD-E991B36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B1E-7428-4BF1-A07B-B8D275C4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813-910C-4813-B915-A680334F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E87-E74A-4665-9B28-6E0275B58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,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ADE-0011-4F73-9768-30004BCF6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8280" y="2362320"/>
            <a:ext cx="401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Joe’,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8640" y="46386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? ? ?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5480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480" y="5319000"/>
            <a:ext cx="30110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06080" y="5565600"/>
            <a:ext cx="2062800" cy="825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view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360" y="3276720"/>
            <a:ext cx="4771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20" y="152388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0F0-0B14-472B-BCD7-8C15D395E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CB7-924A-4E18-9CEA-7E13016706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7CB-423D-4C79-B25C-8CF485ABB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478-1F2A-490E-B153-49B6786E8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168-75BF-488E-89DC-4C9614F5C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600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4AC-23EE-460C-8D05-1417998415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AFF-FC76-4E1F-A394-CB4FECFE8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9051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A3A-7345-483C-BF5A-966EB60AF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42F-59B0-4E73-BDA3-9ADDA2FEC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79E-2C65-4A8C-ABEB-79CD2AA4F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330-98B5-4259-AD89-6DACE38CD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983-0C70-4E60-A492-951BB3F66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7F7-5171-40CA-B8C9-468F94D664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4D7-4D8B-4030-BF24-1913F56744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84C-030C-44BB-9FF3-AA441290D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A73-6D40-4F44-AE8C-5DE886621F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83C-BAAB-4F74-9B8C-A2D3D0D58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2400" y="2819520"/>
            <a:ext cx="63194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960" y="14256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9160" y="556272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2160" y="563868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11F-C004-4DA0-A915-D669AC25F4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53440" y="41911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960" y="9144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4080" y="198108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C07-619E-4EF1-B0F8-9D6E797E2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344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8320" y="44686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CA8-0E29-4B10-905B-218934405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F7B-8284-4390-9796-48579E642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040" y="3276720"/>
            <a:ext cx="5175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Expensive-Prod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7400" y="2693880"/>
            <a:ext cx="3382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Expensive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Gizm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7640" y="5056200"/>
            <a:ext cx="3582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Gizmo’,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343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640" y="144792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8440" y="5165640"/>
            <a:ext cx="22208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4D8-6957-47C5-A0EB-0730CAAC2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00" y="3619440"/>
            <a:ext cx="4758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cme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ustomer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ore = ‘AcmeStor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1800" y="2362320"/>
            <a:ext cx="3382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oy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Joe’, ‘Gizm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38760" y="4191120"/>
            <a:ext cx="4193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Joe’,’Gizmo’,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73320" y="5551200"/>
            <a:ext cx="1099080" cy="1172520"/>
          </a:xfrm>
          <a:prstGeom prst="wedgeEllipseCallout">
            <a:avLst>
              <a:gd name="adj1" fmla="val 87555"/>
              <a:gd name="adj2" fmla="val -7215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20" y="152388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9360" y="5326200"/>
            <a:ext cx="22208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DEC-BF82-4E9A-B850-FE791D465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suciu</cp:lastModifiedBy>
  <dcterms:modified xsi:type="dcterms:W3CDTF">2006-10-06T03:16:52Z</dcterms:modified>
  <cp:revision>329</cp:revision>
  <dc:subject/>
  <dc:title>PowerPoint Presentation</dc:title>
</cp:coreProperties>
</file>