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321-1EC3-4435-9844-0C57004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5B5-B5F4-4874-A9D1-4496228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407-8D46-4406-874A-3B56D53A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DE0-9986-4C55-9A2C-AC240FAD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F43-038D-4970-9C1D-D293730E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EEC-639B-4208-B60F-05BF7EC9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BCC-DCC8-4A42-BA38-985DEDF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2C9-5594-4E38-9917-84455C7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114-D244-4C2C-B029-5C6CA35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254-23FE-45D0-B9B6-113AEF8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4D8-9FED-420E-A9AA-4818E91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1A3-8B1C-4E4A-BCC5-B7C469A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B1A-AC14-41C0-8599-A637D397F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4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2D8-230F-458B-A23D-35B604308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FE4-2CC8-4AA0-9894-0F6CD602F2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 = “inner joins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6200" y="2819520"/>
            <a:ext cx="6944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8680" y="4495680"/>
            <a:ext cx="59691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1240" y="441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8480" y="5943600"/>
            <a:ext cx="525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5E9-D152-48E9-852E-3D82B5ACC3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682-2291-42B6-8111-F91B671FD6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9D5-BDF6-4CD8-AD05-3C4707478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288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84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38F-9AF6-4DBE-B180-389664D19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148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04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02E-0921-4B09-884E-490048F36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589-27F4-49C9-9C52-C3A9317B78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E52-E5FB-4D6D-937D-1B69E84D7D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449-E032-4ED3-9ADD-499ACC441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109-EBC2-41C4-A30C-E426214987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F1B-BD9D-44EF-89EC-B18B2BCD3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5D3-AC76-41EF-9F15-815F92003B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56-627F-4FAA-AC1E-1B6B4EEA81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05C-2F7F-4C1A-A516-B15FDFB58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25D-8910-4CCE-BCE9-EB9FDB241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445-D0E8-4094-9FFC-5A00FDFC54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44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0CC-9A96-4B05-B074-715AE86FC2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1600" y="2082960"/>
            <a:ext cx="746064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08E-F6E9-4C35-B188-E8E77D7787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972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B00-E31E-4F57-8B6D-2659D3CBE8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640" y="2514600"/>
            <a:ext cx="807012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CHAR(1)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3EA-C57D-4604-8130-DA5EDE5F6E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A77-0276-482D-BAFF-1155590FBA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tique online music and book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atabase, access through a 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real data and develop inventory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check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functionality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C96-830D-41BE-A152-6DEF3C847B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90720" y="45720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47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114800"/>
            <a:ext cx="106704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4680" y="5638680"/>
            <a:ext cx="568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B80-7625-404E-ABFA-A1B6626447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F23-1147-494C-A21C-877AD92AF8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70C-56C1-4A7C-9676-BBFC738F00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176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179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182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185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97B-5BB8-4C9A-89B2-0A1A7BE644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build an index on every attribute ? On every pair of attributes ?  Etc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 selection problem is hard: balance the query cost v.s. the update cost, in a large application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D33-6FD4-4644-8876-22CAA377B6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artner by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tudi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069-2A5A-4CE0-9A29-7D1C977FA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: posted today, due October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partner by Friday (“Phase 0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e the database: fake data for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a simple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ABD-D7AA-48AB-86F1-96D799CBC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F9C-99F6-4237-9BAD-F7675F497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A2B-6F9C-42C5-959D-0A2CA3370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C7A-16F4-4C5B-8B3E-4C7E07E8F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A98-4605-477F-9CF7-8C9206BCC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10-04T14:03:06Z</dcterms:modified>
  <cp:revision>225</cp:revision>
  <dc:subject/>
  <dc:title>PowerPoint Presentation</dc:title>
</cp:coreProperties>
</file>