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F8C0-6316-435F-B003-D1A2F728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567E-1BD0-47E0-918A-CEED1399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F3E1-2EB9-400D-9F18-66F53265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BED3-4CC5-4779-B64E-BC7F8ADF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9527-6485-4035-BDB4-C41C98CF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EC5A-E780-4551-B919-88223741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CE57-E4B2-4239-A0B1-DA180E4C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6249-57C0-4F0B-B95D-4EFAD671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142F-0ECA-4E23-ABCB-C5576A45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6095-5ADB-4847-9F06-5B92ADDD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57BA-0C60-45A6-93C6-DD6332D9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A6B5-933E-47D2-AB02-F5C7F450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3C34-D8B9-4149-80B2-06A808EDB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3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October 2nd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9B27-DF30-46F1-B166-27208C7D75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EL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160" y="4648320"/>
            <a:ext cx="73494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date &gt; ‘10/1/200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8600" y="1981080"/>
          <a:ext cx="4038480" cy="18259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891000"/>
                <a:gridCol w="1128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562720" y="1905120"/>
          <a:ext cx="3429000" cy="180324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</a:tblGrid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talS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4419720" y="2666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F873-3889-4BD0-8412-4679666900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 BY v.s. Nested Quer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120" y="1523880"/>
            <a:ext cx="7273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‘10/1/200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6960" y="3505320"/>
            <a:ext cx="862668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product,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y.price*y.quantit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product = y.produ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AND y.date &gt; ‘10/1/2005’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x.date &gt; ‘10/1/200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1B43-5D8D-4988-981E-5528E23BC1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9520" y="3048120"/>
            <a:ext cx="6156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sum(price * quantity) AS Sum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(quantity) AS Max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44720" y="1661400"/>
            <a:ext cx="208908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85A5-C2DB-4967-9F2A-71D1EEDB0A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ING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480" y="3352680"/>
            <a:ext cx="5595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‘10/1/200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um(quantity) &gt;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560" y="160020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query, except that we consider only products that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 100 bu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8120" y="560376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clause contains conditions on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36A3-E018-4F9E-8B46-FA5636482D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may contain attribute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/or any aggregates but NO OTHER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 = is any condition on the attributes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 = is any condition on aggregate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280640" y="3276720"/>
            <a:ext cx="1399680" cy="652680"/>
          </a:xfrm>
          <a:prstGeom prst="wedgeEllipseCallout">
            <a:avLst>
              <a:gd name="adj1" fmla="val -26962"/>
              <a:gd name="adj2" fmla="val 17293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F5F2-CAA2-4097-AD8B-AD074AAD20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4114800"/>
            <a:ext cx="778536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 FROM-WHERE, apply condition 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 the attributes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condition C2 to each group (may have aggreg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aggregates in S and return the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88640" y="1981080"/>
            <a:ext cx="2691000" cy="21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6BCE-6824-45C3-9B9F-BEED3ABED2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ced SQ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around INTERSECT and EX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f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 v.s. sub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examples (study at ho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E0CD-D5C9-4E79-8004-794727AEB9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INTERSECT and EXCEP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4360" y="2286000"/>
            <a:ext cx="22107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INTERS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.A, S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2120" y="2286000"/>
            <a:ext cx="4883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I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=S.A and R.B=S.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2895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0680" y="4495680"/>
            <a:ext cx="22107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.A, S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080" y="4495680"/>
            <a:ext cx="4883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I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=S.A and R.B=S.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5105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35520" y="1143000"/>
            <a:ext cx="2540880" cy="1862280"/>
          </a:xfrm>
          <a:prstGeom prst="wedgeEllipseCallout">
            <a:avLst>
              <a:gd name="adj1" fmla="val -57675"/>
              <a:gd name="adj2" fmla="val 4325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R, S have n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plicates, then ca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rite witho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queri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HOW 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5080" y="151560"/>
            <a:ext cx="6001920" cy="50940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 and EXCEPT: not in SQL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4EA2-5A62-432F-B6A5-B59D0A2DDA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0800" y="2057400"/>
            <a:ext cx="441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omp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 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4160" y="3352680"/>
            <a:ext cx="77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mpanies that mak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s with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4960" y="4648320"/>
            <a:ext cx="75189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,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 = Product.company and Product.price &lt;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44320" y="5884920"/>
            <a:ext cx="36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Existential: easy  ! </a:t>
            </a:r>
            <a:r>
              <a:rPr b="0" lang="en-US" sz="3200" spc="-1" strike="noStrike">
                <a:solidFill>
                  <a:srgbClr val="ff505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7C63-6241-4FCB-B6A5-9896CEBA3D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0800" y="2057400"/>
            <a:ext cx="441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omp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 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5720" y="4495680"/>
            <a:ext cx="75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mpanies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ir products have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4000" y="5562720"/>
            <a:ext cx="34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Universal: hard !  </a:t>
            </a:r>
            <a:r>
              <a:rPr b="0" lang="en-US" sz="3200" spc="-1" strike="noStrike">
                <a:solidFill>
                  <a:srgbClr val="ff505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6800" y="3276720"/>
            <a:ext cx="76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mpanies that mak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s with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47640" y="388620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9E15-2C79-472D-8703-A3A3BDCFEA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queries (6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s (6.4.3 – 6.4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, examples, example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entire chapter 6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0102-4690-423D-87C1-FC543641E6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8880" y="434340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Find all companies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 products have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4320" y="1828800"/>
            <a:ext cx="71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oth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ies: i.e.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2480" y="2438280"/>
            <a:ext cx="651024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comp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.price &gt;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6280" y="4952880"/>
            <a:ext cx="708624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comp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.price &gt;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C1AA-2AD6-4D2A-8358-3B09AFED6E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Group-by v.s. Nes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2666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uthors who wrot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1: with nested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2520" y="4038480"/>
            <a:ext cx="7163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.ur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login=Wrote.logi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55280" y="2666880"/>
            <a:ext cx="1713960" cy="1692360"/>
          </a:xfrm>
          <a:prstGeom prst="wedgeEllipseCallout">
            <a:avLst>
              <a:gd name="adj1" fmla="val -96763"/>
              <a:gd name="adj2" fmla="val 333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0600" y="1447920"/>
            <a:ext cx="34315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uthor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logi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na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rote(login,ur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8CBF-CF68-4A4B-B39E-E78E2D8AD1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Group-by v.s. Nes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wrote at least 10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2: SQL style (with GROUP B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30960" y="3962520"/>
            <a:ext cx="5004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, Wr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login=Wrote.lo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wrote.url)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82920" y="3733920"/>
            <a:ext cx="1859400" cy="1692360"/>
          </a:xfrm>
          <a:prstGeom prst="wedgeEllipseCallout">
            <a:avLst>
              <a:gd name="adj1" fmla="val -93222"/>
              <a:gd name="adj2" fmla="val -3424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97480" y="6137280"/>
            <a:ext cx="72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utomatically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F908-40E3-4BB7-BCAB-63D14863D3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Group-by v.s. Nes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3429000"/>
            <a:ext cx="7610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uthors with vocabular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000 w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1560" y="4321080"/>
            <a:ext cx="8736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Author, Wrote, M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Author.login=Wrote.login AND Wrote.url=Mentions.u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distinct Mentions.word) &gt; 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960" y="1676520"/>
            <a:ext cx="30168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hor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logi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rote(login,ur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entions(url,w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E5D7-C61B-4289-9FC0-89CC137D14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6520" y="2187720"/>
            <a:ext cx="458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ore(sid, s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(pid, pname, price, s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4320" y="3886200"/>
            <a:ext cx="784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stores that se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s with price &gt;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stores s.t. all their products have price &gt; 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08AE-C0A3-4F64-A073-9590261FD9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6960" y="130320"/>
            <a:ext cx="4554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Product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,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&lt; min(Product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50800" y="4494240"/>
            <a:ext cx="57848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price &lt;=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86840" y="2133720"/>
            <a:ext cx="8877600" cy="2288520"/>
            <a:chOff x="186840" y="2133720"/>
            <a:chExt cx="8877600" cy="2288520"/>
          </a:xfrm>
        </p:grpSpPr>
        <p:sp>
          <p:nvSpPr>
            <p:cNvPr id="144" name=""/>
            <p:cNvSpPr/>
            <p:nvPr/>
          </p:nvSpPr>
          <p:spPr>
            <a:xfrm>
              <a:off x="3086280" y="2133720"/>
              <a:ext cx="5978160" cy="228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Store.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100 &lt;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AL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Product.pric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produc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Store.sid = Product.si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6840" y="2895480"/>
              <a:ext cx="273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most equivalent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891040" y="699480"/>
            <a:ext cx="2278800" cy="652680"/>
          </a:xfrm>
          <a:prstGeom prst="wedgeEllipseCallout">
            <a:avLst>
              <a:gd name="adj1" fmla="val -104824"/>
              <a:gd name="adj2" fmla="val 6934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both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59D6-72E7-4FEF-B7C1-318EF14F71B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6160" y="2187720"/>
            <a:ext cx="458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or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s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pname, price, s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240" y="3886200"/>
            <a:ext cx="464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stor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its most expensive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1F31-18A1-4F44-AE44-7DA5331A54F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800" y="1905120"/>
            <a:ext cx="5392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name, max(Product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Product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, Store.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0640" y="3962520"/>
            <a:ext cx="586692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name, x.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x.si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price &gt;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id = y.s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5720" y="152388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easy but doesn’t do what we w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2040" y="369900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200" y="4724280"/>
            <a:ext cx="196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m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nam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7FFA-812C-4C5B-85F2-7D87547694E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8200" y="2743200"/>
            <a:ext cx="586692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name, max(x.p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x.si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price &gt;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id = y.sid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3560" y="1565280"/>
            <a:ext cx="676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, choose some pid arbitrarily, if there are m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highest pr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ADC7-8F09-41FC-8D5C-7DD2F0F64B0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86880" y="1905120"/>
            <a:ext cx="2951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03240" y="5562720"/>
            <a:ext cx="70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count, all aggregations apply to a single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2720" y="1905120"/>
            <a:ext cx="3562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vg(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“Toyo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0760" y="3657600"/>
            <a:ext cx="576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supports several aggregation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, count, min, max, av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94DD-BB6F-4368-A81A-061DAF5678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1560" y="1946160"/>
            <a:ext cx="70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  applies to duplicates, unless otherwise sta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3440" y="2819520"/>
            <a:ext cx="3525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categor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320" y="274320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6120" y="434340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probably w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0840" y="5029200"/>
            <a:ext cx="4912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: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97D0-7EAC-48C4-9333-4AA6384516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27760" y="1981080"/>
            <a:ext cx="49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4280" y="3352680"/>
            <a:ext cx="4129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7960" y="5029200"/>
            <a:ext cx="412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 = ‘bag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41600" y="4024080"/>
            <a:ext cx="234144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2465-BA6D-4DB8-9108-FA24D07A96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ggreg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9700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90720" y="1905120"/>
          <a:ext cx="6476760" cy="2895480"/>
        </p:xfrm>
        <a:graphic>
          <a:graphicData uri="http://schemas.openxmlformats.org/drawingml/2006/table">
            <a:tbl>
              <a:tblPr/>
              <a:tblGrid>
                <a:gridCol w="1619280"/>
                <a:gridCol w="1618920"/>
                <a:gridCol w="1619280"/>
                <a:gridCol w="1619280"/>
              </a:tblGrid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Qua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459360" y="5181480"/>
            <a:ext cx="412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 = ‘bag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29760" y="556272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 (= 20+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9B4E-85D1-4A4D-961F-2295B25105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3320" y="1641600"/>
            <a:ext cx="49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160" y="3733920"/>
            <a:ext cx="73494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date &gt; ‘10/1/200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48320" y="5985000"/>
            <a:ext cx="36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this mea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0720" y="2590920"/>
            <a:ext cx="55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otal sales after 10/1/2005 per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454-D7A6-496F-A798-A288827C44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2240" y="2209680"/>
            <a:ext cx="843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ompute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Group by the attributes in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Compute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: grouped attributes and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B389-6FB0-4AAB-840B-BE97C6CEB7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&amp;2. FROM-WHERE-GROUP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2438280"/>
          <a:ext cx="6477120" cy="2894040"/>
        </p:xfrm>
        <a:graphic>
          <a:graphicData uri="http://schemas.openxmlformats.org/drawingml/2006/table">
            <a:tbl>
              <a:tblPr/>
              <a:tblGrid>
                <a:gridCol w="1619280"/>
                <a:gridCol w="1619280"/>
                <a:gridCol w="1619280"/>
                <a:gridCol w="1619280"/>
              </a:tblGrid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Qua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D339-9383-4874-95FC-58EA67B7C5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6-10-02T01:09:22Z</dcterms:modified>
  <cp:revision>328</cp:revision>
  <dc:subject/>
  <dc:title>PowerPoint Presentation</dc:title>
</cp:coreProperties>
</file>