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62DB-F5D1-4ADF-A3AE-674CBA4E4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4D49-215F-49CF-92B6-42A0E54A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B68F-95FD-4044-B8EC-30B7FD2A5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5778-DDD4-410C-BC55-2FE2B286D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2E8B-F314-456A-862C-0C5FB59D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ED55-5927-48E9-BA46-F3941902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A5D3-E592-4A79-BD8D-F5F3A53C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18B5-ED1A-45E9-9539-6E850ABA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C9D4-3354-4DB2-B567-81B09276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57AB-C606-4C9B-AAE7-DF3D13EA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D729-B884-42B9-81A4-AC1890BE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F40D-9A87-4FAA-B6E5-88322F24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9AE3-178B-4AF4-BF53-F6F476B0E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philip.greenspun.com/sql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2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September 29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5EF6-6872-411A-8C50-E4E3658F04E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s Explai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uple = a rec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riction: all attributes are of atomic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able = a set of tu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a lis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it is unorderd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st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8E1F-48C0-4679-90AD-A9C0CF5E0B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9280" y="2666880"/>
            <a:ext cx="686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form: (plus many many more bells and whist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9240" y="3957480"/>
            <a:ext cx="44496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attribut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&lt;one or more relation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condition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635E-CC62-47E3-AF8A-CA633491B4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SQL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352680" y="1981080"/>
          <a:ext cx="5410080" cy="167508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231840" y="3809880"/>
            <a:ext cx="39193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*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=‘Gadget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64480" y="198108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19920" y="3962520"/>
            <a:ext cx="609480" cy="6094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276720" y="5257800"/>
          <a:ext cx="5410080" cy="100476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271800" y="5852160"/>
            <a:ext cx="2175840" cy="64980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39D0-B74D-47D7-B7C4-F9FA33B305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SQL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352680" y="1981080"/>
          <a:ext cx="5410080" cy="167508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230760" y="3809880"/>
            <a:ext cx="50180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Name, Price, Manufacturer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4480" y="198108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3962520"/>
            <a:ext cx="609480" cy="6094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114800" y="5257800"/>
          <a:ext cx="4057560" cy="100476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345600" y="5319000"/>
            <a:ext cx="2906280" cy="11667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”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BA8A-E7AC-422F-8309-35FB2D5B9F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51720" y="3200400"/>
            <a:ext cx="49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Price, Category, Manfactur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19920" y="3962520"/>
            <a:ext cx="609480" cy="6094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41120" y="5257800"/>
            <a:ext cx="393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nswer(PName, Price, Manfactur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209280" y="1752480"/>
            <a:ext cx="2653560" cy="652680"/>
          </a:xfrm>
          <a:prstGeom prst="wedgeEllipseCallout">
            <a:avLst>
              <a:gd name="adj1" fmla="val -37930"/>
              <a:gd name="adj2" fmla="val 16896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52120" y="6019920"/>
            <a:ext cx="2941560" cy="652680"/>
          </a:xfrm>
          <a:prstGeom prst="wedgeEllipseCallout">
            <a:avLst>
              <a:gd name="adj1" fmla="val 20041"/>
              <a:gd name="adj2" fmla="val -10347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0760" y="3809880"/>
            <a:ext cx="50180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Name, Price, Manufacturer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BFB1-EB05-44D5-901C-8251ECDC82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insensiti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e: SELECT  Select  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e: Product  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: ‘Seattle’  ‘seattl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c’  -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c” -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BA95-70EE-48B2-B151-4F969B460E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3657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:  pattern matching on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may contain two special symbo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 = any sequence of 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   = any single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5920" y="1981080"/>
            <a:ext cx="5531760" cy="124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*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Products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Nam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‘%gizmo%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92E8-5CF8-4A7E-8F90-2FD4E55DBC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minating Dupl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7880" y="2133720"/>
            <a:ext cx="40395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3160" y="37339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42760" y="4876920"/>
            <a:ext cx="25765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324480" y="4343400"/>
          <a:ext cx="1352520" cy="1674720"/>
        </p:xfrm>
        <a:graphic>
          <a:graphicData uri="http://schemas.openxmlformats.org/drawingml/2006/table">
            <a:tbl>
              <a:tblPr/>
              <a:tblGrid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6248520" y="1905120"/>
          <a:ext cx="1352520" cy="1339560"/>
        </p:xfrm>
        <a:graphic>
          <a:graphicData uri="http://schemas.openxmlformats.org/drawingml/2006/table">
            <a:tbl>
              <a:tblPr/>
              <a:tblGrid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5181480" y="2362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5029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0271-B715-4CED-993F-C96DE3C24C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ering the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4280" y="2133720"/>
            <a:ext cx="5734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name, price, manufactu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=‘gizmo’ AND price &gt;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ice, 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160" y="4079880"/>
            <a:ext cx="840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s are broken by the second attribute on the ORDER BY list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ing is ascending, unless you specify the DESC key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25FB-1C1D-4037-8EB0-46BE2BD5AB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9520" y="3772080"/>
            <a:ext cx="27594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429000" y="228600"/>
          <a:ext cx="5410080" cy="167472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5105520" y="2666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83120" y="220968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6640" y="2133720"/>
            <a:ext cx="4039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6640" y="5410080"/>
            <a:ext cx="4039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41148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9440" y="365760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81480" y="5715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9440" y="525780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2B53-C67C-4193-80D6-577DC24F66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ministriv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 1 is out. Due: Wed., Oct. 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you login on IISQLSRV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you change your passwor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you subscribe to CSE444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53BD-163D-4EDB-9547-7B047A7112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and Foreign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04920" y="4724280"/>
          <a:ext cx="6324480" cy="1825560"/>
        </p:xfrm>
        <a:graphic>
          <a:graphicData uri="http://schemas.openxmlformats.org/drawingml/2006/table">
            <a:tbl>
              <a:tblPr/>
              <a:tblGrid>
                <a:gridCol w="1638360"/>
                <a:gridCol w="1257120"/>
                <a:gridCol w="1676520"/>
                <a:gridCol w="17524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P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305640" y="41940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00920" y="160344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23880" y="2133720"/>
          <a:ext cx="4419720" cy="1930320"/>
        </p:xfrm>
        <a:graphic>
          <a:graphicData uri="http://schemas.openxmlformats.org/drawingml/2006/table">
            <a:tbl>
              <a:tblPr/>
              <a:tblGrid>
                <a:gridCol w="1600200"/>
                <a:gridCol w="1371600"/>
                <a:gridCol w="1447920"/>
              </a:tblGrid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C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ck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196920" y="2650320"/>
            <a:ext cx="977760" cy="652680"/>
          </a:xfrm>
          <a:prstGeom prst="wedgeEllipseCallout">
            <a:avLst>
              <a:gd name="adj1" fmla="val 108444"/>
              <a:gd name="adj2" fmla="val -99888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27880" y="4600080"/>
            <a:ext cx="1605240" cy="1172520"/>
          </a:xfrm>
          <a:prstGeom prst="wedgeEllipseCallout">
            <a:avLst>
              <a:gd name="adj1" fmla="val -111476"/>
              <a:gd name="adj2" fmla="val -2330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ig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56B2-60F9-4B14-A7C3-13FB0F433A3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30440" y="25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1752480"/>
            <a:ext cx="71913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stock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products under $200 manufactured in Japan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their names and pri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5880" y="4191120"/>
            <a:ext cx="71395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Name, Price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facturer=CName AND Country=‘Japan’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AND Price &lt;=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438280" y="3200400"/>
            <a:ext cx="6394680" cy="2209680"/>
            <a:chOff x="2438280" y="3200400"/>
            <a:chExt cx="6394680" cy="2209680"/>
          </a:xfrm>
        </p:grpSpPr>
        <p:sp>
          <p:nvSpPr>
            <p:cNvPr id="128" name=""/>
            <p:cNvSpPr/>
            <p:nvPr/>
          </p:nvSpPr>
          <p:spPr>
            <a:xfrm>
              <a:off x="2438280" y="4876920"/>
              <a:ext cx="2743200" cy="53316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74320" y="3200400"/>
              <a:ext cx="3158640" cy="1692360"/>
            </a:xfrm>
            <a:prstGeom prst="wedgeEllipseCallout">
              <a:avLst>
                <a:gd name="adj1" fmla="val -76949"/>
                <a:gd name="adj2" fmla="val 55060"/>
              </a:avLst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oin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tween Product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d Comp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8034-0CE7-4569-83C9-AAFCA70841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52280" y="2133720"/>
          <a:ext cx="4114800" cy="1365120"/>
        </p:xfrm>
        <a:graphic>
          <a:graphicData uri="http://schemas.openxmlformats.org/drawingml/2006/table">
            <a:tbl>
              <a:tblPr/>
              <a:tblGrid>
                <a:gridCol w="1047600"/>
                <a:gridCol w="857160"/>
                <a:gridCol w="1067040"/>
                <a:gridCol w="11430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154080" y="1752480"/>
            <a:ext cx="6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31360" y="182880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105520" y="2209680"/>
          <a:ext cx="3809880" cy="109224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ck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135" name=""/>
          <p:cNvCxnSpPr/>
          <p:nvPr/>
        </p:nvCxnSpPr>
        <p:spPr>
          <a:xfrm>
            <a:off x="4266720" y="2543040"/>
            <a:ext cx="83916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6" name=""/>
          <p:cNvCxnSpPr/>
          <p:nvPr/>
        </p:nvCxnSpPr>
        <p:spPr>
          <a:xfrm flipV="1">
            <a:off x="4266720" y="2892240"/>
            <a:ext cx="839160" cy="197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/>
          <p:nvPr/>
        </p:nvCxnSpPr>
        <p:spPr>
          <a:xfrm flipV="1">
            <a:off x="4266720" y="3315960"/>
            <a:ext cx="839160" cy="46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/>
          <p:nvPr/>
        </p:nvCxnSpPr>
        <p:spPr>
          <a:xfrm flipV="1">
            <a:off x="4266720" y="2618640"/>
            <a:ext cx="839160" cy="197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aphicFrame>
        <p:nvGraphicFramePr>
          <p:cNvPr id="139" name=""/>
          <p:cNvGraphicFramePr/>
          <p:nvPr/>
        </p:nvGraphicFramePr>
        <p:xfrm>
          <a:off x="6019920" y="5257800"/>
          <a:ext cx="1904760" cy="546120"/>
        </p:xfrm>
        <a:graphic>
          <a:graphicData uri="http://schemas.openxmlformats.org/drawingml/2006/table">
            <a:tbl>
              <a:tblPr/>
              <a:tblGrid>
                <a:gridCol w="1047600"/>
                <a:gridCol w="85716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6781680" y="40384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219320" y="2362320"/>
            <a:ext cx="7619760" cy="1066680"/>
            <a:chOff x="1219320" y="2362320"/>
            <a:chExt cx="7619760" cy="1066680"/>
          </a:xfrm>
        </p:grpSpPr>
        <p:sp>
          <p:nvSpPr>
            <p:cNvPr id="142" name=""/>
            <p:cNvSpPr/>
            <p:nvPr/>
          </p:nvSpPr>
          <p:spPr>
            <a:xfrm>
              <a:off x="7772400" y="2666880"/>
              <a:ext cx="1066680" cy="7621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19320" y="2362320"/>
              <a:ext cx="838080" cy="9144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21134400">
              <a:off x="3346200" y="2746080"/>
              <a:ext cx="2971800" cy="4572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78120" y="4419720"/>
            <a:ext cx="54064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PName, Price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ufacturer=CName AND Country=‘Japan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AND Price &lt;= 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0A30-6CFB-4E6A-94C1-A465FFF886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30440" y="25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752480"/>
            <a:ext cx="71913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stock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Chinese companies that manufacture products both in the ‘electronic’ and ‘toy’ categ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44920" y="4191120"/>
            <a:ext cx="71301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nam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CB05-7986-4125-85DA-605BEFB282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ubtlety about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30440" y="25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1752480"/>
            <a:ext cx="71913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stock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countries that manufacture some product in the ‘Gadgets’ categ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40240" y="4191120"/>
            <a:ext cx="7563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untr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facturer=CName AND Category=‘Gadget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B8E2-A271-4727-BB8B-D4035B857CF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ubtlety about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52280" y="2133720"/>
          <a:ext cx="4114800" cy="1365120"/>
        </p:xfrm>
        <a:graphic>
          <a:graphicData uri="http://schemas.openxmlformats.org/drawingml/2006/table">
            <a:tbl>
              <a:tblPr/>
              <a:tblGrid>
                <a:gridCol w="1047600"/>
                <a:gridCol w="857160"/>
                <a:gridCol w="1067040"/>
                <a:gridCol w="11430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154080" y="1752480"/>
            <a:ext cx="6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31360" y="182880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105520" y="2209680"/>
          <a:ext cx="3809880" cy="109224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C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ck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159" name=""/>
          <p:cNvCxnSpPr/>
          <p:nvPr/>
        </p:nvCxnSpPr>
        <p:spPr>
          <a:xfrm>
            <a:off x="4266720" y="2543040"/>
            <a:ext cx="83916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0" name=""/>
          <p:cNvCxnSpPr/>
          <p:nvPr/>
        </p:nvCxnSpPr>
        <p:spPr>
          <a:xfrm flipV="1">
            <a:off x="4266720" y="2892240"/>
            <a:ext cx="839160" cy="197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" name=""/>
          <p:cNvCxnSpPr/>
          <p:nvPr/>
        </p:nvCxnSpPr>
        <p:spPr>
          <a:xfrm flipV="1">
            <a:off x="4266720" y="3315960"/>
            <a:ext cx="839160" cy="46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2" name=""/>
          <p:cNvCxnSpPr/>
          <p:nvPr/>
        </p:nvCxnSpPr>
        <p:spPr>
          <a:xfrm flipV="1">
            <a:off x="4266720" y="2618640"/>
            <a:ext cx="839160" cy="197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63" name=""/>
          <p:cNvSpPr/>
          <p:nvPr/>
        </p:nvSpPr>
        <p:spPr>
          <a:xfrm>
            <a:off x="2209680" y="2438280"/>
            <a:ext cx="76212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81680" y="40384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553080" y="5181480"/>
          <a:ext cx="1270080" cy="1092240"/>
        </p:xfrm>
        <a:graphic>
          <a:graphicData uri="http://schemas.openxmlformats.org/drawingml/2006/table">
            <a:tbl>
              <a:tblPr/>
              <a:tblGrid>
                <a:gridCol w="1270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451080" y="5158080"/>
            <a:ext cx="2238120" cy="159660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lem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’s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2800" y="3962520"/>
            <a:ext cx="50878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Country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ufacturer=CName AND Category=‘Gadgets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7C8C-FAF6-4382-8034-4504BF51968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ple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72440" y="2819520"/>
            <a:ext cx="48700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name, address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for = c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62360" y="2360520"/>
            <a:ext cx="1859400" cy="1172520"/>
          </a:xfrm>
          <a:prstGeom prst="wedgeEllipseCallout">
            <a:avLst>
              <a:gd name="adj1" fmla="val -78587"/>
              <a:gd name="adj2" fmla="val 1000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6000" y="1752480"/>
            <a:ext cx="504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erson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address, worksfor)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mpany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cnam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addr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33520" y="4152960"/>
            <a:ext cx="8338680" cy="1191240"/>
            <a:chOff x="533520" y="4152960"/>
            <a:chExt cx="8338680" cy="1191240"/>
          </a:xfrm>
        </p:grpSpPr>
        <p:sp>
          <p:nvSpPr>
            <p:cNvPr id="173" name=""/>
            <p:cNvSpPr/>
            <p:nvPr/>
          </p:nvSpPr>
          <p:spPr>
            <a:xfrm>
              <a:off x="1833480" y="4152960"/>
              <a:ext cx="70387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SELE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DISTIN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Person.pname, Company.address</a:t>
              </a:r>
              <a:br>
                <a:rPr sz="2400"/>
              </a:b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FRO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Person, Company</a:t>
              </a:r>
              <a:br>
                <a:rPr sz="2400"/>
              </a:b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WHERE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.worksfor = Company.c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520" y="464832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33520" y="5486400"/>
            <a:ext cx="6628320" cy="1191240"/>
            <a:chOff x="533520" y="5486400"/>
            <a:chExt cx="6628320" cy="1191240"/>
          </a:xfrm>
        </p:grpSpPr>
        <p:sp>
          <p:nvSpPr>
            <p:cNvPr id="176" name=""/>
            <p:cNvSpPr/>
            <p:nvPr/>
          </p:nvSpPr>
          <p:spPr>
            <a:xfrm>
              <a:off x="1834560" y="5486400"/>
              <a:ext cx="532728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SELE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DISTIN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x.pname, y.address</a:t>
              </a:r>
              <a:br>
                <a:rPr sz="2400"/>
              </a:b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FRO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Person AS x, Company AS y</a:t>
              </a:r>
              <a:br>
                <a:rPr sz="2400"/>
              </a:b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WHERE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.worksfor = y.c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3520" y="568656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E9FE-1F0B-4A26-9E94-C3E52AA42D9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(Semantics) of SQL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1760" y="2133720"/>
            <a:ext cx="5430600" cy="11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0120" y="3505320"/>
            <a:ext cx="7746120" cy="290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 = 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 = Answ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8A9B-4258-4FCB-B2DC-6D5F4125793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067120" y="2743200"/>
            <a:ext cx="46584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R, S,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R.A=S.A    OR   R.A=T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Unintuitive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906120" y="5562720"/>
            <a:ext cx="6540840" cy="459720"/>
            <a:chOff x="906120" y="5562720"/>
            <a:chExt cx="6540840" cy="459720"/>
          </a:xfrm>
        </p:grpSpPr>
        <p:sp>
          <p:nvSpPr>
            <p:cNvPr id="184" name=""/>
            <p:cNvSpPr/>
            <p:nvPr/>
          </p:nvSpPr>
          <p:spPr>
            <a:xfrm>
              <a:off x="906120" y="5562720"/>
              <a:ext cx="30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utes 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(S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52880" y="5562720"/>
              <a:ext cx="249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ut what if S 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909880" y="447192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it compu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285F-7000-44AA-86BE-9EE9F05BFED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 Returning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1640" y="3886200"/>
            <a:ext cx="751896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.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.name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urchase 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pname=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Purchase .buyer = ‘Joe Blow‘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1720" y="2971800"/>
            <a:ext cx="773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cities where one can find companies that manufactu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 bought by Joe B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560" y="1600200"/>
            <a:ext cx="423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mpany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city)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maker)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urchase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i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product, buy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8EDD-8035-4221-AE32-1C1AE271C4C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y’s Reading Assig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you read i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es ACID mea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= atom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= consis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 = is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 = d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305D-18A6-40FD-8864-C3A030759E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 Returning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8880" y="3102120"/>
            <a:ext cx="6409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.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roduct.pname  =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urchase.buyer = ‘Joe Blow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3000" y="20224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t equivalent to thi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3480" y="586728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Beware of duplicate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A60F-B20D-4289-98CF-C028287123A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oving Dupl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14120" y="4800600"/>
            <a:ext cx="145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1640" y="1676520"/>
            <a:ext cx="751896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any.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.name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urchase 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pname=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Purchase .buyer = ‘Joe Blow‘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9400" y="4648320"/>
            <a:ext cx="6409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any.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roduct.pname  =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urchase.buyer = ‘Joe Blow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9B36-0186-4EB4-9FA4-FC30A33B283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 Returning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4280" y="4572000"/>
            <a:ext cx="74520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ice &gt;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maker=‘Gizmo-Works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0480" y="3124080"/>
            <a:ext cx="777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ategory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products that are more expensive than all those pro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“Gizmo-Work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41680" y="1905120"/>
            <a:ext cx="392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also use:   s &gt; ALL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&gt; ANY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S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5684-CCA8-4777-BEDB-1E0DB334B85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for Database Fa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ir Frie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we express this query as a single SELECT-FROM-WHERE query, without subqueri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:  all SFW queries are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monot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figure out what this means).  A query wit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mono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1CA8-22B5-497A-BB4F-97AB99D8F0D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lated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95280" y="3276720"/>
            <a:ext cx="55483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Movie AS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ear &lt;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itle =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titl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3000" y="1828800"/>
            <a:ext cx="645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vie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itle,  yea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director, leng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movies whose title appears more than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-9720" y="586728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(1) scope of variables (2) this can still be expressed as single SF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34320" y="2438280"/>
            <a:ext cx="1523880" cy="762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495680" y="2895480"/>
            <a:ext cx="2438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866920" y="3200400"/>
            <a:ext cx="16002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F825-AB8E-436F-BD81-161404D4F58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x Correlated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ategory, maker, ye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products (and their manufacturers) that are more expensive than all products made by the same manufacturer before 19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Very powerful ! Also much harder to optim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8360" y="3505320"/>
            <a:ext cx="795492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name, ma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Product AS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rice &gt;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Product AS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x.maker = y.maker AND y.year &lt; 197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91F3-2CBD-4B7D-AFF0-A5BDC890254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ing Assignment for Mon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from the textb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ming columns: SELECT x.name AS n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on, intersection, dif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pter 3, “Simple Queries” fro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QL for Web Nerds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hilip Greenspun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philip.greenspun.com/sq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E8B0-4CD9-493F-8D3E-128192CFDDA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Queries in SQL (6.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ies with more than one relation (6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490D-F176-45F2-9870-E23FAFCD5C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760" y="1717560"/>
            <a:ext cx="682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language for querying and manipulatin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ctured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ery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6880" y="3200400"/>
            <a:ext cx="883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standards out ther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I SQL,  SQL92 (a.k.a. SQL2),  SQL99 (a.k.a. SQL3),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dors support various subsets: watch for fun discussions in clas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4065-FFCF-48EC-9DF9-20A203A30B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Definition Language (DD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/alter/delete tables and their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lecture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Manipulation Language (DM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one or more tables – discussed next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/delete/modify tuples in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7EA8-BE2F-4052-9855-3A1168F2F5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143000" y="2209680"/>
          <a:ext cx="7696080" cy="355572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610200" y="167652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01480" y="304920"/>
            <a:ext cx="3041280" cy="652680"/>
          </a:xfrm>
          <a:prstGeom prst="wedgeEllipseCallout">
            <a:avLst>
              <a:gd name="adj1" fmla="val 537"/>
              <a:gd name="adj2" fmla="val 27916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8520" y="228600"/>
            <a:ext cx="2292120" cy="652680"/>
          </a:xfrm>
          <a:prstGeom prst="wedgeEllipseCallout">
            <a:avLst>
              <a:gd name="adj1" fmla="val -22347"/>
              <a:gd name="adj2" fmla="val 198398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480" y="6095880"/>
            <a:ext cx="2856960" cy="652680"/>
          </a:xfrm>
          <a:prstGeom prst="wedgeEllipseCallout">
            <a:avLst>
              <a:gd name="adj1" fmla="val -1861"/>
              <a:gd name="adj2" fmla="val -11681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s or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7809-1B25-475C-A6D3-A902CB194F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s Explai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table is the table name and its attribu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t(PName, Price, Category, Manfactur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n attribute whose values are unique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nderline a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Price, Category, Manfactur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FF15-558F-43EF-82A1-C33EE56ADF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ype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omic 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s: CHAR(20), VARCHAR(5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s: INT, BIGINT, SMALLINT, FLO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: MONEY, DATETIME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attribute must have an atomic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tables are fl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009A-379F-487A-811E-80A97CC0A2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Dan Suciu</cp:lastModifiedBy>
  <dcterms:modified xsi:type="dcterms:W3CDTF">2006-09-29T02:46:16Z</dcterms:modified>
  <cp:revision>245</cp:revision>
  <dc:subject/>
  <dc:title>PowerPoint Presentation</dc:title>
</cp:coreProperties>
</file>