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888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70128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53040" cy="41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02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8880" y="8802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F2DCA7-F9AC-4FD0-BFB8-57196CEE0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53040" cy="41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select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from Acto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where lname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</a:t>
            </a:r>
            <a:r>
              <a:rPr b="0" sz="1200" spc="-1" strike="noStrike">
                <a:solidFill>
                  <a:srgbClr val="ff0000"/>
                </a:solidFill>
                <a:latin typeface="Courier New"/>
              </a:rPr>
              <a:t>'Hanks'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Actor.id =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mid=Movie.id and Movie.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yea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2E3-86A2-4DB9-A587-6420FA11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41C-C29D-404D-913C-91AFFAFC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16C-1F45-4BC9-A306-016D9F35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5F3-F47F-49B0-B63A-090DA7BD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DDE-25AE-4B1D-9C30-133D88A3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A77-B933-49A0-882E-620323AE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706-5BCE-4C6D-9130-A81A22F4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079-A34D-4AB6-BDD7-591F3879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F5A-9324-4419-9D94-298CCDA6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B9B-9446-4D05-91A1-70EE638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EC2-5431-43A2-89C8-8491579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0D0-B292-4C71-A6E0-0C82FCF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3740-9E14-48A6-B0A7-0EDE8B20F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3E7-C0E8-4E3E-8C39-CBF4A02346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B40-390D-4ACC-88F7-75D117495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big C program written by someone else that allows us to manage efficiently a large database and allows it to persist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 (IBM), SQL Server (MS), Oracle, S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, Postgr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EF2-0060-4DF2-9EF8-059750CF85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Sh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www.computerworl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B: 35% market with $2.5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33% market with $2.3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: 19% market with $1.3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180-6E40-4504-88AB-9E5571DF2E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Movie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md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 (800k), Movies (400k), Director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layed where, who directed what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640" y="6172200"/>
            <a:ext cx="788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store and process locally; what functions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CC6-C7E1-43FD-95AC-6E427B8681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(not here, but in other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A92-D716-4BDF-821C-213A7BA7FA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81E-6B6B-49F2-8DC7-3967B1520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84640" y="1812240"/>
            <a:ext cx="2134080" cy="652680"/>
          </a:xfrm>
          <a:prstGeom prst="wedgeEllipseCallout">
            <a:avLst>
              <a:gd name="adj1" fmla="val -99180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9720" y="3259800"/>
            <a:ext cx="2436840" cy="652680"/>
          </a:xfrm>
          <a:prstGeom prst="wedgeEllipseCallout">
            <a:avLst>
              <a:gd name="adj1" fmla="val -90944"/>
              <a:gd name="adj2" fmla="val 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87520" y="4326840"/>
            <a:ext cx="929880" cy="652680"/>
          </a:xfrm>
          <a:prstGeom prst="wedgeEllipseCallout">
            <a:avLst>
              <a:gd name="adj1" fmla="val -80995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708-3E61-4A7C-A729-79254E388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year w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Rain man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tabl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movie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Coppol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actor,  count her/his mo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new movie; add an actor to a movie;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158-07A0-4C81-836E-14113077F1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25720" y="1812240"/>
            <a:ext cx="2848680" cy="652680"/>
          </a:xfrm>
          <a:prstGeom prst="wedgeEllipseCallout">
            <a:avLst>
              <a:gd name="adj1" fmla="val -99694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17680" y="2999880"/>
            <a:ext cx="3573720" cy="1172520"/>
          </a:xfrm>
          <a:prstGeom prst="wedgeEllipseCallout">
            <a:avLst>
              <a:gd name="adj1" fmla="val -91587"/>
              <a:gd name="adj2" fmla="val 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able que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6920" y="4326840"/>
            <a:ext cx="810720" cy="652680"/>
          </a:xfrm>
          <a:prstGeom prst="wedgeEllipseCallout">
            <a:avLst>
              <a:gd name="adj1" fmla="val -79912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943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: generally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6B6-4263-4D8B-9A88-5CB317014E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e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94240" y="2878920"/>
            <a:ext cx="2002320" cy="652680"/>
          </a:xfrm>
          <a:prstGeom prst="wedgeEllipseCallout">
            <a:avLst>
              <a:gd name="adj1" fmla="val -109013"/>
              <a:gd name="adj2" fmla="val -4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85840" y="4326840"/>
            <a:ext cx="929880" cy="652680"/>
          </a:xfrm>
          <a:prstGeom prst="wedgeEllipseCallout">
            <a:avLst>
              <a:gd name="adj1" fmla="val -88699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33400" y="5393520"/>
            <a:ext cx="929880" cy="652680"/>
          </a:xfrm>
          <a:prstGeom prst="wedgeEllipseCallout">
            <a:avLst>
              <a:gd name="adj1" fmla="val -264703"/>
              <a:gd name="adj2" fmla="val 16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289-ECE1-4CD1-ACCF-738315558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Suci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ed the department i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that: Bell Labs, 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: XML and semi-structured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: XML-QL (later XQu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or: X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XPath containment, XML type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: Probabilistic databases: Myst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57F-1773-4B68-8C6A-B1B805CA0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8A6-D212-4696-9558-A7214E3D5A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; resulting in inconsist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gical action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9E2-A0BD-4DC8-A7B7-CA4A8767B6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$100 from account #4662 to #71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819520"/>
            <a:ext cx="4405320" cy="246096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ead(Account, #46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amount = X.amount -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4662, X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Read(Account, #719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amount = Y.amount +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7199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4320" y="3505320"/>
            <a:ext cx="1949760" cy="652680"/>
          </a:xfrm>
          <a:prstGeom prst="wedgeEllipseCallout">
            <a:avLst>
              <a:gd name="adj1" fmla="val -78407"/>
              <a:gd name="adj2" fmla="val -93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7480" y="61722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9C6-D863-4C99-BF70-DECD1F95F5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3960" y="5105520"/>
            <a:ext cx="3041280" cy="1692360"/>
          </a:xfrm>
          <a:prstGeom prst="wedgeEllipseCallout">
            <a:avLst>
              <a:gd name="adj1" fmla="val -29148"/>
              <a:gd name="adj2" fmla="val -56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618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12C-8C3C-482C-B941-2C72AD0FF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= Collection of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5181120"/>
            <a:ext cx="669924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0" y="6248520"/>
            <a:ext cx="317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434-3D57-4B92-8714-FCA98B5C20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QL to create and 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6800" y="2819520"/>
            <a:ext cx="40320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Actors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OfBirth CHAR(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5720" y="3048120"/>
            <a:ext cx="434124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(‘Tom Hanks’, 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8200" y="4952880"/>
            <a:ext cx="6563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and physical organization is handled by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ocus on modeling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4000" y="6099480"/>
            <a:ext cx="49827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tudy data modeling 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487-FBAF-4E03-983C-C87433829A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ing/Querying/Upd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movies by  ‘Coppol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07520" y="2666880"/>
            <a:ext cx="7352640" cy="20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tit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s, Directors, Movie_Dire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Directors.lname = ‘Coppola’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Movies.mid = Movie_Directors.mid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Movie_Directors.id = Directors.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0440" y="5086440"/>
            <a:ext cx="60739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tudy SQL in gory details 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8720" y="6175440"/>
            <a:ext cx="56444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iscuss the query optimizer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CB3-E48D-4F70-A93D-2CDDB42246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ing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2040" y="3124080"/>
            <a:ext cx="4305960" cy="124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 TABLE Ac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ADD address CHAR(5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DEFAULT ‘unknow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5400" y="556272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cleverness goes on behind the sc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C63-940C-469F-9211-6740F8221C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&amp;4 Concurrency&amp;Recove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Transfer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276720"/>
            <a:ext cx="315396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cc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mount = amount - 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umber = 46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cc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mount = amount + 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umber = 71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9FE-63E2-48A4-AB3D-4D882D6297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CD5-1ECB-42AE-89AC-C1B180E0F2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83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n, Room 662, suciu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Wednesdays 11:30 (appointment strongly recommen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 Wang, juewang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Fridays 1:00-2:00, Room 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A50-D2EA-4390-AFA4-CDAAA05A9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execution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 (=isolation)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3440" y="3889800"/>
            <a:ext cx="67734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ree techniqu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41160" y="4724280"/>
            <a:ext cx="191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9AD-B2C9-4DBE-AA40-087CF929CE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y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either executes completely, or doesn’t execute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 (=atomicity)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0720" y="3889800"/>
            <a:ext cx="77580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ree types of log fil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200" y="4724280"/>
            <a:ext cx="292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/Re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EDA-C85E-41FE-9A80-A8FAFAD946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, Relational model, 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iday, October 27 (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ecurity,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 and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xecution an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onday, December 11, 8:30-10:20(this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385-21D9-4644-BBFD-794A75D1F5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 2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E32-09F4-4AFA-B661-FB781A5161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four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SQL Server, C#, 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hase: handed out next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97D-2AC1-4F28-8701-E3C8831B1D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1, Homework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for Web Ner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name = your U emai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= "studentID" + "!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1: due Wednesday, October 11 http://www.cs.washington.edu/education/courses/cse444/CurrentQtr/hw/index.h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758-A434-48AF-823B-B155F179AD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Management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Type = Databas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Name = IISQLS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= SQL Serv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n = your emai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= 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your password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lay with 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FF5-2FC6-45C1-A428-66ACDD2612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 (HW1 is po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, group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F5F-675F-4E81-8E04-2F91B7664C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ASK QUESTIONS ! READ SLID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DAA-8738-43F2-8DC9-C333A1657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at the Engineering Library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reserv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7A4-A6A5-4B4C-8D0C-7CEDE7B00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through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1, Homewor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A2F-168C-45F8-A0B4-7CA4F29B8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DC5-0A17-4B2D-9DFC-B10B38DEA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storing rela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s database; payroll database; UW’s students database; Amazon’s products database; airline reserva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33C-7915-4F9B-8F9A-BA06F88B52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Dan Suciu</cp:lastModifiedBy>
  <cp:lastPrinted>1998-09-26T21:35:18Z</cp:lastPrinted>
  <dcterms:modified xsi:type="dcterms:W3CDTF">2006-09-26T23:50:59Z</dcterms:modified>
  <cp:revision>503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