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1C63-53AA-41CB-8E49-26ABF1C59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D7AB-64DD-4D15-B60F-BC21F3732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EC5B-12AA-4BA0-9B7D-05F5F81E7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960A-D952-47D9-B94D-3FABC2611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0ED2-5A01-4FE2-8200-8E7AE0588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44ED-7471-4FD6-8BC1-58739A911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2A30-1E78-45C1-AB6B-AE5866E0A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9720-F80B-499C-A666-DF64E5F70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9C79-C6BE-4AB7-BE3C-CD5A61D5D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886-C96E-4FC0-B568-C5345A885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A564-467F-49C7-9E25-252131ACC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FD72-3166-43DA-B722-31EF7E333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B408-93E0-4A56-9FDA-7F7D93C86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883B-710A-4230-8024-D6A789B4A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1498-8385-413C-9CB8-82132A6BF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E137-0728-4F53-9B37-86F9FB31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A1D6-2C3F-4751-B743-C71EB2B6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2B49-B5D5-40AE-84A8-0A5456DBE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CC7E-4857-4D78-B4F2-6261E7CC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24FA-8706-48D3-A65F-FB643BD2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2F61-B1DE-4FE7-A7E9-8129491F9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3C9B-0511-4648-8D98-D3EB6B58A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5D38-1FD7-4495-9F2E-FBE576E98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415-FD35-4C8C-8854-1F683D71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FFC-5F85-4A99-8277-67BAD73B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B86-2E9A-4C66-AE2C-354D65F2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D39-EC42-402A-8AF4-3DA87D6A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C64-AF44-489A-88DA-F613FDF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EA5-60DC-49EA-9F7C-8C8A4E5A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97D-E359-418B-AA43-B6EDB0CB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A09-5AE9-4B07-8F17-92A83B26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C95-7453-4507-8F8E-44BECB12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193-E801-4B8F-8B08-C810F134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C74-DA5A-46A1-8226-5392D8A0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B95-BB90-4997-A1D8-71522DE2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EB87-53F2-4733-8352-216D31DC4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emental Not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Aspect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ATERIAL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155-1095-4B51-A92D-C8E7B36D55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point in log where to start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set of dirty pages when cra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ative estimate of dirty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ctive transactions when cras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build transactions table and dirty page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cess the log from the beginning (or check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update the two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oldest recoveryLSN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rstL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dirty pages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202-9151-4994-955A-5F751D42C8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al: redo all updates since firstL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log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ffected page is not in the Dirty Page Table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not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ffected page is in the Dirty Page Table but recoveryLSN &gt; LSN of record,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if pageLSN &gt; LSN,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only condition that requires reading page from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perform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F77-25E6-4193-846D-5D5ED00864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oal: undo effects of aborted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all loser transactions in trans.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log back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o all operations of loser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o each operation unconditio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ps. logged 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pensation log records (CL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ever undo a C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-up the UndoNextLSN and continue from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1EB-A549-4BEC-85E0-1E2AEDE671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rashes during U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320" y="1673280"/>
            <a:ext cx="8915400" cy="244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440" y="4876920"/>
            <a:ext cx="349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Figure 4 from Franklin9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F91-DBC0-4218-BD84-4F1187C1C1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: 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serve to enforce serializ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types of locks: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hared and 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nee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wo-phase locking (2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ule: once transaction releases lock, cannot acquire any additional lock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 two phases: growing then shr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ually, nee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ict 2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 all locks when transaction commits or ab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DA4-A315-42B6-9323-0EE2679F9F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ntom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phantom” is a tuple that is invisible during part of a transaction execution but not all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0: reads list of books in 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: inserts a new book into the 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: reads list of books in 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book will appea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is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locking details (eg, granularity of 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phantoms need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edicate 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529-40D5-4C53-840B-00F4650ED9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transactions are waiting for each other to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adlock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e locks in pre-defined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e all locks at once before 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adlock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-for graph (this is what commercial systems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56F-05F9-4A8F-82FE-5E18793D35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rees of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level “serializable” (i.e.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lden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strict 2PL and predicate lo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often too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ine there are few update operations and many long read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er isol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crifice correctness fo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used in practice (oft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are hard to un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E50-7048-453C-BB39-438311FD60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rees of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Four levels of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levels u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ng-duration exclusive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READ UNCOMMIT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no read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READ COMMIT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short duration read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REPEATABLE 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ng duration read locks on individual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SERIALIZ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ocks long duration and lock pred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rade-off: consistency vs con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ercial systems give choice of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3C4-9771-41EC-BE71-C513631B22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Granu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e granularity lo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tup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cur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overhead in managing 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arse grain lo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t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false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overhead in managing 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ierarchical locking (and intentional loc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ock esca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7C9-010A-4335-A968-DDDBA10835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EAL or NO-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n update made by an uncommitted transaction overwrite the most recent committed value of a data item on dis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CE or NO-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all updates of a transaction be forced to disk before the transaction commi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st for recovery: NO-STEAL/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 performance: STEAL/NO-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05B-F2B3-4BD4-B76B-A6F23658BC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are hot spo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L would lead to great lock co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1FC-608F-4D35-8501-92A6876933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Nodes can be unlocked in any order (no 2PL necess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rabb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rst lock parent then lock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Keep parent locked only if may need to updat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lease lock on parent if child is not 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96D-446B-40F1-83F7-6FDE5A6DD1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2 and SQL Server use strict 2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version concurrency control (Postg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apshot isolation (also available in SQL Server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operations use old version without lo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ptimistic concurrenc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imestam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Validation based (Ora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stic technique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nsactions instead of blocking them when a conflict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BC9-FB13-4F64-BC4D-599B43CF68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are a useful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simplify applicatio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must be careful to maintain ACID properties in fa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172-D782-4E32-ABE5-4C32B89A07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Use a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ables the use of STEAL and NO-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g: append-only file containing log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very update, commit, or abort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physic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logical, physiologic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log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o some transaction that did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89F-3A5E-402E-AA70-D1D676EBC2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-Ahead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log record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taining to a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 p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written to disk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befor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pag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 overwritt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log record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trans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written to disk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befo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trans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nsidered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is this faster than FORCE poli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mitted trans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ransactions whose commit log record has been written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D1D-2D8B-4B06-BB7D-52612530C9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ES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-Ahead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pass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nalysis p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out what was going on at time of cr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st of dirty pages and running 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o pass (repeating history princi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o all operations, even for transactions that will not 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 back state at the moment of the cr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Undo p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 effects of all uncommitted 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 changes during undo in case of another crash during un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8D4-A452-440E-B6F8-36C588820A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ES Method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70920" cy="243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440" y="4876920"/>
            <a:ext cx="349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Figure 3 from Franklin9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881-50A7-4B22-A02C-B80D682E3B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ES Method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page contain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geL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 Sequence Number of log record for the latest update to that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serve to determine if an update needs to be re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siological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-oriented R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because will always redo all operations in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because will only undo some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002-E6AB-4C45-8FA3-54254F622F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ES Method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ac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s all running transactions (active trans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astL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ost recent update by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rty pag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s all dirty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coveryL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SN that caused page to be d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Write ahead 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log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evL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revious LSN for same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B76-530E-4EE4-9906-B4AB53CAAE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into the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s of transaction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s of dirty pag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REDO phase to restart from earliest recoveryLSN in dirty pag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ns REDO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E42-C5B7-45AF-A9A1-9A9CF270D9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11-06T04:12:29Z</dcterms:modified>
  <cp:revision>335</cp:revision>
  <dc:subject/>
  <dc:title>Lecture 09:</dc:title>
</cp:coreProperties>
</file>