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443-1EC2-461A-A8DE-8CB81E98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140-4B0F-4C65-B9D9-8BCFFD7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537-7BEF-4172-871F-11B1F8DD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203-6CDC-428D-AD76-A9549F23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8F6-524C-4F7F-99DB-6ABAE69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7F9-DB14-47CB-9216-2C98623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249-78BE-4A21-ADFB-FC41090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E40-5FE4-4673-926C-E22442BB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07B-B4A9-45FA-A918-6756E94E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F8F-DB5E-4122-99EC-EE9C1E4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4C8-B003-4F9A-856A-B11AC9C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EC2-C503-44DE-A5A5-8C5B176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FB31-C584-4EC5-A987-97A62A67B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8DE-67AD-4699-92D0-9E4DC87580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joins: a bit of theory (see [AHV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 reducer for Q is a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no dangling tuples remain in any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9800" y="2971800"/>
            <a:ext cx="33184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. . .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267080"/>
            <a:ext cx="1981440" cy="13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.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24160" y="4429080"/>
            <a:ext cx="228600" cy="952560"/>
            <a:chOff x="4124160" y="4429080"/>
            <a:chExt cx="228600" cy="952560"/>
          </a:xfrm>
        </p:grpSpPr>
        <p:sp>
          <p:nvSpPr>
            <p:cNvPr id="66" name=""/>
            <p:cNvSpPr/>
            <p:nvPr/>
          </p:nvSpPr>
          <p:spPr>
            <a:xfrm>
              <a:off x="4124160" y="44290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4160" y="46576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4160" y="526716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EF3-2A53-4FEE-8F0D-B72A21CF90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reducer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1280" y="2133720"/>
            <a:ext cx="540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93400" y="3276720"/>
            <a:ext cx="4636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1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(C,D,E) := R3(C,D,E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(A,B) := R1(A,B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7640" y="609480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ables have only the tuples necessary to compute Q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965-EA29-4E2C-A073-CBF24CD0D1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full reducer (we can reduce for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ry has a full reducer iff it is “acyc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4080" y="2895480"/>
            <a:ext cx="5478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A,C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EFA-6C0F-40CD-9CF7-A8D5D1A39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in [Chaudhuri’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0960" y="2819520"/>
            <a:ext cx="52207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DepAvgSal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951-03F8-40F3-95BF-5AC5F9DAA2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85920" y="2819520"/>
            <a:ext cx="57816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t D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WHERE E.did = D.did AND D.bu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3F3-ABB1-4018-B8BE-210DFC4992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full re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590920"/>
            <a:ext cx="63864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PartialResult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id, E.sal, E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=D.did AND E.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.budget &gt; 100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Filte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DISTINCT P.did FROM PartialResul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LimitedAvgSa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Filt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F.did 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DC2-620F-49E6-B505-7802B3DA3E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1720" y="2971800"/>
            <a:ext cx="4867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.eid, P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artialResult P, Limited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.did = V.did AND P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462-4538-49CB-A8EE-517049B07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FD2-6792-426C-827E-A2204B0B2A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 (to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 (Fri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 (Monday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3F0-F828-40C6-8454-078B826A8C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C31-B47E-44FC-8236-1EF11B8975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EAD-A9C4-4716-8962-CC53AB723E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F=3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(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A=5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(R)) |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G=9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(S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165-A22F-484E-B420-B7D110EDD8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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A,B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A,B,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E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C5A-BBC6-41FF-89A8-D22A48B58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ED6-FBA9-4324-B44E-17834ABC0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DVANCED STUFF; NOT ON THE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4149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5201280" y="40536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EA3-3BBD-4D20-BF26-515117ED7F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shish Kumar Gupta</cp:lastModifiedBy>
  <dcterms:modified xsi:type="dcterms:W3CDTF">2005-03-16T03:37:37Z</dcterms:modified>
  <cp:revision>364</cp:revision>
  <dc:subject/>
  <dc:title>Lecture 09:</dc:title>
</cp:coreProperties>
</file>