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CEB-AFFB-44B3-9209-75B53E18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839-4C8F-4D60-8C1F-A8D11BE8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D59-8513-427F-8842-214EFBD8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9D7-B578-41E1-9F70-96A9CDFD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97D-1571-47A4-8CA1-CC47AFAB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60A-5A27-4BBB-A813-2180D5F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48F-C2BC-4C5C-A6EA-19E3257B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E2A-1893-4E41-8C72-703CBBB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961-A48D-4F49-8009-240BBDF1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2B2-5071-4DA7-9882-44DBFF4F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DE8-404B-49CA-B0FE-40AD262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CA8-7A68-474C-B688-4E33E7A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95B2-D713-44B9-B782-A7B08DBAB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9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6F6-420D-4E11-AD7B-FFA11E171B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joins: a bit of theory (see [AHV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ll reducer for Q is a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no dangling tuples remain in any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9800" y="2971800"/>
            <a:ext cx="33184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. . .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267080"/>
            <a:ext cx="1981440" cy="13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.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24160" y="4429080"/>
            <a:ext cx="228600" cy="952560"/>
            <a:chOff x="4124160" y="4429080"/>
            <a:chExt cx="228600" cy="952560"/>
          </a:xfrm>
        </p:grpSpPr>
        <p:sp>
          <p:nvSpPr>
            <p:cNvPr id="66" name=""/>
            <p:cNvSpPr/>
            <p:nvPr/>
          </p:nvSpPr>
          <p:spPr>
            <a:xfrm>
              <a:off x="4124160" y="44290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24160" y="46576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4160" y="526716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CDF-18EC-4E50-B2DD-84BF298913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reducer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1280" y="2133720"/>
            <a:ext cx="540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93400" y="3276720"/>
            <a:ext cx="4636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1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(C,D,E) := R3(C,D,E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(A,B) := R1(A,B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7640" y="609480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ables have only the tuples necessary to compute Q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EFF-AC4F-449F-BE94-F350766347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full reducer (we can reduce for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query has a full reducer iff it is “acycl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74080" y="2895480"/>
            <a:ext cx="5478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A,C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11E-5BB2-4393-B9F8-DCF27CEDD4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in [Chaudhuri’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0960" y="2819520"/>
            <a:ext cx="52207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DepAvgSal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AA3-8A58-4257-B4DD-F00B4F86C8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85920" y="2819520"/>
            <a:ext cx="57816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t D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WHERE E.did = D.did AND D.bu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F13-BDD7-4C24-BCCE-2B94B47D2B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full re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590920"/>
            <a:ext cx="63864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PartialResult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id, E.sal, E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=D.did AND E.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.budget &gt; 100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Filter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DISTINCT P.did FROM PartialResul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LimitedAvgSal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Filt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F.did 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B12-C6FC-4340-9BAE-807DB3B72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1720" y="2971800"/>
            <a:ext cx="4867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.eid, P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artialResult P, Limited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.did = V.did AND P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04B-E7FA-452A-BC10-4CB1245F25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19D-E97E-4B95-B8A3-1995B88C1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 (to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 (Fri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 (Monday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E05-0796-496E-95F3-DBE28522E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EA2-8037-499F-9E40-1F09662473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360-07D7-4851-845E-6C9D956D8B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F=3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(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A=5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(R)) |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G=9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(S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166-CA12-4177-A064-9EAECA84DA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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A,B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A,B,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Times New Roman"/>
              </a:rPr>
              <a:t>E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D0A-5B3F-4C12-BDFC-4C5726E28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DC1-51B1-4C52-800A-5375EA20E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DVANCED STUFF; NOT ON THE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schema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R(A1,…An),  S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T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4149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5201280" y="40536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F1F-89FD-49EF-BFF5-42FEEA22C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shish Kumar Gupta</cp:lastModifiedBy>
  <dcterms:modified xsi:type="dcterms:W3CDTF">2005-03-16T03:37:37Z</dcterms:modified>
  <cp:revision>364</cp:revision>
  <dc:subject/>
  <dc:title>Lecture 09:</dc:title>
</cp:coreProperties>
</file>