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921C-28E7-4E97-B5F5-B53913098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-14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53D5-F80E-4FF9-8CD9-1ABD543EE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2B52-A69D-4016-AE00-7702B9AD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E3F8-75F0-4C2F-801A-6D493741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7BC8-EF90-40CF-9437-ADDBF7B71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3328-B19A-4B23-AB2B-917025A5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368A-E7CD-43D0-BF52-27E31228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1BC6-B193-462E-8135-3EA70EE0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4145-41D2-482F-9A72-32010419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75E3-1CD5-432F-B9AD-27A77BDE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4F2D-079D-4E6B-BDD4-71ABCC5D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ECE0-E443-4F18-9F05-2713B65F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3821-5930-481D-AB59-50F4605D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6471-A354-4796-A26D-AF9BE7AB4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: Lecture 2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Exec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March 7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se Tw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M/B – 1 runs into a new run  (</a:t>
            </a: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250 ru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runs of length M (M/B – 1) bytes (</a:t>
            </a: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250M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5638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8120" y="5638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61160" y="3487680"/>
            <a:ext cx="1393920" cy="254160"/>
          </a:xfrm>
          <a:custGeom>
            <a:avLst/>
            <a:gdLst/>
            <a:ahLst/>
            <a:rect l="l" t="t" r="r" b="b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22480" y="387684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2480" y="4876920"/>
            <a:ext cx="1128600" cy="166680"/>
          </a:xfrm>
          <a:custGeom>
            <a:avLst/>
            <a:gdLst/>
            <a:ahLst/>
            <a:rect l="l" t="t" r="r" b="b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76320" y="3522600"/>
            <a:ext cx="1387440" cy="265320"/>
          </a:xfrm>
          <a:custGeom>
            <a:avLst/>
            <a:gdLst/>
            <a:ahLst/>
            <a:rect l="l" t="t" r="r" b="b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8120" y="5459400"/>
            <a:ext cx="325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 bytes of 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77080" y="3962520"/>
            <a:ext cx="1119240" cy="156960"/>
          </a:xfrm>
          <a:custGeom>
            <a:avLst/>
            <a:gdLst/>
            <a:ahLst/>
            <a:rect l="l" t="t" r="r" b="b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91480" y="424332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11520" y="3276720"/>
            <a:ext cx="3625920" cy="2492280"/>
          </a:xfrm>
          <a:custGeom>
            <a:avLst/>
            <a:gdLst/>
            <a:ahLst/>
            <a:rect l="l" t="t" r="r" b="b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60760" y="531972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8160" y="535320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216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5908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911160" y="4940640"/>
            <a:ext cx="1530000" cy="367200"/>
            <a:chOff x="911160" y="4940640"/>
            <a:chExt cx="1530000" cy="367200"/>
          </a:xfrm>
        </p:grpSpPr>
        <p:sp>
          <p:nvSpPr>
            <p:cNvPr id="156" name=""/>
            <p:cNvSpPr/>
            <p:nvPr/>
          </p:nvSpPr>
          <p:spPr>
            <a:xfrm>
              <a:off x="99360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116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7"/>
                  </a:moveTo>
                  <a:arcTo wR="10800" hR="10800" stAng="-29507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7"/>
                  </a:moveTo>
                  <a:arcTo wR="10800" hR="10800" stAng="-29507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697440" y="4874040"/>
            <a:ext cx="1536120" cy="348480"/>
            <a:chOff x="6697440" y="4874040"/>
            <a:chExt cx="1536120" cy="348480"/>
          </a:xfrm>
        </p:grpSpPr>
        <p:sp>
          <p:nvSpPr>
            <p:cNvPr id="159" name=""/>
            <p:cNvSpPr/>
            <p:nvPr/>
          </p:nvSpPr>
          <p:spPr>
            <a:xfrm>
              <a:off x="6780240" y="4874040"/>
              <a:ext cx="145332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97440" y="4874040"/>
              <a:ext cx="145404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2"/>
                  </a:moveTo>
                  <a:arcTo wR="10800" hR="10800" stAng="-3111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2"/>
                  </a:moveTo>
                  <a:arcTo wR="10800" hR="10800" stAng="-3111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78492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15184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198520" y="3736800"/>
            <a:ext cx="10461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98520" y="4290840"/>
            <a:ext cx="104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51400" y="3921120"/>
            <a:ext cx="642960" cy="46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451400" y="4568400"/>
            <a:ext cx="64296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40520" y="4475160"/>
            <a:ext cx="64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22480" y="415440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79520" y="4937040"/>
            <a:ext cx="965160" cy="27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51400" y="4290840"/>
            <a:ext cx="6429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10280" y="4060800"/>
            <a:ext cx="822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91480" y="479736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37320" y="4062240"/>
            <a:ext cx="857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81760" y="4956480"/>
            <a:ext cx="146088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M/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34322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41180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66880" y="4460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25320" y="4194360"/>
            <a:ext cx="10281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se Th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M/B – 1 runs into a new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runs of length M (M/B – 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cords (</a:t>
            </a: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625G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5638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8120" y="5638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61160" y="3487680"/>
            <a:ext cx="1393920" cy="254160"/>
          </a:xfrm>
          <a:custGeom>
            <a:avLst/>
            <a:gdLst/>
            <a:ahLst/>
            <a:rect l="l" t="t" r="r" b="b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22480" y="387684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22480" y="4876920"/>
            <a:ext cx="1128600" cy="166680"/>
          </a:xfrm>
          <a:custGeom>
            <a:avLst/>
            <a:gdLst/>
            <a:ahLst/>
            <a:rect l="l" t="t" r="r" b="b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76320" y="3522600"/>
            <a:ext cx="1387440" cy="265320"/>
          </a:xfrm>
          <a:custGeom>
            <a:avLst/>
            <a:gdLst/>
            <a:ahLst/>
            <a:rect l="l" t="t" r="r" b="b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5459400"/>
            <a:ext cx="325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 bytes of 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77080" y="3962520"/>
            <a:ext cx="1119240" cy="156960"/>
          </a:xfrm>
          <a:custGeom>
            <a:avLst/>
            <a:gdLst/>
            <a:ahLst/>
            <a:rect l="l" t="t" r="r" b="b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91480" y="424332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11520" y="3276720"/>
            <a:ext cx="3625920" cy="2492280"/>
          </a:xfrm>
          <a:custGeom>
            <a:avLst/>
            <a:gdLst/>
            <a:ahLst/>
            <a:rect l="l" t="t" r="r" b="b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60760" y="531972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8160" y="535320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216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5908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911160" y="4940640"/>
            <a:ext cx="1530000" cy="367200"/>
            <a:chOff x="911160" y="4940640"/>
            <a:chExt cx="1530000" cy="367200"/>
          </a:xfrm>
        </p:grpSpPr>
        <p:sp>
          <p:nvSpPr>
            <p:cNvPr id="196" name=""/>
            <p:cNvSpPr/>
            <p:nvPr/>
          </p:nvSpPr>
          <p:spPr>
            <a:xfrm>
              <a:off x="99360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1116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7"/>
                  </a:moveTo>
                  <a:arcTo wR="10800" hR="10800" stAng="-29507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7"/>
                  </a:moveTo>
                  <a:arcTo wR="10800" hR="10800" stAng="-29507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6697440" y="4874040"/>
            <a:ext cx="1536120" cy="348480"/>
            <a:chOff x="6697440" y="4874040"/>
            <a:chExt cx="1536120" cy="348480"/>
          </a:xfrm>
        </p:grpSpPr>
        <p:sp>
          <p:nvSpPr>
            <p:cNvPr id="199" name=""/>
            <p:cNvSpPr/>
            <p:nvPr/>
          </p:nvSpPr>
          <p:spPr>
            <a:xfrm>
              <a:off x="6780240" y="4874040"/>
              <a:ext cx="145332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97440" y="4874040"/>
              <a:ext cx="145404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2"/>
                  </a:moveTo>
                  <a:arcTo wR="10800" hR="10800" stAng="-3111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2"/>
                  </a:moveTo>
                  <a:arcTo wR="10800" hR="10800" stAng="-3111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78492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15184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198520" y="3736800"/>
            <a:ext cx="10461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98520" y="4290840"/>
            <a:ext cx="104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51400" y="3921120"/>
            <a:ext cx="642960" cy="46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451400" y="4568400"/>
            <a:ext cx="64296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40520" y="4475160"/>
            <a:ext cx="64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22480" y="415440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79520" y="4937040"/>
            <a:ext cx="965160" cy="27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51400" y="4290840"/>
            <a:ext cx="6429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10280" y="4060800"/>
            <a:ext cx="822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91480" y="479736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37320" y="4062240"/>
            <a:ext cx="857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81760" y="4956480"/>
            <a:ext cx="146088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M/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76720" y="34322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41180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66880" y="4460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25320" y="4194360"/>
            <a:ext cx="10281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of External Merge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pas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uch data can we sort with 10MB RA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pas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0MB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pass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25GB data    (</a:t>
            </a:r>
            <a:r>
              <a:rPr b="0" lang="en-US" sz="2800" spc="-1" strike="noStrike">
                <a:solidFill>
                  <a:srgbClr val="bbe0e3"/>
                </a:solidFill>
                <a:latin typeface="Times New Roman"/>
              </a:rPr>
              <a:t>M/B = 25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sort everything in 2 or 3 pass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590840" y="2209680"/>
                <a:ext cx="3666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⌈"/>
                        <m:endChr m:val="⌉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/B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⌈"/>
                            <m:endChr m:val="⌉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ze/M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Merge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so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ol in the XML toolkit sorts using thi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sort 1GB of XML data in about 8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multi-way merge sort needs only two p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for sorting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idea: sort first, then eliminate dupl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sort chunks of size M, 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2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merge M-1 runs, but include each tuple only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 3B(R), Assumption: B(R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, sum(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before: sort, then compute the sum(b) for each group of a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98360" y="2133720"/>
            <a:ext cx="108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14560" y="1828800"/>
            <a:ext cx="387504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firs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first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(_______________)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 case x &lt; y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output(x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x = next(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se x=y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se x &gt; y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9000" y="3881520"/>
            <a:ext cx="19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18880" y="213372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14560" y="1828800"/>
            <a:ext cx="387504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firs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first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(_______________)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 case x &lt; y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x=y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se x &gt; y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9000" y="3881520"/>
            <a:ext cx="19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69200" y="212868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9000" y="3881520"/>
            <a:ext cx="19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22720" y="1828800"/>
            <a:ext cx="3875040" cy="484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firs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first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(_______________)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 case x &lt; y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x=y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se x &gt; y;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 S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-based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operations: 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, 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, R –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: sort R, sort S, then do the right 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loser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1: split R into runs of size M, then split S into runs of size M.  Cost: 2B(R) + 2B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2: merge M/2 runs from R; merge M/2 runs from S; ouput a tuple on a case by case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 3B(R)+3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ption: B(R)+B(S)&lt;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5520" y="2900520"/>
            <a:ext cx="1921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R.A =S.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14560" y="1828800"/>
            <a:ext cx="3875040" cy="484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firs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first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(_______________)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 case x.A &lt; y.B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x.A=y.B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se x.A &gt; y.B;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9000" y="3881520"/>
            <a:ext cx="19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14560" y="1336680"/>
            <a:ext cx="258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(A,C) sorted on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(B,D) sorted on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by sorting both R and S on the join attribu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: 4B(R)+4B(S)  (because need to write to dis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both relations in sorted order, match tu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: B(R)+B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culty: many tuples in R may match many in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t least one set of tuples fits in M, we are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 need nested loop, higher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 5B(R)+5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(S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number of tuples in R matching those in S is small (or vice versa) we can compute the join during the merge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: 3B(R)+3B(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B(S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ternal Join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Nested Loop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S) + B(R)*B(S)/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ed Hash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(R)+3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min(B(R),B(S)) &lt;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ge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(R)+3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B(R)+B(S) &lt;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+ T(R)B(S)/V(S,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execute this quer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87320" y="2768760"/>
            <a:ext cx="611064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p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maker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ity = “Seattl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ed index: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lustered index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maker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00068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4931640" y="312408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0" y="396252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85760" y="396252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314520" y="31240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578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6736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0488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r=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8880" y="100980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Pl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67652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702720" y="327672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66880" y="411480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6840" y="411480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05120" y="3124080"/>
            <a:ext cx="10666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990720" y="30481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80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8072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name=ma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67080" y="587520"/>
            <a:ext cx="27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plan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1200" y="1676880"/>
            <a:ext cx="1805760" cy="891000"/>
          </a:xfrm>
          <a:prstGeom prst="wedgeRoundRectCallout">
            <a:avLst>
              <a:gd name="adj1" fmla="val -22694"/>
              <a:gd name="adj2" fmla="val 144143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665800" y="1371960"/>
            <a:ext cx="1805760" cy="891000"/>
          </a:xfrm>
          <a:prstGeom prst="wedgeRoundRectCallout">
            <a:avLst>
              <a:gd name="adj1" fmla="val -83064"/>
              <a:gd name="adj2" fmla="val 105694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597708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6908040" y="312408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34080" y="396252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62520" y="396252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290920" y="31240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342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04376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8128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r=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89560" y="698400"/>
            <a:ext cx="43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plans 2a and 2b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461360" y="5128200"/>
            <a:ext cx="1055520" cy="891000"/>
          </a:xfrm>
          <a:prstGeom prst="wedgeRoundRectCallout">
            <a:avLst>
              <a:gd name="adj1" fmla="val -26273"/>
              <a:gd name="adj2" fmla="val -84648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18600" y="1721880"/>
            <a:ext cx="1679040" cy="496440"/>
          </a:xfrm>
          <a:prstGeom prst="wedgeRoundRectCallout">
            <a:avLst>
              <a:gd name="adj1" fmla="val -64273"/>
              <a:gd name="adj2" fmla="val 128837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92560" y="5280480"/>
            <a:ext cx="2584440" cy="891000"/>
          </a:xfrm>
          <a:prstGeom prst="wedgeRoundRectCallout">
            <a:avLst>
              <a:gd name="adj1" fmla="val -19111"/>
              <a:gd name="adj2" fmla="val -84527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and sort (2a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scan (2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160" y="2133720"/>
            <a:ext cx="5412240" cy="82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ne is better 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/O Model of Comp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in memory: CPU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O notatio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atabases time is dominated by I/O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O too, but for I/O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big O becomes a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quence: need to redesign certain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sorting n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67652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702720" y="327672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66880" y="411480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6840" y="411480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05120" y="3124080"/>
            <a:ext cx="10666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990720" y="30481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380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8072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name=ma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69960" y="68580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plan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1200" y="1676880"/>
            <a:ext cx="1805760" cy="891000"/>
          </a:xfrm>
          <a:prstGeom prst="wedgeRoundRectCallout">
            <a:avLst>
              <a:gd name="adj1" fmla="val -22694"/>
              <a:gd name="adj2" fmla="val 144143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65800" y="1371960"/>
            <a:ext cx="1805760" cy="891000"/>
          </a:xfrm>
          <a:prstGeom prst="wedgeRoundRectCallout">
            <a:avLst>
              <a:gd name="adj1" fmla="val -83064"/>
              <a:gd name="adj2" fmla="val 105694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7160" y="6005520"/>
            <a:ext cx="445824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68" y="5290"/>
                </a:moveTo>
                <a:lnTo>
                  <a:pt x="-3114" y="5290"/>
                </a:lnTo>
                <a:lnTo>
                  <a:pt x="-3114" y="-45257"/>
                </a:lnTo>
                <a:lnTo>
                  <a:pt x="-924" y="-113899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61840" y="685800"/>
            <a:ext cx="456696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66" y="5290"/>
                </a:moveTo>
                <a:lnTo>
                  <a:pt x="-12527" y="5290"/>
                </a:lnTo>
                <a:lnTo>
                  <a:pt x="-12527" y="47976"/>
                </a:lnTo>
                <a:lnTo>
                  <a:pt x="-10980" y="85673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09560" y="2743200"/>
            <a:ext cx="4566960" cy="134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597708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6908040" y="312408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834080" y="396252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62520" y="396252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5290920" y="31240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4342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04376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28128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r=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81480" y="79704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plans 2a and 2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64600" y="5128200"/>
            <a:ext cx="1055520" cy="891000"/>
          </a:xfrm>
          <a:prstGeom prst="wedgeRoundRectCallout">
            <a:avLst>
              <a:gd name="adj1" fmla="val -26273"/>
              <a:gd name="adj2" fmla="val -84648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618600" y="1721880"/>
            <a:ext cx="1679040" cy="496440"/>
          </a:xfrm>
          <a:prstGeom prst="wedgeRoundRectCallout">
            <a:avLst>
              <a:gd name="adj1" fmla="val -64273"/>
              <a:gd name="adj2" fmla="val 128837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92560" y="5280480"/>
            <a:ext cx="2584440" cy="891000"/>
          </a:xfrm>
          <a:prstGeom prst="wedgeRoundRectCallout">
            <a:avLst>
              <a:gd name="adj1" fmla="val -19111"/>
              <a:gd name="adj2" fmla="val -84527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and sort (2a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scan (2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30360" y="6172200"/>
            <a:ext cx="193320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445" y="5290"/>
                </a:moveTo>
                <a:lnTo>
                  <a:pt x="80872" y="5290"/>
                </a:lnTo>
                <a:lnTo>
                  <a:pt x="80872" y="-75673"/>
                </a:lnTo>
                <a:lnTo>
                  <a:pt x="72188" y="-104518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25080" y="3886200"/>
            <a:ext cx="179028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142467"/>
              <a:gd name="adj5" fmla="val 351407"/>
              <a:gd name="adj6" fmla="val 18162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2600" y="4879800"/>
            <a:ext cx="162108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172472"/>
              <a:gd name="adj5" fmla="val 215175"/>
              <a:gd name="adj6" fmla="val 24151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44040" y="2400480"/>
            <a:ext cx="1808280" cy="825480"/>
          </a:xfrm>
          <a:prstGeom prst="borderCallout2">
            <a:avLst>
              <a:gd name="adj1" fmla="val 18750"/>
              <a:gd name="adj2" fmla="val -8333"/>
              <a:gd name="adj3" fmla="val 13740"/>
              <a:gd name="adj4" fmla="val 121046"/>
              <a:gd name="adj5" fmla="val -61245"/>
              <a:gd name="adj6" fmla="val 18226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extra c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08880" y="380880"/>
            <a:ext cx="45208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a): 3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b):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549720" y="914400"/>
            <a:ext cx="800964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1:  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cit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2a: B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3B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2b: B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81040" y="3475080"/>
            <a:ext cx="5412240" cy="82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ne is better 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96520" y="4998960"/>
            <a:ext cx="5847840" cy="82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epends on the data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-360" y="3276360"/>
            <a:ext cx="80773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1: 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it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2: 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ity) &lt;&lt;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4560" y="1600200"/>
            <a:ext cx="7794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5,000    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500      M 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100,000   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= 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may assume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46000" y="3963960"/>
            <a:ext cx="3418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 = 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46000" y="5487840"/>
            <a:ext cx="3038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Plan is Bes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69160" y="2209680"/>
            <a:ext cx="7949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1:  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cit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2a: 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3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2b: 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71400" y="4003560"/>
            <a:ext cx="108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1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2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consider several physic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for one, simple logic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agic “best” plan: depends on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rder to make the right ch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hav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atist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ver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’s, the T’s, the V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sort 1 GB of data with 1MB of 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we need thi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requested in sorted order (ORDER B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for grouping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step in sort-merge join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plicate remo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 loading of B+-tree index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0" y="4495680"/>
            <a:ext cx="457200" cy="228600"/>
          </a:xfrm>
          <a:prstGeom prst="rect">
            <a:avLst/>
          </a:prstGeom>
          <a:solidFill>
            <a:srgbClr val="f6bf69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5245200"/>
            <a:ext cx="457200" cy="228600"/>
          </a:xfrm>
          <a:prstGeom prst="rect">
            <a:avLst/>
          </a:prstGeom>
          <a:solidFill>
            <a:srgbClr val="f6bf69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Way Merge-sor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s 3 Buffers in 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76276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 1: Read a page, sort it, writ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 2, 3, …, etc.: merge two runs, write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93000" y="4138560"/>
            <a:ext cx="1315800" cy="220680"/>
          </a:xfrm>
          <a:custGeom>
            <a:avLst/>
            <a:gdLst/>
            <a:ahLst/>
            <a:rect l="l" t="t" r="r" b="b"/>
            <a:pathLst>
              <a:path w="829" h="139">
                <a:moveTo>
                  <a:pt x="828" y="70"/>
                </a:moveTo>
                <a:lnTo>
                  <a:pt x="796" y="42"/>
                </a:lnTo>
                <a:lnTo>
                  <a:pt x="707" y="21"/>
                </a:lnTo>
                <a:lnTo>
                  <a:pt x="414" y="0"/>
                </a:lnTo>
                <a:lnTo>
                  <a:pt x="122" y="21"/>
                </a:lnTo>
                <a:lnTo>
                  <a:pt x="33" y="42"/>
                </a:lnTo>
                <a:lnTo>
                  <a:pt x="0" y="70"/>
                </a:lnTo>
                <a:lnTo>
                  <a:pt x="33" y="97"/>
                </a:lnTo>
                <a:lnTo>
                  <a:pt x="122" y="118"/>
                </a:lnTo>
                <a:lnTo>
                  <a:pt x="414" y="138"/>
                </a:lnTo>
                <a:lnTo>
                  <a:pt x="707" y="118"/>
                </a:lnTo>
                <a:lnTo>
                  <a:pt x="796" y="97"/>
                </a:lnTo>
                <a:lnTo>
                  <a:pt x="828" y="70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47720" y="4535640"/>
            <a:ext cx="1040040" cy="150840"/>
          </a:xfrm>
          <a:custGeom>
            <a:avLst/>
            <a:gdLst/>
            <a:ahLst/>
            <a:rect l="l" t="t" r="r" b="b"/>
            <a:pathLst>
              <a:path w="655" h="95">
                <a:moveTo>
                  <a:pt x="0" y="94"/>
                </a:moveTo>
                <a:lnTo>
                  <a:pt x="0" y="0"/>
                </a:lnTo>
                <a:lnTo>
                  <a:pt x="654" y="0"/>
                </a:lnTo>
                <a:lnTo>
                  <a:pt x="654" y="94"/>
                </a:lnTo>
                <a:lnTo>
                  <a:pt x="0" y="9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47720" y="5283360"/>
            <a:ext cx="1068480" cy="137880"/>
          </a:xfrm>
          <a:custGeom>
            <a:avLst/>
            <a:gdLst/>
            <a:ahLst/>
            <a:rect l="l" t="t" r="r" b="b"/>
            <a:pathLst>
              <a:path w="673" h="87">
                <a:moveTo>
                  <a:pt x="0" y="86"/>
                </a:moveTo>
                <a:lnTo>
                  <a:pt x="0" y="0"/>
                </a:lnTo>
                <a:lnTo>
                  <a:pt x="672" y="0"/>
                </a:lnTo>
                <a:lnTo>
                  <a:pt x="672" y="86"/>
                </a:lnTo>
                <a:lnTo>
                  <a:pt x="0" y="86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09840" y="4167360"/>
            <a:ext cx="1314360" cy="218880"/>
          </a:xfrm>
          <a:custGeom>
            <a:avLst/>
            <a:gdLst/>
            <a:ahLst/>
            <a:rect l="l" t="t" r="r" b="b"/>
            <a:pathLst>
              <a:path w="828" h="138">
                <a:moveTo>
                  <a:pt x="827" y="69"/>
                </a:moveTo>
                <a:lnTo>
                  <a:pt x="795" y="42"/>
                </a:lnTo>
                <a:lnTo>
                  <a:pt x="706" y="20"/>
                </a:lnTo>
                <a:lnTo>
                  <a:pt x="414" y="0"/>
                </a:lnTo>
                <a:lnTo>
                  <a:pt x="121" y="20"/>
                </a:lnTo>
                <a:lnTo>
                  <a:pt x="32" y="42"/>
                </a:lnTo>
                <a:lnTo>
                  <a:pt x="0" y="69"/>
                </a:lnTo>
                <a:lnTo>
                  <a:pt x="32" y="95"/>
                </a:lnTo>
                <a:lnTo>
                  <a:pt x="121" y="117"/>
                </a:lnTo>
                <a:lnTo>
                  <a:pt x="414" y="137"/>
                </a:lnTo>
                <a:lnTo>
                  <a:pt x="706" y="117"/>
                </a:lnTo>
                <a:lnTo>
                  <a:pt x="795" y="95"/>
                </a:lnTo>
                <a:lnTo>
                  <a:pt x="827" y="6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35200" y="5603760"/>
            <a:ext cx="27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ain memory buf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02440" y="4834080"/>
            <a:ext cx="1055880" cy="137880"/>
          </a:xfrm>
          <a:custGeom>
            <a:avLst/>
            <a:gdLst/>
            <a:ahLst/>
            <a:rect l="l" t="t" r="r" b="b"/>
            <a:pathLst>
              <a:path w="665" h="87">
                <a:moveTo>
                  <a:pt x="0" y="86"/>
                </a:moveTo>
                <a:lnTo>
                  <a:pt x="0" y="0"/>
                </a:lnTo>
                <a:lnTo>
                  <a:pt x="664" y="0"/>
                </a:lnTo>
                <a:lnTo>
                  <a:pt x="664" y="86"/>
                </a:lnTo>
                <a:lnTo>
                  <a:pt x="0" y="86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16840" y="5065560"/>
            <a:ext cx="1055520" cy="125640"/>
          </a:xfrm>
          <a:custGeom>
            <a:avLst/>
            <a:gdLst/>
            <a:ahLst/>
            <a:rect l="l" t="t" r="r" b="b"/>
            <a:pathLst>
              <a:path w="665" h="79">
                <a:moveTo>
                  <a:pt x="0" y="78"/>
                </a:moveTo>
                <a:lnTo>
                  <a:pt x="0" y="0"/>
                </a:lnTo>
                <a:lnTo>
                  <a:pt x="664" y="0"/>
                </a:lnTo>
                <a:lnTo>
                  <a:pt x="664" y="78"/>
                </a:lnTo>
                <a:lnTo>
                  <a:pt x="0" y="7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4281480"/>
            <a:ext cx="1127160" cy="444600"/>
          </a:xfrm>
          <a:custGeom>
            <a:avLst/>
            <a:gdLst/>
            <a:ahLst/>
            <a:rect l="l" t="t" r="r" b="b"/>
            <a:pathLst>
              <a:path w="710" h="280">
                <a:moveTo>
                  <a:pt x="0" y="279"/>
                </a:moveTo>
                <a:lnTo>
                  <a:pt x="0" y="0"/>
                </a:lnTo>
                <a:lnTo>
                  <a:pt x="709" y="0"/>
                </a:lnTo>
                <a:lnTo>
                  <a:pt x="709" y="279"/>
                </a:lnTo>
                <a:lnTo>
                  <a:pt x="0" y="279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4757760"/>
            <a:ext cx="1001880" cy="360360"/>
          </a:xfrm>
          <a:custGeom>
            <a:avLst/>
            <a:gdLst/>
            <a:ahLst/>
            <a:rect l="l" t="t" r="r" b="b"/>
            <a:pathLst>
              <a:path w="631" h="227">
                <a:moveTo>
                  <a:pt x="0" y="226"/>
                </a:moveTo>
                <a:lnTo>
                  <a:pt x="0" y="0"/>
                </a:lnTo>
                <a:lnTo>
                  <a:pt x="630" y="0"/>
                </a:lnTo>
                <a:lnTo>
                  <a:pt x="630" y="226"/>
                </a:lnTo>
                <a:lnTo>
                  <a:pt x="0" y="226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30600" y="5124600"/>
            <a:ext cx="1127160" cy="446040"/>
          </a:xfrm>
          <a:custGeom>
            <a:avLst/>
            <a:gdLst/>
            <a:ahLst/>
            <a:rect l="l" t="t" r="r" b="b"/>
            <a:pathLst>
              <a:path w="710" h="281">
                <a:moveTo>
                  <a:pt x="0" y="280"/>
                </a:moveTo>
                <a:lnTo>
                  <a:pt x="0" y="0"/>
                </a:lnTo>
                <a:lnTo>
                  <a:pt x="709" y="0"/>
                </a:lnTo>
                <a:lnTo>
                  <a:pt x="709" y="280"/>
                </a:lnTo>
                <a:lnTo>
                  <a:pt x="0" y="280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3962520"/>
            <a:ext cx="3434040" cy="2286000"/>
          </a:xfrm>
          <a:custGeom>
            <a:avLst/>
            <a:gdLst/>
            <a:ahLst/>
            <a:rect l="l" t="t" r="r" b="b"/>
            <a:pathLst>
              <a:path w="2163" h="1295">
                <a:moveTo>
                  <a:pt x="0" y="1294"/>
                </a:moveTo>
                <a:lnTo>
                  <a:pt x="0" y="0"/>
                </a:lnTo>
                <a:lnTo>
                  <a:pt x="2162" y="0"/>
                </a:lnTo>
                <a:lnTo>
                  <a:pt x="2162" y="1294"/>
                </a:lnTo>
                <a:lnTo>
                  <a:pt x="0" y="129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18720" y="4319640"/>
            <a:ext cx="99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INPU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18720" y="5164200"/>
            <a:ext cx="99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INPU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58960" y="4767120"/>
            <a:ext cx="101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60920" y="571644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09360" y="574524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1952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447920" y="5334120"/>
            <a:ext cx="1449000" cy="304200"/>
            <a:chOff x="1447920" y="5334120"/>
            <a:chExt cx="1449000" cy="304200"/>
          </a:xfrm>
        </p:grpSpPr>
        <p:sp>
          <p:nvSpPr>
            <p:cNvPr id="83" name=""/>
            <p:cNvSpPr/>
            <p:nvPr/>
          </p:nvSpPr>
          <p:spPr>
            <a:xfrm>
              <a:off x="152568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4792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6934320" y="5334120"/>
            <a:ext cx="1449000" cy="304200"/>
            <a:chOff x="6934320" y="5334120"/>
            <a:chExt cx="1449000" cy="304200"/>
          </a:xfrm>
        </p:grpSpPr>
        <p:sp>
          <p:nvSpPr>
            <p:cNvPr id="86" name=""/>
            <p:cNvSpPr/>
            <p:nvPr/>
          </p:nvSpPr>
          <p:spPr>
            <a:xfrm>
              <a:off x="701208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3432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701028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0592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45720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53341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495680"/>
            <a:ext cx="6094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800600" y="502884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00800" y="49528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120" y="3200400"/>
            <a:ext cx="3182040" cy="652680"/>
          </a:xfrm>
          <a:prstGeom prst="wedgeEllipseCallout">
            <a:avLst>
              <a:gd name="adj1" fmla="val 9611"/>
              <a:gd name="adj2" fmla="val 8550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of length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9520" y="2895480"/>
            <a:ext cx="3398760" cy="652680"/>
          </a:xfrm>
          <a:prstGeom prst="wedgeEllipseCallout">
            <a:avLst>
              <a:gd name="adj1" fmla="val 12009"/>
              <a:gd name="adj2" fmla="val 13588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of length 2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Way External Merge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block size is B = 4K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uns of length L = 4K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uns of length L = 8K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uns of length L = 16K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9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uns of length L = 1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9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uns of length L = 1GB   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8960" y="6099480"/>
            <a:ext cx="6157800" cy="45972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19 iterations over the disk data to sort 1G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We Do Better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nt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1MB of main memory, but only used 12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Model for Our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B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 size  ( </a:t>
            </a: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= 4K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 of main memory  ( </a:t>
            </a: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= 1M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N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records in the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 of one re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Merge-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 one: load M bytes in memory, s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 runs of length M bytes ( </a:t>
            </a:r>
            <a:r>
              <a:rPr b="0" lang="en-US" sz="2800" spc="-1" strike="noStrike">
                <a:solidFill>
                  <a:srgbClr val="bbe0e3"/>
                </a:solidFill>
                <a:latin typeface="Times New Roman"/>
              </a:rPr>
              <a:t>1M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5638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5638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61160" y="3487680"/>
            <a:ext cx="1393920" cy="254160"/>
          </a:xfrm>
          <a:custGeom>
            <a:avLst/>
            <a:gdLst/>
            <a:ahLst/>
            <a:rect l="l" t="t" r="r" b="b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22480" y="387684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22480" y="4876920"/>
            <a:ext cx="1128600" cy="166680"/>
          </a:xfrm>
          <a:custGeom>
            <a:avLst/>
            <a:gdLst/>
            <a:ahLst/>
            <a:rect l="l" t="t" r="r" b="b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76320" y="3522600"/>
            <a:ext cx="1387440" cy="265320"/>
          </a:xfrm>
          <a:custGeom>
            <a:avLst/>
            <a:gdLst/>
            <a:ahLst/>
            <a:rect l="l" t="t" r="r" b="b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5459400"/>
            <a:ext cx="325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 bytes of 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77080" y="3962520"/>
            <a:ext cx="1119240" cy="156960"/>
          </a:xfrm>
          <a:custGeom>
            <a:avLst/>
            <a:gdLst/>
            <a:ahLst/>
            <a:rect l="l" t="t" r="r" b="b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91480" y="424332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11520" y="3276720"/>
            <a:ext cx="3625920" cy="2492280"/>
          </a:xfrm>
          <a:custGeom>
            <a:avLst/>
            <a:gdLst/>
            <a:ahLst/>
            <a:rect l="l" t="t" r="r" b="b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60760" y="531972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8160" y="535320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216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5908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11160" y="4940640"/>
            <a:ext cx="1530000" cy="367200"/>
            <a:chOff x="911160" y="4940640"/>
            <a:chExt cx="1530000" cy="367200"/>
          </a:xfrm>
        </p:grpSpPr>
        <p:sp>
          <p:nvSpPr>
            <p:cNvPr id="125" name=""/>
            <p:cNvSpPr/>
            <p:nvPr/>
          </p:nvSpPr>
          <p:spPr>
            <a:xfrm>
              <a:off x="99360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1116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7"/>
                  </a:moveTo>
                  <a:arcTo wR="10800" hR="10800" stAng="-29507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7"/>
                  </a:moveTo>
                  <a:arcTo wR="10800" hR="10800" stAng="-29507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697440" y="4874040"/>
            <a:ext cx="1536120" cy="348480"/>
            <a:chOff x="6697440" y="4874040"/>
            <a:chExt cx="1536120" cy="348480"/>
          </a:xfrm>
        </p:grpSpPr>
        <p:sp>
          <p:nvSpPr>
            <p:cNvPr id="128" name=""/>
            <p:cNvSpPr/>
            <p:nvPr/>
          </p:nvSpPr>
          <p:spPr>
            <a:xfrm>
              <a:off x="6780240" y="4874040"/>
              <a:ext cx="145332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97440" y="4874040"/>
              <a:ext cx="145404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2"/>
                  </a:moveTo>
                  <a:arcTo wR="10800" hR="10800" stAng="-3111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2"/>
                  </a:moveTo>
                  <a:arcTo wR="10800" hR="10800" stAng="-3111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78492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15184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98520" y="3921120"/>
            <a:ext cx="1001880" cy="2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867280" y="4474800"/>
            <a:ext cx="917640" cy="2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22480" y="415440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10280" y="4060800"/>
            <a:ext cx="822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91480" y="479736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37320" y="4062240"/>
            <a:ext cx="857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3429000"/>
            <a:ext cx="2590560" cy="205740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/R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5T01:41:11Z</dcterms:created>
  <dc:creator>Dan Suciu</dc:creator>
  <dc:description/>
  <dc:language>en-US</dc:language>
  <cp:lastModifiedBy>Dan Suciu</cp:lastModifiedBy>
  <dcterms:modified xsi:type="dcterms:W3CDTF">2005-03-04T01:09:30Z</dcterms:modified>
  <cp:revision>17</cp:revision>
  <dc:subject/>
  <dc:title>Sorting</dc:title>
</cp:coreProperties>
</file>