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8599-D95C-42FF-9867-4526F240C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C5D-AA25-4B97-8CC5-82F9ABFB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F22-1633-47B6-95DC-A23BB8A6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E49-737C-46D4-8EA7-42B3B156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E9C-8C0C-4FC4-843D-AB7FAA3C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546-2466-4B96-B09B-17E0999A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0C3-AA28-4FC7-B44E-06624A3F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A92-9F2B-4DB1-A2E2-D57721CC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8F6-F3F3-4EC3-9B02-8A968484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3D7-76DF-4D52-87EE-B5A44FB3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A2A-62A0-4964-B18D-2EFEB0C6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F2D-61D4-4108-BA45-3A6086E6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655-8C09-45F6-B9DF-6E961341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1070-4DB0-4E53-A8C7-43116A308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: Lecture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March 7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 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250 ru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/B – 1) bytes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250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076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816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56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59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3732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h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/B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ords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625G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076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816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96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99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3732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ata can we sort with 10MB R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MB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s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5GB data    (</a:t>
            </a: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M/B = 25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everything in 2 or 3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590840" y="2209680"/>
                <a:ext cx="36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/B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⌈"/>
                            <m:endChr m:val="⌉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ze/M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s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ol in the XML toolkit sorts using thi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1GB of XML data in about 8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ulti-way merge sort needs only two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98360" y="2133720"/>
            <a:ext cx="10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1456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output(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x = next(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18880" y="21337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1456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9200" y="212868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2272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5520" y="2900520"/>
            <a:ext cx="192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R.A =S.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1456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.A &lt; y.B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.A=y.B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.A &gt; y.B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4560" y="133668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C) sorted on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B,D) sorted 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ternal Joi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Nested Loop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S) + B(R)*B(S)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ed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+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min(B(R),B(S)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+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B(R)+B(S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+ T(R)B(S)/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xecute this quer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87320" y="2768760"/>
            <a:ext cx="6110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493164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8576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048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8880" y="10098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70272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080" y="587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690804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340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89560" y="698400"/>
            <a:ext cx="43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6136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160" y="213372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/O Model of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in memory: CPU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O nota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atabases time is dominated by I/O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O too, but for I/O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big O becomes a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need to redesign certai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orting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70272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996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7160" y="6005520"/>
            <a:ext cx="4458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8" y="5290"/>
                </a:moveTo>
                <a:lnTo>
                  <a:pt x="-3114" y="5290"/>
                </a:lnTo>
                <a:lnTo>
                  <a:pt x="-3114" y="-45257"/>
                </a:lnTo>
                <a:lnTo>
                  <a:pt x="-924" y="-11389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61840" y="685800"/>
            <a:ext cx="45669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6" y="5290"/>
                </a:moveTo>
                <a:lnTo>
                  <a:pt x="-12527" y="5290"/>
                </a:lnTo>
                <a:lnTo>
                  <a:pt x="-12527" y="47976"/>
                </a:lnTo>
                <a:lnTo>
                  <a:pt x="-10980" y="8567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09560" y="2743200"/>
            <a:ext cx="4566960" cy="134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90804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340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6460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30360" y="6172200"/>
            <a:ext cx="193320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45" y="5290"/>
                </a:moveTo>
                <a:lnTo>
                  <a:pt x="80872" y="5290"/>
                </a:lnTo>
                <a:lnTo>
                  <a:pt x="80872" y="-75673"/>
                </a:lnTo>
                <a:lnTo>
                  <a:pt x="72188" y="-10451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25080" y="3886200"/>
            <a:ext cx="1790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42467"/>
              <a:gd name="adj5" fmla="val 351407"/>
              <a:gd name="adj6" fmla="val 18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2600" y="4879800"/>
            <a:ext cx="162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72472"/>
              <a:gd name="adj5" fmla="val 215175"/>
              <a:gd name="adj6" fmla="val 2415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44040" y="2400480"/>
            <a:ext cx="180828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21046"/>
              <a:gd name="adj5" fmla="val -61245"/>
              <a:gd name="adj6" fmla="val 182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ra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8880" y="380880"/>
            <a:ext cx="4520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):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b):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49720" y="914400"/>
            <a:ext cx="8009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81040" y="347508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96520" y="4998960"/>
            <a:ext cx="58478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pends on the data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4560" y="1600200"/>
            <a:ext cx="7794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assume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46000" y="3963960"/>
            <a:ext cx="341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46000" y="5487840"/>
            <a:ext cx="303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916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1400" y="4003560"/>
            <a:ext cx="10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consider several phys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for one, simpl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gic “best” plan: depends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ke the righ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’s, the T’s, the V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sort 1 GB of data with 1MB of 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 need th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(ORDER 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group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tep in sort-merge joi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0" y="449568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524520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Way Merge-so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s 3 Buffers in 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1: Read a page, sort it, wri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2, 3, …, etc.: merge two runs, writ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93000" y="413856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47720" y="453564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47720" y="528336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09840" y="416736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35200" y="5603760"/>
            <a:ext cx="27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02440" y="4834080"/>
            <a:ext cx="1055880" cy="13788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6840" y="5065560"/>
            <a:ext cx="1055520" cy="12564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428148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75776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30600" y="512460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3962520"/>
            <a:ext cx="3434040" cy="228600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18720" y="43196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18720" y="516420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58960" y="4767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60920" y="57164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09360" y="57452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5334120"/>
            <a:ext cx="1449000" cy="304200"/>
            <a:chOff x="1447920" y="5334120"/>
            <a:chExt cx="1449000" cy="304200"/>
          </a:xfrm>
        </p:grpSpPr>
        <p:sp>
          <p:nvSpPr>
            <p:cNvPr id="83" name=""/>
            <p:cNvSpPr/>
            <p:nvPr/>
          </p:nvSpPr>
          <p:spPr>
            <a:xfrm>
              <a:off x="15256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79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934320" y="5334120"/>
            <a:ext cx="1449000" cy="304200"/>
            <a:chOff x="6934320" y="5334120"/>
            <a:chExt cx="1449000" cy="304200"/>
          </a:xfrm>
        </p:grpSpPr>
        <p:sp>
          <p:nvSpPr>
            <p:cNvPr id="86" name=""/>
            <p:cNvSpPr/>
            <p:nvPr/>
          </p:nvSpPr>
          <p:spPr>
            <a:xfrm>
              <a:off x="70120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343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0102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334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800600" y="50288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120" y="3200400"/>
            <a:ext cx="3182040" cy="652680"/>
          </a:xfrm>
          <a:prstGeom prst="wedgeEllipseCallout">
            <a:avLst>
              <a:gd name="adj1" fmla="val 9611"/>
              <a:gd name="adj2" fmla="val 855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9520" y="2895480"/>
            <a:ext cx="3398760" cy="652680"/>
          </a:xfrm>
          <a:prstGeom prst="wedgeEllipseCallout">
            <a:avLst>
              <a:gd name="adj1" fmla="val 12009"/>
              <a:gd name="adj2" fmla="val 13588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2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Way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block size is B = 4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4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8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6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9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9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GB 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8960" y="6099480"/>
            <a:ext cx="615780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19 iterations over the disk data to sort 1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Bett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1MB of main memory, but only used 12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Model for Ou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size  (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= 4K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main memory  (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= 1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records in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one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runs of length M bytes ( </a:t>
            </a: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1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076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816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25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28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98520" y="39211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44748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3732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4290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R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01:41:11Z</dcterms:created>
  <dc:creator>Dan Suciu</dc:creator>
  <dc:description/>
  <dc:language>en-US</dc:language>
  <cp:lastModifiedBy>Dan Suciu</cp:lastModifiedBy>
  <dcterms:modified xsi:type="dcterms:W3CDTF">2005-03-04T01:09:30Z</dcterms:modified>
  <cp:revision>17</cp:revision>
  <dc:subject/>
  <dc:title>Sorting</dc:title>
</cp:coreProperties>
</file>