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9A3C1C-13D2-4110-8F36-B9719724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516BA5-41BE-4B15-B536-BC94BB38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F8E-5DD6-48E4-B23C-2400690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7C8-39F0-4D42-85FC-76E0845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84B-27B3-4042-9AE3-281DAE6C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11F-D1D9-4CF1-9A7F-8FA0D09D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AAC-2C9C-4DD4-9A81-3E67A782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04F-AA79-45A7-95C2-CE1D850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23D-4490-4B3F-8D54-CD005357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57A-7B59-450D-B4F8-DFE6116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AF2-99F7-4E1E-BF53-C0B09B02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B8B-E557-46C5-B760-3EA81D30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D34-4516-4F67-8CF0-A398E59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25F-6028-4D46-89DD-F4289BA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AB3B-D37E-416B-AA74-6F3183C96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rch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BF6-5798-48B1-B082-87336E0FB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hoose k and 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k large but s.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/k large but s.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/k * B(S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:                        t/k * B(S) + k-t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/k * B(S) &gt;&gt; k-t:     t/k = M/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692-2C48-4EAF-A264-0CF0DDEAAD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partitioned hash join:                    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2 I/Os for a t/k fraction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  2t/k(B(R) + B(S))  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(3-2t/k)(B(R) + B(S)) =     (3-2M/B(S))(B(R) + B(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69A-083B-4883-8DB4-36B6E9F187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0E8-5892-4BD5-85F0-B0A2AF6C7E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9840" y="3965760"/>
            <a:ext cx="4112280" cy="459720"/>
            <a:chOff x="2139840" y="3965760"/>
            <a:chExt cx="4112280" cy="459720"/>
          </a:xfrm>
        </p:grpSpPr>
        <p:sp>
          <p:nvSpPr>
            <p:cNvPr id="244" name=""/>
            <p:cNvSpPr/>
            <p:nvPr/>
          </p:nvSpPr>
          <p:spPr>
            <a:xfrm>
              <a:off x="213984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392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DFC-D937-43EF-86F7-60BFF36ECC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A50-F4CF-435C-8FE6-82790361A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023-6B69-4E2F-A3A6-0314AC9EA8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FCE-8701-4E1C-8681-1D87F1EF0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253-BAD3-41FA-8F6C-8384C3B4F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C0C-8A9F-446A-954D-8C6AB605F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832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74F-2D71-4046-B79C-EF168C3FC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52-174A-4C64-A961-B2C17B1FD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71E-F63D-46DD-9DD2-30E4F397A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4BE-DE0B-4913-8298-B90E22D52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17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176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840-7E96-4BD6-9D29-F1845C44E8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DBA-EED6-4220-BE79-ADD67BAE4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 buckets join immediately with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k-t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t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CD0-D288-46C9-929C-E0C920B54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3-04T01:03:40Z</dcterms:modified>
  <cp:revision>346</cp:revision>
  <dc:subject/>
  <dc:title>Lecture 09:</dc:title>
</cp:coreProperties>
</file>