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E9BE6E-0F8A-4B71-93B7-45E30F1C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8BF8B7-FFED-4E66-B242-4BBD807E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3AF-DF4A-486A-9639-266928CA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1D1-5270-4BDA-BCAD-95893F4F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554-1DF0-4E1A-9BF1-1600A8B0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9B9-E9B1-4D34-BCE4-FB89ECCF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BC6-69EC-4E82-8422-40E7DE4C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78E-BD3C-4951-BAE9-4244B0B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023-EF13-4787-A0FA-E1A524E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A29-C1A2-4665-9021-135FFA92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352-92D2-4B5A-B388-ED1A31B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B8B-B782-48EB-8E0F-52E57081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9B4-3E63-4E88-8BA7-7F2907B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5C7-F4C7-46AA-8D85-CFF9410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25A-B379-49B5-ABA9-186D20D93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March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412-58FF-43D5-A8ED-876BDC89B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hoose k and 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k large but s.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/k large but s.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/k * B(S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:                        t/k * B(S) + k-t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/k * B(S) &gt;&gt; k-t:     t/k = M/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16B-F752-48AA-8DE5-396B43F22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partitioned hash join:                    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2 I/Os for a t/k fraction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  2t/k(B(R) + B(S))  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(3-2t/k)(B(R) + B(S)) =     (3-2M/B(S))(B(R) + B(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44B-8A2A-4F8E-9C66-494DD16F48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E95-2F91-4F08-BB55-D39F054F3C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39840" y="3965760"/>
            <a:ext cx="4112280" cy="459720"/>
            <a:chOff x="2139840" y="3965760"/>
            <a:chExt cx="4112280" cy="459720"/>
          </a:xfrm>
        </p:grpSpPr>
        <p:sp>
          <p:nvSpPr>
            <p:cNvPr id="244" name=""/>
            <p:cNvSpPr/>
            <p:nvPr/>
          </p:nvSpPr>
          <p:spPr>
            <a:xfrm>
              <a:off x="213984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392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31A-2A3D-417F-8587-9C2CB23E48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D74-9EEE-4CE2-930A-897DFEAB5C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A8D-2E97-4A5C-BB30-A7B30987D1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A67-21F4-46E5-B714-1FB298C744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6FB-2B53-48E4-AD12-7E5F04AF68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A05-7BBE-46FE-858A-12BADD6C22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55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65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86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4832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95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BF4-024D-467D-9480-CF8A3915C0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F37-2228-45C7-8972-B7FE20816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9A9-829C-4BFB-B319-C5E14B6120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A73-2BBD-48FD-8248-2A39399C3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2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4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6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17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18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4176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E16-8DDB-4B83-9C74-87681CD7FB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6C6-6825-45C4-B73E-B9EEB529F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y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 buckets join immediately with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k-t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t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BA9-A12B-4D31-AB3E-E1E305D620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3-04T01:03:40Z</dcterms:modified>
  <cp:revision>346</cp:revision>
  <dc:subject/>
  <dc:title>Lecture 09:</dc:title>
</cp:coreProperties>
</file>