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1A4EDB-0DCB-4E7F-90AD-76827866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FF9-C7F8-460E-98F2-A59A503F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E54-9383-4E71-A7A2-A89321D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AEE-2226-4B93-BC40-118AB13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406-1AD2-4DB2-A364-38268A7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A99-0395-47C0-9B1E-D86DF991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CF8-CE3F-4B76-9E40-8548C85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B30-2A7A-441C-A3A5-9667B4A8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370-7CD4-4B65-9A97-DA501E20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DA9-1759-4E1F-9040-5501F11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B27-4B5C-4260-AB07-7B2FE863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08E-3E82-43A9-BE93-EF58141A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BAE-5387-489B-969B-5680B7B0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C026-A6A3-4CD3-9330-3CE8CB37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DC9-988C-4E81-9C39-0953E68A81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8B9-0801-41F4-8875-FBE1B99B7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9BB-3506-44B0-B371-F44E4E20B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DD4-D66E-4886-BC95-E0CA7D5A9F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may be 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needs to be 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F06-B89C-4055-88A0-795B01A3C3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3EE-7DA3-4740-8CC2-EC7D63911C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650-5DC1-4124-85C8-5BB709F83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C47-0869-4C52-884D-8404C92C58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72F-73CC-4645-82BB-74D22BF3F7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departmen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quantity) for each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department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646-E721-485A-90A7-17B15528BD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C03-642C-4598-9143-427C92FAD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EB1-8CFA-4651-B192-F1B6788F4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x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120" y="1676520"/>
            <a:ext cx="2686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 each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58C-C3F6-4CE7-851F-02362A568B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014-01DD-47B3-BC77-0C62FDB849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5A1-737F-4008-A1B5-B9A66C4447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16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E04-F7DB-4108-B1D6-C90038F65D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82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568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660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9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34200" y="2979720"/>
            <a:ext cx="887040" cy="2026440"/>
            <a:chOff x="6334200" y="2979720"/>
            <a:chExt cx="887040" cy="2026440"/>
          </a:xfrm>
        </p:grpSpPr>
        <p:grpSp>
          <p:nvGrpSpPr>
            <p:cNvPr id="207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208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856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2064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A5B-58B4-45F2-B148-EF684F11A8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76F-A280-4443-9BAD-8C96C293F9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4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5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6" idx="2"/>
            <a:endCxn id="57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2"/>
            <a:endCxn id="53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9DC-9E2B-449F-9C5F-CD81FAFFF6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0C3-5912-432F-81ED-9A7E385BE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0C4-7EF0-4183-A19E-120D193CA6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89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610-76B0-4BC2-991A-29C6E12C1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2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447-CCBA-4C91-9B4D-97CD8112B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550-BD1A-4C44-AB42-BF5E237029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E74-9F69-4F97-8A17-51EC34A473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3-02T05:16:49Z</dcterms:modified>
  <cp:revision>312</cp:revision>
  <dc:subject/>
  <dc:title>Lecture 09:</dc:title>
</cp:coreProperties>
</file>