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D7011E-3F66-455B-9026-47F59F74E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A53-34B1-4619-9B86-AB244884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374-3763-4224-A891-1EF78F4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A19-7817-4F7D-B309-B3AF2B12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0D5-8F9E-45AF-83CD-F962B327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3DD-2037-416E-9375-4DFF3D8B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521-6DD2-43FE-9130-EA22464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04A-216D-431B-AAAE-680F46EE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8BA-EEB8-486A-8D4C-71887FC8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5DD-2AD3-422D-B432-6903F679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41E-5CA1-48C8-BE0E-231476CE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828-F8FD-49CA-B936-A9EA942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99C-1CB3-4DB0-A949-E9CFF367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234B-E31C-4C76-8B70-617B2404A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2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6F5-47ED-4734-9EC2-EDA706E82A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 systems the data i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9E2-2619-4302-993F-0FC8EC1AC8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 /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D27-C7C7-47C4-8B4B-0F3D6242A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following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CC7-9176-48BD-856D-8B00763DCE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may be unsorted: 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needs to be sorted:   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B(R) or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rted: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: T(R) +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FA4-5221-4DF6-8DF5-6E31EEA999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42E-E421-414A-AF69-5F10E768C1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F56-2DE2-4BC5-8640-65CB68196F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3FA-5D13-4009-93E0-AC57636965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B54-816E-4FA6-A397-1F51A676B5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departmen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quantity) for each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department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CA6-309F-4C03-AD9D-4025801E3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056-18D8-438E-86FC-D1801716F3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89D-4258-4B10-B33C-4A9C15D6B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x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120" y="1676520"/>
            <a:ext cx="26866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n each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E16-B7A7-4F1E-9F8C-8DC90289A1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566-25B5-4183-ABF6-6D5C36047E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084-94B2-44AB-8690-2D84FDE863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160" y="2743200"/>
            <a:ext cx="796104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r and s join”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35B-48F1-4304-8B7E-88FE75DD11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82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568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660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9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34200" y="2979720"/>
            <a:ext cx="887040" cy="2026440"/>
            <a:chOff x="6334200" y="2979720"/>
            <a:chExt cx="887040" cy="2026440"/>
          </a:xfrm>
        </p:grpSpPr>
        <p:grpSp>
          <p:nvGrpSpPr>
            <p:cNvPr id="207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208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856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02064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DD3-85FB-4CE7-846E-D716879513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66C-7DEF-4023-BF3D-DD5D69E906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3" idx="2"/>
            <a:endCxn id="54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4" idx="2"/>
            <a:endCxn id="55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2"/>
            <a:endCxn id="56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6" idx="2"/>
            <a:endCxn id="57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2"/>
            <a:endCxn id="53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B11-9681-413C-9863-909D839E2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lgebra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BB3-3397-402B-868C-9577291AEB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4EA-90FD-4401-8174-4692A3402F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89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3E5-350B-4A4F-89CF-66C6406B4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105080" y="1447920"/>
            <a:ext cx="5038920" cy="3802320"/>
            <a:chOff x="4105080" y="1447920"/>
            <a:chExt cx="5038920" cy="3802320"/>
          </a:xfrm>
        </p:grpSpPr>
        <p:sp>
          <p:nvSpPr>
            <p:cNvPr id="112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040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924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5968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5604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7452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150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414600" y="54864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BBE-EC6F-4084-ADEB-EB41542A6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0D7-20F8-4032-B007-F480981A23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262-AB34-4244-89ED-48622BCC53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3-02T05:16:49Z</dcterms:modified>
  <cp:revision>312</cp:revision>
  <dc:subject/>
  <dc:title>Lecture 09:</dc:title>
</cp:coreProperties>
</file>