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E12-48B7-4CC6-BFEE-77325D1C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94B-FEB0-47E4-9361-497F6B6F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DD8-E67F-424F-9EB0-8E430BD8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BAD-E794-440C-A437-D788CDBB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A40-3C06-4365-855F-4AAE9CAA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EEA-9F9E-4F3E-9301-EB88C6C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A12-7435-4504-BC8C-D09D175F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3C0-0916-49E0-B0ED-9071EF21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AD3-CA71-45A7-9DE8-386692B9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B39-17B0-4CD7-BAAA-33A3E4A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AC8-4FC2-4287-9011-772A864D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589-35E3-4141-B989-635CD49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BB46-D11D-4DAE-826F-949867FD4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February 2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444-2ABB-4D12-B5C9-0A82C0835D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=1, n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, k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only look at the first bit (0 or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413-80CF-41C9-A4D9-DAC72B0E2D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208-D106-4D3C-901B-6A92012C03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tend table, spli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become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10), 1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A6A-F1EE-4555-8741-43DA89E224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8EF-D761-45FD-84E6-99B93F2AF1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0000, then 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plit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791320" y="2666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(000), 0(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0C4-365D-4602-A94E-AD134CF422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plitting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(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2AE-3EB9-4EE5-A01D-CBFD21BE5E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buckets (blocks)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entries in the hash table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E0A-6D5C-47EE-9FD1-3B47CBDFD6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verflow blocks: access always on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can be costly and disru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n extension table may no longer fit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2DF-F7AA-4437-B497-EBE4214E5A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extend only one entry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n= no longer a power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i be such tha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n 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omputing h(k), use last i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ast i bits represent a number &gt; n, change msb from 1 to 0 (get a number &lt;=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D1A-EC1D-4BEB-B2DA-AF8E403D49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809880" y="358128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01)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BIT F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06A-2CDE-4018-836F-F51FA48981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indexes (far less than B+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during query processing (a lot 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321-8408-45F2-8239-531F491776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000: overflow block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6576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657600" y="48769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676520" y="44197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676520" y="35053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 flipV="1">
            <a:off x="2133720" y="3657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28600" y="430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2860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28600" y="50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209680" y="41911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65760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008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84582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616-C1D9-45EE-A7F1-2FF1111512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: independent on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n:=n+1 when average number of records per block exceeds (say) 8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96C-B182-4538-9052-CFD47C7002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n=3 to n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eed to tou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lock (which one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30440" y="2743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30440" y="44197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49360" y="39625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49360" y="30481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 flipV="1">
            <a:off x="1006560" y="3200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656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8784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082520" y="37339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530440" y="35812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45878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02080" y="60958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7002720" y="4426560"/>
            <a:ext cx="1828800" cy="9003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2701" y="11029"/>
                </a:moveTo>
                <a:arcTo wR="-8102" hR="-8102" stAng="10702823" swAng="-10702823"/>
                <a:lnTo>
                  <a:pt x="0" y="10800"/>
                </a:lnTo>
                <a:arcTo wR="10800" hR="10800" stAng="10800000" swAng="10702823"/>
                <a:lnTo>
                  <a:pt x="24295" y="10418"/>
                </a:lnTo>
                <a:lnTo>
                  <a:pt x="20362" y="14580"/>
                </a:lnTo>
                <a:lnTo>
                  <a:pt x="16200" y="1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DEB-29C0-4CF4-B8F3-2430D57C15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n=3 to n=4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from n=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n=5 (new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touch e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block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60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4F6-0D28-4B0A-AED2-A7E7C88470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hash tables are much like main memory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601-24B4-4712-A60B-B30AD58562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8320" y="5985000"/>
            <a:ext cx="2768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h(x) = x m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B46-CBAE-4895-B3C1-70C55C281C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EE7-8944-4229-8B2A-1FDC8A65A3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7A7-3068-494B-B505-F60652ABE0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F0A-8ACF-433B-8B7B-A5DDCD68B4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E84-08CE-4FD4-B194-4F96EBFED9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as table to grow, to avoid performance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 hash function h that returns numbers in {0, …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n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only look at first i most significant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21E-FB97-4AAD-8CBB-D5A2A6CCA3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28T14:55:56Z</dcterms:modified>
  <cp:revision>262</cp:revision>
  <dc:subject/>
  <dc:title>Lecture 09:</dc:title>
</cp:coreProperties>
</file>