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DD8A-5438-4986-8AD8-198C2D02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D7AA-1C5C-4819-AF18-8C986827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1B9A-7E81-40C4-9427-D2572EE2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42CE-C1B3-47A2-86B2-BEE12B56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7C50-4EF8-4BDE-81C5-6B4A7752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F8E3-939F-4308-97FB-75E4F155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57B1-9236-4EF6-9DC5-50BC9173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136B-8E14-401E-9AF0-E0A382AA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A315-1F32-4AEF-BD84-A9A62745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FD0B-FF6E-4A34-9B99-84D5E776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EBC8-D560-4F3F-A8B8-4F3DE652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E7C2-309C-4559-B023-B8F1D902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7251-B8E9-4A8E-A7A4-DFE6D8948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1: Hash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February 28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06B3-C502-4782-AF12-5E075D679E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i=1, n=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, k=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we only look at the first bit (0 or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0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3809880" y="3581280"/>
          <a:ext cx="914400" cy="757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411480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6232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785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60EC-02A8-490C-9BB0-BA218CBE40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1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0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(1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809880" y="3581280"/>
          <a:ext cx="914400" cy="757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411480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6232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85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D6A1-09A1-4B38-9B28-FFC63AAA55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nsert 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extend table, split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becomes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0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110), 1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809880" y="3581280"/>
          <a:ext cx="914400" cy="757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411480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6232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85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55BC-9FA1-4F18-A190-BD7DEDCC9B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809880" y="3581280"/>
          <a:ext cx="914400" cy="1513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6232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791320" y="5029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7848720" y="5029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7080" y="4876920"/>
            <a:ext cx="1524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343400" y="2895120"/>
            <a:ext cx="1447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FD58-18BD-45DE-A6BC-A9539A3F51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nsert 0000, then 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split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791320" y="2666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(000), 0(1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809880" y="3581280"/>
          <a:ext cx="914400" cy="1513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6232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791320" y="5029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7848720" y="5029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4876920"/>
            <a:ext cx="1524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343400" y="2895120"/>
            <a:ext cx="1447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2E36-D744-41FA-B5DF-9B53BAA1CF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plitting the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791320" y="2362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(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791320" y="40384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809880" y="3581280"/>
          <a:ext cx="914400" cy="1513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48720" y="4038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6232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791320" y="5029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7848720" y="5029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4876920"/>
            <a:ext cx="1524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343400" y="3352320"/>
            <a:ext cx="1447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79132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(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7848720" y="3200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FD76-EC4A-4815-B3A2-76F3DD9AA5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buckets (blocks) do we need to touch after an insertio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entries in the hash table do we need to touch after an insertio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D8FC-4FED-4B85-8DE2-52F3C77781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overflow blocks: access always one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s can be costly and disrup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an extension table may no longer fit 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8EE6-C1EB-47EE-87FF-E1E6ADD4BA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: extend only one entry at a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n= no longer a power of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i be such that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= n &lt;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computing h(k), use last i bi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last i bits represent a number &gt; n, change msb from 1 to 0 (get a number &lt;= 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A9CC-EA97-4144-8239-5496AA5481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791320" y="2362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40384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3809880" y="3581280"/>
          <a:ext cx="914400" cy="1135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487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48720" y="4038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343400" y="3352320"/>
            <a:ext cx="1447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79132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(01)1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BIT FL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7848720" y="3200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9FDA-C95E-4C6C-AFF4-6C8F3A223C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-tables (13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as indexes (far less than B+ tre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during query processing (a lot !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E0B3-A937-4C08-A472-B4508DE5EE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1000: overflow block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65760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3657600" y="48769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676520" y="4419720"/>
          <a:ext cx="914400" cy="1135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676520" y="350532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 flipV="1">
            <a:off x="2133720" y="365760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5410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15000" y="3200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15000" y="4876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28600" y="430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28600" y="4689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28600" y="507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209680" y="419112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657600" y="40384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5715000" y="4038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40080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8458200" y="3200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1C1F-6DC2-47A6-B936-54D5CABF6B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: independent on overflow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 n:=n+1 when average number of records per block exceeds (say) 8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77E1-22CF-4060-A1F0-57A331008F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n=3 to n=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need to tou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block (which one 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530440" y="2743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2530440" y="44197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549360" y="3962520"/>
          <a:ext cx="914400" cy="1135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549360" y="304812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 flipV="1">
            <a:off x="1006560" y="320040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0656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87840" y="2743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4419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4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4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4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082520" y="373392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530440" y="35812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458784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629400" y="3809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629400" y="5486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5257800" y="5029200"/>
          <a:ext cx="914400" cy="151272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5257800" y="411480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8686800" y="3809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68680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09880" y="4917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09880" y="529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09880" y="568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6629400" y="4648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8686800" y="4648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629400" y="2819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8686800" y="2819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02080" y="609588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=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715000" y="2971800"/>
            <a:ext cx="914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715000" y="411444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5715000" y="480024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791320" y="57909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5400000">
            <a:off x="7002720" y="4426560"/>
            <a:ext cx="1828800" cy="9003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900360"/>
              <a:gd name="textAreaBottom" fmla="*/ 900720 h 900360"/>
            </a:gdLst>
            <a:ahLst/>
            <a:rect l="textAreaLeft" t="textAreaTop" r="textAreaRight" b="textAreaBottom"/>
            <a:pathLst>
              <a:path w="21600" h="21600">
                <a:moveTo>
                  <a:pt x="2701" y="11029"/>
                </a:moveTo>
                <a:arcTo wR="-8102" hR="-8102" stAng="10702823" swAng="-10702823"/>
                <a:lnTo>
                  <a:pt x="0" y="10800"/>
                </a:lnTo>
                <a:arcTo wR="10800" hR="10800" stAng="10800000" swAng="10702823"/>
                <a:lnTo>
                  <a:pt x="24295" y="10418"/>
                </a:lnTo>
                <a:lnTo>
                  <a:pt x="20362" y="14580"/>
                </a:lnTo>
                <a:lnTo>
                  <a:pt x="16200" y="1064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FB94-0809-43F7-901E-73A0A3179D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n=3 to n=4 fin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 from n=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n=5 (new b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touch eve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block 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6629400" y="3809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6629400" y="5486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5257800" y="5029200"/>
          <a:ext cx="914400" cy="151272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5257800" y="411480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8686800" y="3809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68680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09880" y="4917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09880" y="529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09880" y="568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629400" y="4648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8686800" y="4648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629400" y="2819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8686800" y="2819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26080" y="6095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715000" y="2971800"/>
            <a:ext cx="914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5715000" y="411444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715000" y="480024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791320" y="57909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8794-DADE-49BD-8D3B-780F030815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storage hash tables are much like main memory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bas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u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ash function f(k) maps a key k to {0, 1, …, n-1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in bucket f(k) a pointer to record with key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storage: bucket = block, use overflow blocks when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E89F-3864-4114-A0FD-CA69E38528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1 bucket (block) stores 2 keys + poi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e)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b)=h(f)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g)=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a)=h(c)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8320" y="5985000"/>
            <a:ext cx="2768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: h(x) = x mod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02EE-1A0F-417B-8DA7-8B3DDD8609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h(a)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bucket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disk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in a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6E42-E6C5-41A9-A968-4C1E5105F0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in right bucket, if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h(d)=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DD9F-0ED4-4972-BD33-8F845D1338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overflow block, if no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h(k)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ver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w block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962520" y="3048120"/>
          <a:ext cx="2057400" cy="303192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318636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86360" y="39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86360" y="4649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86360" y="537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3809880"/>
            <a:ext cx="309600" cy="30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705720" y="3809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617220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C04B-6C00-471F-8007-039D0DE3DF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llent, if no overflow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grades considerably when number of keys exceeds the number of buckets (I.e. many overflow block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2672-DE1F-4D47-B42D-E2997C30A2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has table to grow, to avoid performance degra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a hash function h that returns numbers in {0, …,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n =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&lt;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 only look at first i most significant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4E8E-F55C-40F8-A0C8-7B4512F887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02-28T14:55:56Z</dcterms:modified>
  <cp:revision>262</cp:revision>
  <dc:subject/>
  <dc:title>Lecture 09:</dc:title>
</cp:coreProperties>
</file>