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10C8-F175-4A03-BB05-241317C45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B283-15D8-4323-BB4D-685219EDE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-1440" y="8685360"/>
            <a:ext cx="297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-1440" y="-144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7022-5CDA-49D4-8281-CBFA213F8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D125-95AB-4939-8738-DFD216BAD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-1440" y="8685360"/>
            <a:ext cx="297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-1440" y="-144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B1D1-7941-4AAA-9B3C-3FEE00B1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8AE9-45D3-4933-8A9F-521715E0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4C7F-E82A-429C-BBC0-FB878DE2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22BC-8522-4653-A602-54BFA678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D17C-20D2-400C-BA2B-5D1A18BE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2E49-D5EB-4F90-9308-449B887C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3BB5-34CC-4163-8BC6-2F95EEFA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7D29-B274-4C48-A059-5631AF43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4256-F701-4B29-9A6E-54E4B468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0086-5803-4B73-843F-4B1B664C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AAA4-A553-45DE-9324-7BD59B7A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2AB4-9626-453B-8876-29B77709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2DF7-F1AC-4703-A2B5-4857ADCF6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0: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February 25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445F-5D25-404B-AFAC-7F58D15BD0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se ind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905120" y="33526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905120" y="45720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419720" y="32767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419720" y="4038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419720" y="4876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419720" y="57150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 flipV="1">
            <a:off x="2590920" y="34290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37339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3962520"/>
            <a:ext cx="182880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191120"/>
            <a:ext cx="18288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51C7-753F-40EF-AC01-F546F90DE3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rse index: pointer to lowest search key in each blo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05740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57200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572000" y="4343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57200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57200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 flipV="1">
            <a:off x="2743200" y="3733560"/>
            <a:ext cx="1828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40384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4267080"/>
            <a:ext cx="1828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449568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4114800"/>
            <a:ext cx="914400" cy="609480"/>
          </a:xfrm>
          <a:prstGeom prst="wedgeRoundRectCallout">
            <a:avLst>
              <a:gd name="adj1" fmla="val 118402"/>
              <a:gd name="adj2" fmla="val -3203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is her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48720" y="2666880"/>
            <a:ext cx="1066680" cy="1143000"/>
          </a:xfrm>
          <a:prstGeom prst="wedgeRoundRectCallout">
            <a:avLst>
              <a:gd name="adj1" fmla="val -88986"/>
              <a:gd name="adj2" fmla="val 9652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but need to search here t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2141-466A-4BCF-AAEF-4D1E2377F3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: pointer to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west new search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each blo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15 ? 35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05740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057400" y="48769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572000" y="28195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57200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572000" y="44197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57200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 flipV="1">
            <a:off x="2743200" y="2819160"/>
            <a:ext cx="18288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743200" y="35812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42670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49568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4114800"/>
            <a:ext cx="914400" cy="609480"/>
          </a:xfrm>
          <a:prstGeom prst="wedgeRoundRectCallout">
            <a:avLst>
              <a:gd name="adj1" fmla="val 127259"/>
              <a:gd name="adj2" fmla="val -583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is her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4191120"/>
            <a:ext cx="1066680" cy="838080"/>
          </a:xfrm>
          <a:prstGeom prst="wedgeRoundRectCallout">
            <a:avLst>
              <a:gd name="adj1" fmla="val -88986"/>
              <a:gd name="adj2" fmla="val -1229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ok to search from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183E-C70C-4827-9E72-B486D77830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ndex other attributes than primary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dense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828800" y="35053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828800" y="47242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343400" y="34290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343400" y="41911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343400" y="50292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343400" y="5867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2514600" y="3657600"/>
            <a:ext cx="1828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3886200"/>
            <a:ext cx="18288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514600" y="358128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43434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876920"/>
            <a:ext cx="1828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514600" y="388584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14600" y="434304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5562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2184-9ACF-4F3B-9F76-E799E40159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/Unclust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indexes = usually clus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indexes = usually unclus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62EA-73A6-499B-8555-0A4EDBAB54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 vs. Unclustered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576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4240" y="36702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41280" y="3670200"/>
            <a:ext cx="400320" cy="32868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0" y="206"/>
                </a:moveTo>
                <a:lnTo>
                  <a:pt x="0" y="0"/>
                </a:lnTo>
                <a:lnTo>
                  <a:pt x="251" y="0"/>
                </a:lnTo>
                <a:lnTo>
                  <a:pt x="251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71560" y="36702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00400" y="367020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2744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592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46080" y="2589120"/>
            <a:ext cx="1724040" cy="180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46080" y="1614600"/>
            <a:ext cx="90972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54360" y="161460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1000" y="1528920"/>
            <a:ext cx="334800" cy="8712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57520" y="1566720"/>
            <a:ext cx="98280" cy="4932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8480" y="28479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5400" y="29671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5400" y="2986200"/>
            <a:ext cx="280800" cy="144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00240" y="29671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74760" y="28479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41320" y="29671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41320" y="2986200"/>
            <a:ext cx="23364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98640" y="29671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53920" y="25700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53920" y="2774880"/>
            <a:ext cx="60480" cy="7452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06600" y="2570040"/>
            <a:ext cx="1440" cy="27936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88960" y="277344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33680" y="2847960"/>
            <a:ext cx="466560" cy="32400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01840" y="29671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01840" y="298620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59160" y="29671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79760" y="25700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9720" y="2774880"/>
            <a:ext cx="5904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1600" y="3170160"/>
            <a:ext cx="374760" cy="509760"/>
          </a:xfrm>
          <a:custGeom>
            <a:avLst/>
            <a:gdLst/>
            <a:ahLst/>
            <a:rect l="l" t="t" r="r" b="b"/>
            <a:pathLst>
              <a:path w="236" h="321">
                <a:moveTo>
                  <a:pt x="235" y="0"/>
                </a:moveTo>
                <a:lnTo>
                  <a:pt x="0" y="320"/>
                </a:lnTo>
                <a:lnTo>
                  <a:pt x="235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1600" y="3608280"/>
            <a:ext cx="60480" cy="71640"/>
          </a:xfrm>
          <a:custGeom>
            <a:avLst/>
            <a:gdLst/>
            <a:ahLst/>
            <a:rect l="l" t="t" r="r" b="b"/>
            <a:pathLst>
              <a:path w="38" h="45">
                <a:moveTo>
                  <a:pt x="37" y="14"/>
                </a:moveTo>
                <a:lnTo>
                  <a:pt x="0" y="4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3080" y="3170160"/>
            <a:ext cx="280800" cy="509760"/>
          </a:xfrm>
          <a:custGeom>
            <a:avLst/>
            <a:gdLst/>
            <a:ahLst/>
            <a:rect l="l" t="t" r="r" b="b"/>
            <a:pathLst>
              <a:path w="177" h="321">
                <a:moveTo>
                  <a:pt x="176" y="0"/>
                </a:moveTo>
                <a:lnTo>
                  <a:pt x="0" y="320"/>
                </a:lnTo>
                <a:lnTo>
                  <a:pt x="176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80" y="360504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0"/>
                </a:moveTo>
                <a:lnTo>
                  <a:pt x="0" y="4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960" y="3170160"/>
            <a:ext cx="189000" cy="509760"/>
          </a:xfrm>
          <a:custGeom>
            <a:avLst/>
            <a:gdLst/>
            <a:ahLst/>
            <a:rect l="l" t="t" r="r" b="b"/>
            <a:pathLst>
              <a:path w="119" h="321">
                <a:moveTo>
                  <a:pt x="118" y="0"/>
                </a:moveTo>
                <a:lnTo>
                  <a:pt x="0" y="320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960" y="3603600"/>
            <a:ext cx="46080" cy="76320"/>
          </a:xfrm>
          <a:custGeom>
            <a:avLst/>
            <a:gdLst/>
            <a:ahLst/>
            <a:rect l="l" t="t" r="r" b="b"/>
            <a:pathLst>
              <a:path w="29" h="48">
                <a:moveTo>
                  <a:pt x="28" y="7"/>
                </a:moveTo>
                <a:lnTo>
                  <a:pt x="0" y="47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6040" y="3170160"/>
            <a:ext cx="47520" cy="509760"/>
          </a:xfrm>
          <a:custGeom>
            <a:avLst/>
            <a:gdLst/>
            <a:ahLst/>
            <a:rect l="l" t="t" r="r" b="b"/>
            <a:pathLst>
              <a:path w="30" h="321">
                <a:moveTo>
                  <a:pt x="0" y="0"/>
                </a:moveTo>
                <a:lnTo>
                  <a:pt x="29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6560" y="3603600"/>
            <a:ext cx="38160" cy="7632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22280" y="3170160"/>
            <a:ext cx="1800" cy="509760"/>
          </a:xfrm>
          <a:custGeom>
            <a:avLst/>
            <a:gdLst/>
            <a:ahLst/>
            <a:rect l="l" t="t" r="r" b="b"/>
            <a:pathLst>
              <a:path w="1" h="321">
                <a:moveTo>
                  <a:pt x="0" y="0"/>
                </a:moveTo>
                <a:lnTo>
                  <a:pt x="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03200" y="3605040"/>
            <a:ext cx="38160" cy="74880"/>
          </a:xfrm>
          <a:custGeom>
            <a:avLst/>
            <a:gdLst/>
            <a:ahLst/>
            <a:rect l="l" t="t" r="r" b="b"/>
            <a:pathLst>
              <a:path w="24" h="47">
                <a:moveTo>
                  <a:pt x="23" y="0"/>
                </a:moveTo>
                <a:lnTo>
                  <a:pt x="12" y="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66920" y="3170160"/>
            <a:ext cx="48960" cy="509760"/>
          </a:xfrm>
          <a:custGeom>
            <a:avLst/>
            <a:gdLst/>
            <a:ahLst/>
            <a:rect l="l" t="t" r="r" b="b"/>
            <a:pathLst>
              <a:path w="31" h="321">
                <a:moveTo>
                  <a:pt x="0" y="0"/>
                </a:moveTo>
                <a:lnTo>
                  <a:pt x="3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89240" y="3603600"/>
            <a:ext cx="39600" cy="76320"/>
          </a:xfrm>
          <a:custGeom>
            <a:avLst/>
            <a:gdLst/>
            <a:ahLst/>
            <a:rect l="l" t="t" r="r" b="b"/>
            <a:pathLst>
              <a:path w="25" h="48">
                <a:moveTo>
                  <a:pt x="24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14440" y="3170160"/>
            <a:ext cx="93600" cy="509760"/>
          </a:xfrm>
          <a:custGeom>
            <a:avLst/>
            <a:gdLst/>
            <a:ahLst/>
            <a:rect l="l" t="t" r="r" b="b"/>
            <a:pathLst>
              <a:path w="59" h="321">
                <a:moveTo>
                  <a:pt x="0" y="0"/>
                </a:moveTo>
                <a:lnTo>
                  <a:pt x="5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3602160"/>
            <a:ext cx="38160" cy="77760"/>
          </a:xfrm>
          <a:custGeom>
            <a:avLst/>
            <a:gdLst/>
            <a:ahLst/>
            <a:rect l="l" t="t" r="r" b="b"/>
            <a:pathLst>
              <a:path w="24" h="49">
                <a:moveTo>
                  <a:pt x="23" y="0"/>
                </a:moveTo>
                <a:lnTo>
                  <a:pt x="19" y="48"/>
                </a:lnTo>
                <a:lnTo>
                  <a:pt x="0" y="5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60520" y="3170160"/>
            <a:ext cx="141120" cy="509760"/>
          </a:xfrm>
          <a:custGeom>
            <a:avLst/>
            <a:gdLst/>
            <a:ahLst/>
            <a:rect l="l" t="t" r="r" b="b"/>
            <a:pathLst>
              <a:path w="89" h="321">
                <a:moveTo>
                  <a:pt x="0" y="0"/>
                </a:moveTo>
                <a:lnTo>
                  <a:pt x="8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62040" y="3602160"/>
            <a:ext cx="39600" cy="77760"/>
          </a:xfrm>
          <a:custGeom>
            <a:avLst/>
            <a:gdLst/>
            <a:ahLst/>
            <a:rect l="l" t="t" r="r" b="b"/>
            <a:pathLst>
              <a:path w="25" h="49">
                <a:moveTo>
                  <a:pt x="23" y="0"/>
                </a:moveTo>
                <a:lnTo>
                  <a:pt x="24" y="48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79760" y="3170160"/>
            <a:ext cx="468360" cy="509760"/>
          </a:xfrm>
          <a:custGeom>
            <a:avLst/>
            <a:gdLst/>
            <a:ahLst/>
            <a:rect l="l" t="t" r="r" b="b"/>
            <a:pathLst>
              <a:path w="295" h="321">
                <a:moveTo>
                  <a:pt x="0" y="0"/>
                </a:moveTo>
                <a:lnTo>
                  <a:pt x="294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81160" y="3611520"/>
            <a:ext cx="66960" cy="68400"/>
          </a:xfrm>
          <a:custGeom>
            <a:avLst/>
            <a:gdLst/>
            <a:ahLst/>
            <a:rect l="l" t="t" r="r" b="b"/>
            <a:pathLst>
              <a:path w="42" h="43">
                <a:moveTo>
                  <a:pt x="17" y="0"/>
                </a:moveTo>
                <a:lnTo>
                  <a:pt x="41" y="42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73360" y="3170160"/>
            <a:ext cx="514440" cy="509760"/>
          </a:xfrm>
          <a:custGeom>
            <a:avLst/>
            <a:gdLst/>
            <a:ahLst/>
            <a:rect l="l" t="t" r="r" b="b"/>
            <a:pathLst>
              <a:path w="324" h="321">
                <a:moveTo>
                  <a:pt x="0" y="0"/>
                </a:moveTo>
                <a:lnTo>
                  <a:pt x="323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19400" y="3613320"/>
            <a:ext cx="68400" cy="66600"/>
          </a:xfrm>
          <a:custGeom>
            <a:avLst/>
            <a:gdLst/>
            <a:ahLst/>
            <a:rect l="l" t="t" r="r" b="b"/>
            <a:pathLst>
              <a:path w="43" h="42">
                <a:moveTo>
                  <a:pt x="17" y="0"/>
                </a:moveTo>
                <a:lnTo>
                  <a:pt x="42" y="41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4480" y="3170160"/>
            <a:ext cx="559080" cy="509760"/>
          </a:xfrm>
          <a:custGeom>
            <a:avLst/>
            <a:gdLst/>
            <a:ahLst/>
            <a:rect l="l" t="t" r="r" b="b"/>
            <a:pathLst>
              <a:path w="352" h="321">
                <a:moveTo>
                  <a:pt x="0" y="0"/>
                </a:moveTo>
                <a:lnTo>
                  <a:pt x="351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05160" y="3614760"/>
            <a:ext cx="68400" cy="65160"/>
          </a:xfrm>
          <a:custGeom>
            <a:avLst/>
            <a:gdLst/>
            <a:ahLst/>
            <a:rect l="l" t="t" r="r" b="b"/>
            <a:pathLst>
              <a:path w="43" h="41">
                <a:moveTo>
                  <a:pt x="16" y="0"/>
                </a:moveTo>
                <a:lnTo>
                  <a:pt x="42" y="40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52720" y="3170160"/>
            <a:ext cx="608040" cy="509760"/>
          </a:xfrm>
          <a:custGeom>
            <a:avLst/>
            <a:gdLst/>
            <a:ahLst/>
            <a:rect l="l" t="t" r="r" b="b"/>
            <a:pathLst>
              <a:path w="383" h="321">
                <a:moveTo>
                  <a:pt x="0" y="0"/>
                </a:moveTo>
                <a:lnTo>
                  <a:pt x="382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616200"/>
            <a:ext cx="69840" cy="63720"/>
          </a:xfrm>
          <a:custGeom>
            <a:avLst/>
            <a:gdLst/>
            <a:ahLst/>
            <a:rect l="l" t="t" r="r" b="b"/>
            <a:pathLst>
              <a:path w="44" h="40">
                <a:moveTo>
                  <a:pt x="15" y="0"/>
                </a:moveTo>
                <a:lnTo>
                  <a:pt x="43" y="39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42440" y="2843280"/>
            <a:ext cx="147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62360" y="1612800"/>
            <a:ext cx="169920" cy="1481400"/>
          </a:xfrm>
          <a:custGeom>
            <a:avLst/>
            <a:gdLst/>
            <a:ahLst/>
            <a:rect l="l" t="t" r="r" b="b"/>
            <a:pathLst>
              <a:path w="107" h="933">
                <a:moveTo>
                  <a:pt x="0" y="0"/>
                </a:moveTo>
                <a:lnTo>
                  <a:pt x="106" y="0"/>
                </a:lnTo>
                <a:lnTo>
                  <a:pt x="106" y="932"/>
                </a:lnTo>
                <a:lnTo>
                  <a:pt x="0" y="93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62360" y="3689280"/>
            <a:ext cx="169920" cy="557280"/>
          </a:xfrm>
          <a:custGeom>
            <a:avLst/>
            <a:gdLst/>
            <a:ahLst/>
            <a:rect l="l" t="t" r="r" b="b"/>
            <a:pathLst>
              <a:path w="107" h="351">
                <a:moveTo>
                  <a:pt x="0" y="0"/>
                </a:moveTo>
                <a:lnTo>
                  <a:pt x="106" y="0"/>
                </a:lnTo>
                <a:lnTo>
                  <a:pt x="106" y="350"/>
                </a:lnTo>
                <a:lnTo>
                  <a:pt x="0" y="35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68160" y="3124080"/>
            <a:ext cx="122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Index File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4480" y="3367080"/>
            <a:ext cx="107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ata file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98040" y="4071960"/>
            <a:ext cx="163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42000" y="3691080"/>
            <a:ext cx="34272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97760" y="3691080"/>
            <a:ext cx="344160" cy="350640"/>
          </a:xfrm>
          <a:custGeom>
            <a:avLst/>
            <a:gdLst/>
            <a:ahLst/>
            <a:rect l="l" t="t" r="r" b="b"/>
            <a:pathLst>
              <a:path w="217" h="221">
                <a:moveTo>
                  <a:pt x="0" y="220"/>
                </a:moveTo>
                <a:lnTo>
                  <a:pt x="0" y="0"/>
                </a:lnTo>
                <a:lnTo>
                  <a:pt x="216" y="0"/>
                </a:lnTo>
                <a:lnTo>
                  <a:pt x="216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3691080"/>
            <a:ext cx="338040" cy="350640"/>
          </a:xfrm>
          <a:custGeom>
            <a:avLst/>
            <a:gdLst/>
            <a:ahLst/>
            <a:rect l="l" t="t" r="r" b="b"/>
            <a:pathLst>
              <a:path w="213" h="221">
                <a:moveTo>
                  <a:pt x="0" y="220"/>
                </a:moveTo>
                <a:lnTo>
                  <a:pt x="0" y="0"/>
                </a:lnTo>
                <a:lnTo>
                  <a:pt x="212" y="0"/>
                </a:lnTo>
                <a:lnTo>
                  <a:pt x="212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112160" y="3691080"/>
            <a:ext cx="339480" cy="350640"/>
          </a:xfrm>
          <a:custGeom>
            <a:avLst/>
            <a:gdLst/>
            <a:ahLst/>
            <a:rect l="l" t="t" r="r" b="b"/>
            <a:pathLst>
              <a:path w="214" h="221">
                <a:moveTo>
                  <a:pt x="0" y="220"/>
                </a:moveTo>
                <a:lnTo>
                  <a:pt x="0" y="0"/>
                </a:lnTo>
                <a:lnTo>
                  <a:pt x="213" y="0"/>
                </a:lnTo>
                <a:lnTo>
                  <a:pt x="213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66120" y="3691080"/>
            <a:ext cx="345960" cy="350640"/>
          </a:xfrm>
          <a:custGeom>
            <a:avLst/>
            <a:gdLst/>
            <a:ahLst/>
            <a:rect l="l" t="t" r="r" b="b"/>
            <a:pathLst>
              <a:path w="218" h="221">
                <a:moveTo>
                  <a:pt x="0" y="220"/>
                </a:moveTo>
                <a:lnTo>
                  <a:pt x="0" y="0"/>
                </a:lnTo>
                <a:lnTo>
                  <a:pt x="217" y="0"/>
                </a:lnTo>
                <a:lnTo>
                  <a:pt x="217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21520" y="369108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478720" y="369108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97560" y="2522520"/>
            <a:ext cx="1490760" cy="1440"/>
          </a:xfrm>
          <a:custGeom>
            <a:avLst/>
            <a:gdLst/>
            <a:ahLst/>
            <a:rect l="l" t="t" r="r" b="b"/>
            <a:pathLst>
              <a:path w="939" h="1">
                <a:moveTo>
                  <a:pt x="0" y="0"/>
                </a:moveTo>
                <a:lnTo>
                  <a:pt x="938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97560" y="1476360"/>
            <a:ext cx="785880" cy="1047600"/>
          </a:xfrm>
          <a:custGeom>
            <a:avLst/>
            <a:gdLst/>
            <a:ahLst/>
            <a:rect l="l" t="t" r="r" b="b"/>
            <a:pathLst>
              <a:path w="495" h="660">
                <a:moveTo>
                  <a:pt x="0" y="659"/>
                </a:moveTo>
                <a:lnTo>
                  <a:pt x="494" y="0"/>
                </a:lnTo>
                <a:lnTo>
                  <a:pt x="0" y="65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82000" y="1476360"/>
            <a:ext cx="712800" cy="1047600"/>
          </a:xfrm>
          <a:custGeom>
            <a:avLst/>
            <a:gdLst/>
            <a:ahLst/>
            <a:rect l="l" t="t" r="r" b="b"/>
            <a:pathLst>
              <a:path w="449" h="660">
                <a:moveTo>
                  <a:pt x="0" y="0"/>
                </a:moveTo>
                <a:lnTo>
                  <a:pt x="448" y="6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91480" y="1384200"/>
            <a:ext cx="291960" cy="93600"/>
          </a:xfrm>
          <a:custGeom>
            <a:avLst/>
            <a:gdLst/>
            <a:ahLst/>
            <a:rect l="l" t="t" r="r" b="b"/>
            <a:pathLst>
              <a:path w="184" h="59">
                <a:moveTo>
                  <a:pt x="0" y="0"/>
                </a:moveTo>
                <a:lnTo>
                  <a:pt x="30" y="9"/>
                </a:lnTo>
                <a:lnTo>
                  <a:pt x="183" y="5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01000" y="1425600"/>
            <a:ext cx="82440" cy="52200"/>
          </a:xfrm>
          <a:custGeom>
            <a:avLst/>
            <a:gdLst/>
            <a:ahLst/>
            <a:rect l="l" t="t" r="r" b="b"/>
            <a:pathLst>
              <a:path w="52" h="33">
                <a:moveTo>
                  <a:pt x="6" y="0"/>
                </a:moveTo>
                <a:lnTo>
                  <a:pt x="51" y="32"/>
                </a:lnTo>
                <a:lnTo>
                  <a:pt x="0" y="32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39000" y="2803680"/>
            <a:ext cx="404640" cy="347400"/>
          </a:xfrm>
          <a:custGeom>
            <a:avLst/>
            <a:gdLst/>
            <a:ahLst/>
            <a:rect l="l" t="t" r="r" b="b"/>
            <a:pathLst>
              <a:path w="255" h="219">
                <a:moveTo>
                  <a:pt x="0" y="0"/>
                </a:moveTo>
                <a:lnTo>
                  <a:pt x="254" y="0"/>
                </a:lnTo>
                <a:lnTo>
                  <a:pt x="254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42200" y="2930400"/>
            <a:ext cx="63360" cy="42840"/>
          </a:xfrm>
          <a:custGeom>
            <a:avLst/>
            <a:gdLst/>
            <a:ahLst/>
            <a:rect l="l" t="t" r="r" b="b"/>
            <a:pathLst>
              <a:path w="40" h="27">
                <a:moveTo>
                  <a:pt x="39" y="26"/>
                </a:moveTo>
                <a:lnTo>
                  <a:pt x="0" y="13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42200" y="2954160"/>
            <a:ext cx="241200" cy="1800"/>
          </a:xfrm>
          <a:custGeom>
            <a:avLst/>
            <a:gdLst/>
            <a:ahLst/>
            <a:rect l="l" t="t" r="r" b="b"/>
            <a:pathLst>
              <a:path w="152" h="1">
                <a:moveTo>
                  <a:pt x="0" y="0"/>
                </a:moveTo>
                <a:lnTo>
                  <a:pt x="15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18240" y="29304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0"/>
                </a:moveTo>
                <a:lnTo>
                  <a:pt x="40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81960" y="280368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83360" y="29304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41" y="26"/>
                </a:moveTo>
                <a:lnTo>
                  <a:pt x="0" y="13"/>
                </a:lnTo>
                <a:lnTo>
                  <a:pt x="41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83360" y="29541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23040" y="2930400"/>
            <a:ext cx="61920" cy="42840"/>
          </a:xfrm>
          <a:custGeom>
            <a:avLst/>
            <a:gdLst/>
            <a:ahLst/>
            <a:rect l="l" t="t" r="r" b="b"/>
            <a:pathLst>
              <a:path w="39" h="27">
                <a:moveTo>
                  <a:pt x="0" y="0"/>
                </a:moveTo>
                <a:lnTo>
                  <a:pt x="38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21600" y="2506680"/>
            <a:ext cx="15840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99" y="0"/>
                </a:moveTo>
                <a:lnTo>
                  <a:pt x="0" y="187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21600" y="2727360"/>
            <a:ext cx="4896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30" y="15"/>
                </a:moveTo>
                <a:lnTo>
                  <a:pt x="0" y="48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81760" y="2506680"/>
            <a:ext cx="1800" cy="298440"/>
          </a:xfrm>
          <a:custGeom>
            <a:avLst/>
            <a:gdLst/>
            <a:ahLst/>
            <a:rect l="l" t="t" r="r" b="b"/>
            <a:pathLst>
              <a:path w="1" h="188">
                <a:moveTo>
                  <a:pt x="0" y="0"/>
                </a:moveTo>
                <a:lnTo>
                  <a:pt x="0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67360" y="2725560"/>
            <a:ext cx="30240" cy="79560"/>
          </a:xfrm>
          <a:custGeom>
            <a:avLst/>
            <a:gdLst/>
            <a:ahLst/>
            <a:rect l="l" t="t" r="r" b="b"/>
            <a:pathLst>
              <a:path w="19" h="50">
                <a:moveTo>
                  <a:pt x="18" y="0"/>
                </a:moveTo>
                <a:lnTo>
                  <a:pt x="8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67720" y="280368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567560" y="29304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40" y="26"/>
                </a:moveTo>
                <a:lnTo>
                  <a:pt x="0" y="13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67560" y="29541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702560" y="29304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0" y="0"/>
                </a:moveTo>
                <a:lnTo>
                  <a:pt x="41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10560" y="250668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0" y="0"/>
                </a:moveTo>
                <a:lnTo>
                  <a:pt x="99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920000" y="2727360"/>
            <a:ext cx="4932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17" y="0"/>
                </a:moveTo>
                <a:lnTo>
                  <a:pt x="30" y="48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78600" y="3149640"/>
            <a:ext cx="201600" cy="498600"/>
          </a:xfrm>
          <a:custGeom>
            <a:avLst/>
            <a:gdLst/>
            <a:ahLst/>
            <a:rect l="l" t="t" r="r" b="b"/>
            <a:pathLst>
              <a:path w="127" h="314">
                <a:moveTo>
                  <a:pt x="0" y="0"/>
                </a:moveTo>
                <a:lnTo>
                  <a:pt x="126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35560" y="3568680"/>
            <a:ext cx="44640" cy="79560"/>
          </a:xfrm>
          <a:custGeom>
            <a:avLst/>
            <a:gdLst/>
            <a:ahLst/>
            <a:rect l="l" t="t" r="r" b="b"/>
            <a:pathLst>
              <a:path w="28" h="50">
                <a:moveTo>
                  <a:pt x="18" y="0"/>
                </a:moveTo>
                <a:lnTo>
                  <a:pt x="27" y="49"/>
                </a:lnTo>
                <a:lnTo>
                  <a:pt x="0" y="11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4200" y="3149640"/>
            <a:ext cx="366840" cy="549360"/>
          </a:xfrm>
          <a:custGeom>
            <a:avLst/>
            <a:gdLst/>
            <a:ahLst/>
            <a:rect l="l" t="t" r="r" b="b"/>
            <a:pathLst>
              <a:path w="231" h="346">
                <a:moveTo>
                  <a:pt x="230" y="0"/>
                </a:moveTo>
                <a:lnTo>
                  <a:pt x="0" y="345"/>
                </a:lnTo>
                <a:lnTo>
                  <a:pt x="23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4200" y="3624120"/>
            <a:ext cx="57240" cy="74880"/>
          </a:xfrm>
          <a:custGeom>
            <a:avLst/>
            <a:gdLst/>
            <a:ahLst/>
            <a:rect l="l" t="t" r="r" b="b"/>
            <a:pathLst>
              <a:path w="36" h="47">
                <a:moveTo>
                  <a:pt x="35" y="16"/>
                </a:moveTo>
                <a:lnTo>
                  <a:pt x="0" y="46"/>
                </a:lnTo>
                <a:lnTo>
                  <a:pt x="19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97760" y="3149640"/>
            <a:ext cx="566640" cy="549360"/>
          </a:xfrm>
          <a:custGeom>
            <a:avLst/>
            <a:gdLst/>
            <a:ahLst/>
            <a:rect l="l" t="t" r="r" b="b"/>
            <a:pathLst>
              <a:path w="357" h="346">
                <a:moveTo>
                  <a:pt x="0" y="0"/>
                </a:moveTo>
                <a:lnTo>
                  <a:pt x="356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99240" y="3633840"/>
            <a:ext cx="6516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0"/>
                </a:moveTo>
                <a:lnTo>
                  <a:pt x="40" y="40"/>
                </a:lnTo>
                <a:lnTo>
                  <a:pt x="0" y="19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97600" y="3149640"/>
            <a:ext cx="282600" cy="498600"/>
          </a:xfrm>
          <a:custGeom>
            <a:avLst/>
            <a:gdLst/>
            <a:ahLst/>
            <a:rect l="l" t="t" r="r" b="b"/>
            <a:pathLst>
              <a:path w="178" h="314">
                <a:moveTo>
                  <a:pt x="177" y="0"/>
                </a:moveTo>
                <a:lnTo>
                  <a:pt x="0" y="313"/>
                </a:lnTo>
                <a:lnTo>
                  <a:pt x="177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97600" y="357336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3"/>
                </a:moveTo>
                <a:lnTo>
                  <a:pt x="0" y="46"/>
                </a:lnTo>
                <a:lnTo>
                  <a:pt x="14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21600" y="3149640"/>
            <a:ext cx="1407960" cy="49860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0" y="0"/>
                </a:moveTo>
                <a:lnTo>
                  <a:pt x="886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61160" y="3605040"/>
            <a:ext cx="68400" cy="43200"/>
          </a:xfrm>
          <a:custGeom>
            <a:avLst/>
            <a:gdLst/>
            <a:ahLst/>
            <a:rect l="l" t="t" r="r" b="b"/>
            <a:pathLst>
              <a:path w="43" h="27">
                <a:moveTo>
                  <a:pt x="6" y="0"/>
                </a:moveTo>
                <a:lnTo>
                  <a:pt x="42" y="26"/>
                </a:lnTo>
                <a:lnTo>
                  <a:pt x="0" y="2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78600" y="3149640"/>
            <a:ext cx="685800" cy="498600"/>
          </a:xfrm>
          <a:custGeom>
            <a:avLst/>
            <a:gdLst/>
            <a:ahLst/>
            <a:rect l="l" t="t" r="r" b="b"/>
            <a:pathLst>
              <a:path w="432" h="314">
                <a:moveTo>
                  <a:pt x="431" y="0"/>
                </a:moveTo>
                <a:lnTo>
                  <a:pt x="0" y="313"/>
                </a:lnTo>
                <a:lnTo>
                  <a:pt x="43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78600" y="3589200"/>
            <a:ext cx="65160" cy="59040"/>
          </a:xfrm>
          <a:custGeom>
            <a:avLst/>
            <a:gdLst/>
            <a:ahLst/>
            <a:rect l="l" t="t" r="r" b="b"/>
            <a:pathLst>
              <a:path w="41" h="37">
                <a:moveTo>
                  <a:pt x="40" y="22"/>
                </a:moveTo>
                <a:lnTo>
                  <a:pt x="0" y="36"/>
                </a:lnTo>
                <a:lnTo>
                  <a:pt x="3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99320" y="3149640"/>
            <a:ext cx="1778040" cy="498600"/>
          </a:xfrm>
          <a:custGeom>
            <a:avLst/>
            <a:gdLst/>
            <a:ahLst/>
            <a:rect l="l" t="t" r="r" b="b"/>
            <a:pathLst>
              <a:path w="1120" h="314">
                <a:moveTo>
                  <a:pt x="0" y="0"/>
                </a:moveTo>
                <a:lnTo>
                  <a:pt x="1119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507520" y="3608280"/>
            <a:ext cx="69840" cy="41400"/>
          </a:xfrm>
          <a:custGeom>
            <a:avLst/>
            <a:gdLst/>
            <a:ahLst/>
            <a:rect l="l" t="t" r="r" b="b"/>
            <a:pathLst>
              <a:path w="44" h="26">
                <a:moveTo>
                  <a:pt x="5" y="0"/>
                </a:moveTo>
                <a:lnTo>
                  <a:pt x="43" y="24"/>
                </a:lnTo>
                <a:lnTo>
                  <a:pt x="0" y="2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99320" y="3149640"/>
            <a:ext cx="164880" cy="549360"/>
          </a:xfrm>
          <a:custGeom>
            <a:avLst/>
            <a:gdLst/>
            <a:ahLst/>
            <a:rect l="l" t="t" r="r" b="b"/>
            <a:pathLst>
              <a:path w="104" h="346">
                <a:moveTo>
                  <a:pt x="103" y="0"/>
                </a:moveTo>
                <a:lnTo>
                  <a:pt x="0" y="345"/>
                </a:lnTo>
                <a:lnTo>
                  <a:pt x="103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799320" y="3616200"/>
            <a:ext cx="42840" cy="82800"/>
          </a:xfrm>
          <a:custGeom>
            <a:avLst/>
            <a:gdLst/>
            <a:ahLst/>
            <a:rect l="l" t="t" r="r" b="b"/>
            <a:pathLst>
              <a:path w="27" h="52">
                <a:moveTo>
                  <a:pt x="26" y="8"/>
                </a:moveTo>
                <a:lnTo>
                  <a:pt x="0" y="51"/>
                </a:lnTo>
                <a:lnTo>
                  <a:pt x="5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24600" y="3149640"/>
            <a:ext cx="322200" cy="498600"/>
          </a:xfrm>
          <a:custGeom>
            <a:avLst/>
            <a:gdLst/>
            <a:ahLst/>
            <a:rect l="l" t="t" r="r" b="b"/>
            <a:pathLst>
              <a:path w="203" h="314">
                <a:moveTo>
                  <a:pt x="0" y="0"/>
                </a:moveTo>
                <a:lnTo>
                  <a:pt x="202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89920" y="3575160"/>
            <a:ext cx="56880" cy="73080"/>
          </a:xfrm>
          <a:custGeom>
            <a:avLst/>
            <a:gdLst/>
            <a:ahLst/>
            <a:rect l="l" t="t" r="r" b="b"/>
            <a:pathLst>
              <a:path w="36" h="46">
                <a:moveTo>
                  <a:pt x="17" y="0"/>
                </a:moveTo>
                <a:lnTo>
                  <a:pt x="35" y="45"/>
                </a:lnTo>
                <a:lnTo>
                  <a:pt x="0" y="1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26360" y="3149640"/>
            <a:ext cx="565200" cy="549360"/>
          </a:xfrm>
          <a:custGeom>
            <a:avLst/>
            <a:gdLst/>
            <a:ahLst/>
            <a:rect l="l" t="t" r="r" b="b"/>
            <a:pathLst>
              <a:path w="356" h="346">
                <a:moveTo>
                  <a:pt x="355" y="0"/>
                </a:moveTo>
                <a:lnTo>
                  <a:pt x="0" y="345"/>
                </a:lnTo>
                <a:lnTo>
                  <a:pt x="355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26360" y="3633840"/>
            <a:ext cx="58680" cy="65160"/>
          </a:xfrm>
          <a:custGeom>
            <a:avLst/>
            <a:gdLst/>
            <a:ahLst/>
            <a:rect l="l" t="t" r="r" b="b"/>
            <a:pathLst>
              <a:path w="37" h="41">
                <a:moveTo>
                  <a:pt x="36" y="19"/>
                </a:moveTo>
                <a:lnTo>
                  <a:pt x="0" y="40"/>
                </a:lnTo>
                <a:lnTo>
                  <a:pt x="24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929720" y="3149640"/>
            <a:ext cx="322200" cy="549360"/>
          </a:xfrm>
          <a:custGeom>
            <a:avLst/>
            <a:gdLst/>
            <a:ahLst/>
            <a:rect l="l" t="t" r="r" b="b"/>
            <a:pathLst>
              <a:path w="203" h="346">
                <a:moveTo>
                  <a:pt x="0" y="0"/>
                </a:moveTo>
                <a:lnTo>
                  <a:pt x="202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01160" y="362268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0"/>
                </a:moveTo>
                <a:lnTo>
                  <a:pt x="31" y="47"/>
                </a:lnTo>
                <a:lnTo>
                  <a:pt x="0" y="1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10560" y="3149640"/>
            <a:ext cx="241200" cy="498600"/>
          </a:xfrm>
          <a:custGeom>
            <a:avLst/>
            <a:gdLst/>
            <a:ahLst/>
            <a:rect l="l" t="t" r="r" b="b"/>
            <a:pathLst>
              <a:path w="152" h="314">
                <a:moveTo>
                  <a:pt x="151" y="0"/>
                </a:moveTo>
                <a:lnTo>
                  <a:pt x="0" y="313"/>
                </a:lnTo>
                <a:lnTo>
                  <a:pt x="15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810560" y="3571920"/>
            <a:ext cx="47520" cy="76320"/>
          </a:xfrm>
          <a:custGeom>
            <a:avLst/>
            <a:gdLst/>
            <a:ahLst/>
            <a:rect l="l" t="t" r="r" b="b"/>
            <a:pathLst>
              <a:path w="30" h="48">
                <a:moveTo>
                  <a:pt x="29" y="12"/>
                </a:moveTo>
                <a:lnTo>
                  <a:pt x="0" y="47"/>
                </a:lnTo>
                <a:lnTo>
                  <a:pt x="1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089920" y="3149640"/>
            <a:ext cx="1440" cy="549360"/>
          </a:xfrm>
          <a:custGeom>
            <a:avLst/>
            <a:gdLst/>
            <a:ahLst/>
            <a:rect l="l" t="t" r="r" b="b"/>
            <a:pathLst>
              <a:path w="1" h="346">
                <a:moveTo>
                  <a:pt x="0" y="0"/>
                </a:moveTo>
                <a:lnTo>
                  <a:pt x="0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072280" y="3619440"/>
            <a:ext cx="36720" cy="79560"/>
          </a:xfrm>
          <a:custGeom>
            <a:avLst/>
            <a:gdLst/>
            <a:ahLst/>
            <a:rect l="l" t="t" r="r" b="b"/>
            <a:pathLst>
              <a:path w="23" h="50">
                <a:moveTo>
                  <a:pt x="22" y="0"/>
                </a:moveTo>
                <a:lnTo>
                  <a:pt x="10" y="49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240" y="3365640"/>
            <a:ext cx="8839080" cy="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83680" y="2471760"/>
            <a:ext cx="14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22120" y="414828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44480" y="4605480"/>
            <a:ext cx="189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59880" y="4681440"/>
            <a:ext cx="237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UN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56383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other attributes than primary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unsorted files (heap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cluste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8DCF-6166-4D28-8616-682F93868D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in B   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1 node = 1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in B+ 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leaves into a linked list (range queries are easi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2B58-EE8E-4B5B-92B0-78AB95C8BD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d =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ode has &gt;= d and &lt;= 2d keys (except ro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eaf has &gt;=d and &lt;= 2d ke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200400" y="3079800"/>
          <a:ext cx="1828800" cy="685800"/>
        </p:xfrm>
        <a:graphic>
          <a:graphicData uri="http://schemas.openxmlformats.org/drawingml/2006/table">
            <a:tbl>
              <a:tblPr/>
              <a:tblGrid>
                <a:gridCol w="431640"/>
                <a:gridCol w="216000"/>
                <a:gridCol w="322200"/>
                <a:gridCol w="236160"/>
                <a:gridCol w="237600"/>
                <a:gridCol w="38520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 flipH="1">
            <a:off x="2666520" y="36133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3613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19720" y="36133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76920" y="3613320"/>
            <a:ext cx="1295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751760" y="401940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k &lt;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69640" y="4172040"/>
            <a:ext cx="14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30&lt;=k&lt;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92800" y="414648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120&lt;=k&lt;2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7440" y="414648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240&lt;=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76720" y="5079960"/>
          <a:ext cx="1828800" cy="685800"/>
        </p:xfrm>
        <a:graphic>
          <a:graphicData uri="http://schemas.openxmlformats.org/drawingml/2006/table">
            <a:tbl>
              <a:tblPr/>
              <a:tblGrid>
                <a:gridCol w="431640"/>
                <a:gridCol w="216000"/>
                <a:gridCol w="322200"/>
                <a:gridCol w="236160"/>
                <a:gridCol w="237600"/>
                <a:gridCol w="38520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"/>
          <p:cNvSpPr/>
          <p:nvPr/>
        </p:nvSpPr>
        <p:spPr>
          <a:xfrm flipH="1">
            <a:off x="2742840" y="561348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62520" y="5613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95680" y="561348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52880" y="5613480"/>
            <a:ext cx="1295640" cy="2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367720" y="602352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63000" y="60994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7400" y="60994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84960" y="544824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 le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101A-E5C5-43EA-B8A1-7B38784BAE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81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91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28564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00000" y="164160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62720" y="1865160"/>
            <a:ext cx="113328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Find the key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55400" y="2581200"/>
            <a:ext cx="68184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888920" y="3957480"/>
            <a:ext cx="99576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20 &lt;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79640" y="5329080"/>
            <a:ext cx="99576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30 &lt;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F6A7-E23C-454F-88F0-276B453D4D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data elements (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 structures (13.1, 13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-trees (13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D56-373B-404B-8AE4-57CE3E0135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arge 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size = 4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size = 8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size = 4096 b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d x 4  + (2d+1) x 8  &lt;=  40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= 1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1D0B-335A-46F8-A18B-0BB1F852A8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ct key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at th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ed down, to the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que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quential traver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23880" y="2286000"/>
            <a:ext cx="2124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99480" y="4191120"/>
            <a:ext cx="2296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 &lt;=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age &lt;=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A64A-BC2C-426D-BEC3-A00EF3E487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order: 100.  Typical fill-factor: 67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fanout = 1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capac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4: 1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12,900,700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3: 1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  2,352,637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often hold top levels in buffer po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1 =           1 page  =     8 K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2 =      133 pages =     1 M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3 = 17,689 pages = 133 MBytes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(K,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leaf where K belongs, in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overflow (2d keys or less), 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verflow (2d+1 keys), split node, insert in par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leaf, keep K3 too in righ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oot splits, new root has 1 key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228600" y="4572000"/>
          <a:ext cx="2895480" cy="685800"/>
        </p:xfrm>
        <a:graphic>
          <a:graphicData uri="http://schemas.openxmlformats.org/drawingml/2006/table">
            <a:tbl>
              <a:tblPr/>
              <a:tblGrid>
                <a:gridCol w="399960"/>
                <a:gridCol w="216000"/>
                <a:gridCol w="241200"/>
                <a:gridCol w="261360"/>
                <a:gridCol w="313200"/>
                <a:gridCol w="261360"/>
                <a:gridCol w="258840"/>
                <a:gridCol w="313200"/>
                <a:gridCol w="192240"/>
                <a:gridCol w="43812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4114800" y="4572000"/>
          <a:ext cx="2286000" cy="685800"/>
        </p:xfrm>
        <a:graphic>
          <a:graphicData uri="http://schemas.openxmlformats.org/drawingml/2006/table">
            <a:tbl>
              <a:tblPr/>
              <a:tblGrid>
                <a:gridCol w="45072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6553080" y="4572000"/>
          <a:ext cx="2286000" cy="685800"/>
        </p:xfrm>
        <a:graphic>
          <a:graphicData uri="http://schemas.openxmlformats.org/drawingml/2006/table">
            <a:tbl>
              <a:tblPr/>
              <a:tblGrid>
                <a:gridCol w="45072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5408280" y="3657600"/>
            <a:ext cx="10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ent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3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248520" y="41911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52680" y="49528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8600" y="4038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74880" y="36720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114440" y="41911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CCBB-C8AB-4068-9151-11DB8C5181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81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91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28564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98920" y="164160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K=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137D-C1DA-4FD9-931E-39E982E60DF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7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45560" y="171756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13C3-7A53-4626-BD65-B20FD4A1A3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1040" y="156528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nsert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8421-F7B6-4722-A96E-58A360F08EB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9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2438280" y="4572000"/>
          <a:ext cx="192420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9200"/>
                <a:gridCol w="169200"/>
                <a:gridCol w="204120"/>
                <a:gridCol w="169200"/>
                <a:gridCol w="169200"/>
                <a:gridCol w="166680"/>
                <a:gridCol w="16668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45720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6324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3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14600" y="36576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105520" y="365760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8152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729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186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644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77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71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724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5288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5638320" y="5105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617184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670572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69240" y="15652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2724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5105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B42D-7833-4320-BD41-EA48FC758E0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2438280" y="4572000"/>
          <a:ext cx="192420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9200"/>
                <a:gridCol w="169200"/>
                <a:gridCol w="204120"/>
                <a:gridCol w="169200"/>
                <a:gridCol w="169200"/>
                <a:gridCol w="166680"/>
                <a:gridCol w="16668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45720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2" name=""/>
          <p:cNvGraphicFramePr/>
          <p:nvPr/>
        </p:nvGraphicFramePr>
        <p:xfrm>
          <a:off x="6324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514600" y="36576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105520" y="365760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152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729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86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44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177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71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724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95288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5638320" y="5105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617184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670572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9960" y="156528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w have to spli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2724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962520" y="5105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796C-56F8-464E-A2EA-6AD85D07EE1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3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824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2819520" y="5105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335232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68880" y="156528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34340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6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0C85-9381-414F-AC61-D953EC8F02D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Data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will cover VERY LITTLE in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SSIGNMENT: Chapter 1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k Blocks = fixed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 record = variable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: how to group records into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2E3D-9231-4DAA-AFCF-6549DB22EE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1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2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3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4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5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249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2819520" y="5105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335232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0680" y="15652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34340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9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9359-0AB9-433E-8E86-38D8254214A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3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4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9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69960" y="15652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9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0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2280" y="2133720"/>
            <a:ext cx="2210040" cy="761760"/>
          </a:xfrm>
          <a:prstGeom prst="wedgeEllipseCallout">
            <a:avLst>
              <a:gd name="adj1" fmla="val 45689"/>
              <a:gd name="adj2" fmla="val 793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change to 40, or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E382-95EB-4993-828A-54709FA56D6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7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8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9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0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1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71400" y="156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elete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2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8E7F-7BF9-439B-9ACB-26B6863DBD2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6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7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8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9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0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1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2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69960" y="1565280"/>
            <a:ext cx="238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re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o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0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1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371600" y="3886200"/>
            <a:ext cx="1062000" cy="685800"/>
          </a:xfrm>
          <a:custGeom>
            <a:avLst/>
            <a:gdLst>
              <a:gd name="textAreaLeft" fmla="*/ 194400 w 1062000"/>
              <a:gd name="textAreaRight" fmla="*/ 730440 w 10620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06" hR="21600" stAng="10800000" swAng="5400000"/>
                <a:lnTo>
                  <a:pt x="10900" y="0"/>
                </a:lnTo>
                <a:arcTo wR="7906" hR="21600" stAng="-5400000" swAng="2321647"/>
                <a:lnTo>
                  <a:pt x="20885" y="12623"/>
                </a:lnTo>
                <a:lnTo>
                  <a:pt x="17308" y="21600"/>
                </a:lnTo>
                <a:lnTo>
                  <a:pt x="12301" y="12623"/>
                </a:lnTo>
                <a:lnTo>
                  <a:pt x="15096" y="12623"/>
                </a:lnTo>
                <a:arcTo wR="7906" hR="21600" stAng="-3078353" swAng="-2079404"/>
                <a:lnTo>
                  <a:pt x="9403" y="391"/>
                </a:lnTo>
                <a:arcTo wR="7906" hR="21600" stAng="-5642243" swAng="-5157757"/>
                <a:close/>
              </a:path>
              <a:path fill="darkenLess" w="21600" h="21600">
                <a:moveTo>
                  <a:pt x="0" y="21600"/>
                </a:moveTo>
                <a:arcTo wR="7906" hR="21600" stAng="10800000" swAng="5400000"/>
                <a:lnTo>
                  <a:pt x="7906" y="0"/>
                </a:lnTo>
                <a:arcTo wR="7906" hR="21600" stAng="-5400000" swAng="242243"/>
                <a:lnTo>
                  <a:pt x="9403" y="391"/>
                </a:lnTo>
                <a:arcTo wR="7906" hR="21600" stAng="-5642243" swAng="-5157757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5D07-D3A1-48AA-9B2A-F61C190B564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6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7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8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9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0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1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2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71400" y="156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elete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0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1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82C-ADEE-4326-85D6-8AA706E3BEC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7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8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9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0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1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69600" y="156528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no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733920" y="5105520"/>
            <a:ext cx="1295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8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828800" y="4267080"/>
            <a:ext cx="3352680" cy="1295640"/>
          </a:xfrm>
          <a:custGeom>
            <a:avLst/>
            <a:gdLst/>
            <a:ahLst/>
            <a:rect l="l" t="t" r="r" b="b"/>
            <a:pathLst>
              <a:path w="2112" h="816">
                <a:moveTo>
                  <a:pt x="17" y="114"/>
                </a:moveTo>
                <a:cubicBezTo>
                  <a:pt x="39" y="106"/>
                  <a:pt x="28" y="108"/>
                  <a:pt x="50" y="108"/>
                </a:cubicBezTo>
                <a:lnTo>
                  <a:pt x="720" y="0"/>
                </a:lnTo>
                <a:lnTo>
                  <a:pt x="1680" y="0"/>
                </a:lnTo>
                <a:lnTo>
                  <a:pt x="2112" y="144"/>
                </a:lnTo>
                <a:lnTo>
                  <a:pt x="2112" y="720"/>
                </a:lnTo>
                <a:lnTo>
                  <a:pt x="1728" y="816"/>
                </a:lnTo>
                <a:lnTo>
                  <a:pt x="624" y="768"/>
                </a:lnTo>
                <a:lnTo>
                  <a:pt x="48" y="720"/>
                </a:lnTo>
                <a:lnTo>
                  <a:pt x="0" y="384"/>
                </a:lnTo>
                <a:lnTo>
                  <a:pt x="17" y="11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F16C-88AE-4424-A707-3D256F13721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2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3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4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5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6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7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8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9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90920" y="36576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352680" y="5105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69960" y="156528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666880" y="51055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3BE9-47B2-4634-9639-E824F4E8088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Data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cord is always smaller than a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BLOBs when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 multiple records into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nitially don’t fill (why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 block bounderi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: better space ut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: slower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7DD6-6347-4F6A-8AD6-9ABB81C183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larg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ed by modern databa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images, sound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: attempt to cluster block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B = character large obj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only restricted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49EC-4C4D-4969-BEEC-440E66E7E1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inde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 file speeds up selections on 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earch key fiel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ind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ubset of the fields of a relation can be the search key for an index on th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earch k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ame a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inimal set of fields that uniquely identify a record in a rel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ex contains a collection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data ent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supports efficient retrieval of all data entries with a given key valu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/seco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y = may reorder data according to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ary = cannot reorde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ed/un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ed = records close in the index are close in th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lustered = records close in the index may be far in th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e/s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se = every key in the data appears in the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rse = the index contains only some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 / Hash table /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7796-C5D2-447D-A773-E088E609BD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sorted on the index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dex: sequence of (key,pointer)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44792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447920" y="48769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96252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962520" y="4343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96252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96252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 flipV="1">
            <a:off x="2133720" y="3733560"/>
            <a:ext cx="1828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403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4267080"/>
            <a:ext cx="1905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50292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51814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54864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5715000"/>
            <a:ext cx="1828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435E-1078-407F-811F-6AC00C2CF5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pa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752480" y="31240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752480" y="43434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267080" y="30481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267080" y="38098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267080" y="46483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267080" y="5486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 flipV="1">
            <a:off x="2438280" y="32004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350532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373392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3962520"/>
            <a:ext cx="18288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4495680"/>
            <a:ext cx="175248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58A0-522C-4FF0-91D6-F5703F00CC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02-25T16:02:20Z</dcterms:modified>
  <cp:revision>292</cp:revision>
  <dc:subject/>
  <dc:title>Lecture 09:</dc:title>
</cp:coreProperties>
</file>