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25A779-9961-4053-9589-34348B74D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stamp of U is given by WT(X) or by RT(X)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E9C-042B-410F-A2A5-3147AA37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E46-CE4E-4B79-A004-EFDBC47E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AA3-4739-423E-BA05-94E90F84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A59-28E3-483D-8004-0BB18E47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3D2-0EDA-4ECB-A181-E53BA93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4DC-B186-42C8-82C8-DD2465D2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398-9C4C-4865-93E2-11BCF672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AE7-E113-4052-86B0-11C6ABD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43C-85CF-4247-B081-ECDC9E94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045-44E3-4691-87C4-DE8690D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8B3-633F-42E4-9CF9-08D03834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3D8-785A-4256-B7D5-D9AD5EA3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4081-E2AC-41D5-B84B-5E6370B3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1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356-83CC-40B8-A5B5-BD8D4C58B2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WT(X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600" y="4191120"/>
            <a:ext cx="88311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U) … START(T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640" y="571500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D74-F4BB-4576-BA3B-9B2D808A32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 not to write at all, bu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960" y="4191120"/>
            <a:ext cx="89683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586728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90F-D26C-436D-A9DC-66FB745AEE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T requests r(X) or w(X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examines RT(X), WT(X), C(X), and decides on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rant the request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ollback T (and restart with later timest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lay T until C(X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5A4-BE10-4A64-B34E-4B4B26E76A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4 long rules in the textbook, on page 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understand them, or even derive them yourself, based on the previous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understand the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8720" y="6019920"/>
            <a:ext cx="522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: 18.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DE7-75F2-4AAA-8D5F-656894C737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ersion Timest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action T requests r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T(X) &gt; TS(T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 must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keep multiple versions of 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 read an older version, with appropriate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4440" y="4267080"/>
            <a:ext cx="569916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48B-B9AB-4539-96E5-8AB45D363F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 create a new version, denoted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t = T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, find a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 &lt; TS(T) and t is the largest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T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t and it never ch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maintained, to reject certain writes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n we delet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we have a later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ll active transactions T have TS(T) &gt;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F4C-0DFE-451E-9431-BB95836820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many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many conflicts (rollba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ONLY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/WRITE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605-A1E2-43C4-9D8A-5A4FEAE816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 by 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T define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d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S(T) and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rit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proceeds in three ph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elements in RS(T).  Time = 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(may need to rollback).  Time = 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ll elements in WS(T). Time = FI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2680" y="5562720"/>
            <a:ext cx="7168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nvariant: the serialization order is VAL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0A8-80A7-445C-AFEC-03E59AD680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2819520"/>
          <a:ext cx="632448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612360" y="1981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924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856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2"/>
          </p:cNvCxnSpPr>
          <p:nvPr/>
        </p:nvCxnSpPr>
        <p:spPr>
          <a:xfrm flipH="1">
            <a:off x="1390320" y="2437920"/>
            <a:ext cx="7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</p:cNvCxnSpPr>
          <p:nvPr/>
        </p:nvCxnSpPr>
        <p:spPr>
          <a:xfrm>
            <a:off x="4884480" y="236232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</p:cNvCxnSpPr>
          <p:nvPr/>
        </p:nvCxnSpPr>
        <p:spPr>
          <a:xfrm flipH="1">
            <a:off x="7009920" y="2362320"/>
            <a:ext cx="165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12" name=""/>
          <p:cNvGraphicFramePr/>
          <p:nvPr/>
        </p:nvGraphicFramePr>
        <p:xfrm>
          <a:off x="3524400" y="3733920"/>
          <a:ext cx="45529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4502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0"/>
          </p:cNvCxnSpPr>
          <p:nvPr/>
        </p:nvCxnSpPr>
        <p:spPr>
          <a:xfrm flipV="1">
            <a:off x="42177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35320" y="5181480"/>
            <a:ext cx="773208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START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beg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H="1">
            <a:off x="5190840" y="3336480"/>
            <a:ext cx="7912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586944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ED9-C375-4052-A4A0-59DD84EA82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2971800"/>
          <a:ext cx="6324480" cy="51768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55160" y="2133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12040" y="20574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2136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0" idx="2"/>
          </p:cNvCxnSpPr>
          <p:nvPr/>
        </p:nvCxnSpPr>
        <p:spPr>
          <a:xfrm flipH="1">
            <a:off x="933120" y="2590920"/>
            <a:ext cx="720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1" idx="2"/>
          </p:cNvCxnSpPr>
          <p:nvPr/>
        </p:nvCxnSpPr>
        <p:spPr>
          <a:xfrm>
            <a:off x="4427280" y="251460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</p:cNvCxnSpPr>
          <p:nvPr/>
        </p:nvCxnSpPr>
        <p:spPr>
          <a:xfrm flipH="1">
            <a:off x="6552720" y="2514600"/>
            <a:ext cx="165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" name=""/>
          <p:cNvGraphicFramePr/>
          <p:nvPr/>
        </p:nvGraphicFramePr>
        <p:xfrm>
          <a:off x="1600200" y="3733920"/>
          <a:ext cx="67057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923840"/>
                <a:gridCol w="2152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5260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83960" y="4800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</p:cNvCxnSpPr>
          <p:nvPr/>
        </p:nvCxnSpPr>
        <p:spPr>
          <a:xfrm flipV="1">
            <a:off x="22935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0"/>
          </p:cNvCxnSpPr>
          <p:nvPr/>
        </p:nvCxnSpPr>
        <p:spPr>
          <a:xfrm flipH="1" flipV="1">
            <a:off x="6152400" y="4250880"/>
            <a:ext cx="291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33880" y="5283360"/>
            <a:ext cx="807336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W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VAL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valid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612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5524560" y="3489120"/>
            <a:ext cx="1705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F85-AC2E-49F7-8E33-42ADFF558C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timestamps 1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validation 18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9DB-7932-4287-8E99-DF7838186F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nd timestamps: SQL Server, 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6520" y="51055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7AA-CFCB-49EF-88AD-80DAB322B8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receives a unique timestam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’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counter, incremented by th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169-7BE7-4284-B08C-BEDD050671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6360" y="4038480"/>
            <a:ext cx="6953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stamp order de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rialization order of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88920" y="2590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nvari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325-CE2D-4860-8F3B-1D2274F5C4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o each element 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(X) = the highest timestamp of any transaction that rea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= the highest timestamp of any transaction that wrot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X) = the commit bit: says if the transaction with highest timestamp that wrote X com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39040" y="60958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ssociated to each page X in the buffer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433-3D5B-4EFD-AC20-CF8FA4070E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two conflicting actions, ensure that their order is the serialized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S(U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0800" y="5638680"/>
            <a:ext cx="732384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 wants to read X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how do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U, and TS(U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0440" y="2344320"/>
            <a:ext cx="1809000" cy="1172520"/>
          </a:xfrm>
          <a:prstGeom prst="wedgeEllipseCallout">
            <a:avLst>
              <a:gd name="adj1" fmla="val -145662"/>
              <a:gd name="adj2" fmla="val 3179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73560" y="3106440"/>
            <a:ext cx="1908720" cy="1172520"/>
          </a:xfrm>
          <a:prstGeom prst="wedgeEllipseCallout">
            <a:avLst>
              <a:gd name="adj1" fmla="val -206023"/>
              <a:gd name="adj2" fmla="val 20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3240" y="4325400"/>
            <a:ext cx="2339280" cy="1172520"/>
          </a:xfrm>
          <a:prstGeom prst="wedgeEllipseCallout">
            <a:avLst>
              <a:gd name="adj1" fmla="val -139902"/>
              <a:gd name="adj2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370-6A6C-469C-99D0-06A509E76A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TS(T) &lt; W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4040" y="3886200"/>
            <a:ext cx="76518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2920" y="57913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DB3-2B92-4A9A-A05D-C9BF4C5073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&lt; TS(T) &lt; R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4040" y="3886200"/>
            <a:ext cx="765144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86960" y="495288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360" y="601992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check WT(X) &lt; TS(T) 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4D8-0043-4BFE-AE89-41B4650844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, but we can still handl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 &lt; RT(X)  but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4040" y="3886200"/>
            <a:ext cx="78102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V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88040" y="5334120"/>
            <a:ext cx="36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rite X at al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ut see later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C19-EA34-4209-8415-47A05936A4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16T04:45:05Z</dcterms:modified>
  <cp:revision>335</cp:revision>
  <dc:subject/>
  <dc:title>Lecture 09:</dc:title>
</cp:coreProperties>
</file>