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4B30AE-A29E-4D2A-A706-8761E9D1E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stamp of U is given by WT(X) or by RT(X) respec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796-6174-417C-9FD3-8F622CFC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642-A82E-404B-BAC0-64558435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1C5-1893-4319-B2BC-38F39013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D29-0544-4D05-8755-5587D0BD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333-D80C-4483-8A81-A078949E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EA4-B97B-479C-B6C4-FBD07E6A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1B5-6EC2-4BDB-B994-BE68AC34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DDC-A9C4-46D8-ABD3-3E0A09DD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0A6-4A75-4F70-8F50-0E627D30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F3F-43E3-442B-AB41-DE27D664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783-9906-47C9-8837-3BAB47E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0A4-C0E2-4B24-B11D-35D1AFDB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2A70-C4C5-4D97-A225-09A23664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February 18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791-AFF3-49FB-8E84-74E5BFA02A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WT(X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600" y="4191120"/>
            <a:ext cx="88311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U) … START(T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8640" y="571500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22A-0A2B-4736-834B-1F6EF3F294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 not to write at all, bu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960" y="4191120"/>
            <a:ext cx="89683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586728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8D8-E276-48C6-A1A9-3532A57FF4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T requests r(X) or w(X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examines RT(X), WT(X), C(X), and decides on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rant the request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ollback T (and restart with later timesta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lay T until C(X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B7D-2885-41D9-9F62-BE3A01FEFE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4 long rules in the textbook, on page 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understand them, or even derive them yourself, based on the previous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understand the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8720" y="6019920"/>
            <a:ext cx="522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: 18.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678-CFCA-49A7-A50D-2E71D25777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version Timest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action T requests r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T(X) &gt; TS(T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 must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keep multiple versions of X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 read an older version, with appropriate 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14440" y="4267080"/>
            <a:ext cx="569916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B50-F2C9-4F57-8EF2-77E54C8392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 create a new version, denoted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t = T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, find a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 &lt; TS(T) and t is the largest s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T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t and it never ch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maintained, to reject certain writes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n we delet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we have a later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ll active transactions T have TS(T) &gt; 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91D-2C4C-4E8D-9D65-7E32036B89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many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many conflicts (rollba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ONLY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/WRITE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45B-F8DC-4B4A-A647-3F202B1434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 by 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T define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d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S(T) and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rit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proceeds in three ph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all elements in RS(T).  Time = 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 (may need to rollback).  Time = 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ll elements in WS(T). Time = FI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2680" y="5562720"/>
            <a:ext cx="7168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nvariant: the serialization order is VAL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160-84E5-46F9-91B8-D835710E38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2819520"/>
          <a:ext cx="632448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612360" y="1981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924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856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2"/>
          </p:cNvCxnSpPr>
          <p:nvPr/>
        </p:nvCxnSpPr>
        <p:spPr>
          <a:xfrm flipH="1">
            <a:off x="1390320" y="2437920"/>
            <a:ext cx="720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</p:cNvCxnSpPr>
          <p:nvPr/>
        </p:nvCxnSpPr>
        <p:spPr>
          <a:xfrm>
            <a:off x="4884480" y="236232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</p:cNvCxnSpPr>
          <p:nvPr/>
        </p:nvCxnSpPr>
        <p:spPr>
          <a:xfrm flipH="1">
            <a:off x="7009920" y="2362320"/>
            <a:ext cx="165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12" name=""/>
          <p:cNvGraphicFramePr/>
          <p:nvPr/>
        </p:nvGraphicFramePr>
        <p:xfrm>
          <a:off x="3524400" y="3733920"/>
          <a:ext cx="45529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924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4502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0"/>
          </p:cNvCxnSpPr>
          <p:nvPr/>
        </p:nvCxnSpPr>
        <p:spPr>
          <a:xfrm flipV="1">
            <a:off x="42177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35320" y="5181480"/>
            <a:ext cx="773208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R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START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beg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/>
          <p:nvPr/>
        </p:nvCxnSpPr>
        <p:spPr>
          <a:xfrm flipH="1">
            <a:off x="5190840" y="3336480"/>
            <a:ext cx="7912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586944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9E6-5BA9-4C72-A982-F8B6451192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2971800"/>
          <a:ext cx="6324480" cy="51768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55160" y="2133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12040" y="20574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2136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0" idx="2"/>
          </p:cNvCxnSpPr>
          <p:nvPr/>
        </p:nvCxnSpPr>
        <p:spPr>
          <a:xfrm flipH="1">
            <a:off x="933120" y="2590920"/>
            <a:ext cx="720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1" idx="2"/>
          </p:cNvCxnSpPr>
          <p:nvPr/>
        </p:nvCxnSpPr>
        <p:spPr>
          <a:xfrm>
            <a:off x="4427280" y="251460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</p:cNvCxnSpPr>
          <p:nvPr/>
        </p:nvCxnSpPr>
        <p:spPr>
          <a:xfrm flipH="1">
            <a:off x="6552720" y="2514600"/>
            <a:ext cx="165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" name=""/>
          <p:cNvGraphicFramePr/>
          <p:nvPr/>
        </p:nvGraphicFramePr>
        <p:xfrm>
          <a:off x="1600200" y="3733920"/>
          <a:ext cx="67057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923840"/>
                <a:gridCol w="2152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5260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83960" y="4800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</p:cNvCxnSpPr>
          <p:nvPr/>
        </p:nvCxnSpPr>
        <p:spPr>
          <a:xfrm flipV="1">
            <a:off x="22935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0"/>
          </p:cNvCxnSpPr>
          <p:nvPr/>
        </p:nvCxnSpPr>
        <p:spPr>
          <a:xfrm flipH="1" flipV="1">
            <a:off x="6152400" y="4250880"/>
            <a:ext cx="291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33880" y="5283360"/>
            <a:ext cx="807336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W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VAL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valid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612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5524560" y="3489120"/>
            <a:ext cx="1705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08C-4D2F-44A4-8866-B92E44E2AE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timestamps 18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validation 18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0E3-4DFA-46C1-B655-E416416C50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nd timestamps: SQL Server, 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: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6520" y="51055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E95-E4CD-4CB3-A134-2E68E1EDB7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receives a unique timestam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’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counter, incremented by the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5BD-A549-46A6-A94F-9B1DAC864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6360" y="4038480"/>
            <a:ext cx="6953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stamp order de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rialization order of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88920" y="2590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nvari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3A4-17CA-492E-A8CF-A1D94FEECE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o each element 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(X) = the highest timestamp of any transaction that rea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= the highest timestamp of any transaction that wrot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X) = the commit bit: says if the transaction with highest timestamp that wrote X com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39040" y="60958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ssociated to each page X in the buffer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78A-7BAF-4632-AA6A-EB671D1BA8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two conflicting actions, ensure that their order is the serialized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S(U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0800" y="5638680"/>
            <a:ext cx="7323840" cy="113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 wants to read X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how do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U, and TS(U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0440" y="2344320"/>
            <a:ext cx="1809000" cy="1172520"/>
          </a:xfrm>
          <a:prstGeom prst="wedgeEllipseCallout">
            <a:avLst>
              <a:gd name="adj1" fmla="val -145662"/>
              <a:gd name="adj2" fmla="val 3179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73560" y="3106440"/>
            <a:ext cx="1908720" cy="1172520"/>
          </a:xfrm>
          <a:prstGeom prst="wedgeEllipseCallout">
            <a:avLst>
              <a:gd name="adj1" fmla="val -206023"/>
              <a:gd name="adj2" fmla="val 2099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3240" y="4325400"/>
            <a:ext cx="2339280" cy="1172520"/>
          </a:xfrm>
          <a:prstGeom prst="wedgeEllipseCallout">
            <a:avLst>
              <a:gd name="adj1" fmla="val -139902"/>
              <a:gd name="adj2" fmla="val -28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283-ECE6-4692-BE21-0BEAC0E8C9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TS(T) &lt; W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4040" y="3886200"/>
            <a:ext cx="76518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2920" y="57913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11B-E2CD-47E9-9CCD-A635DB9D23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&lt; TS(T) &lt; R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4040" y="3886200"/>
            <a:ext cx="765144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86960" y="495288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360" y="601992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check WT(X) &lt; TS(T) 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E83-60EE-49B4-9805-884398FDBB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, but we can still handl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 &lt; RT(X)  but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4040" y="3886200"/>
            <a:ext cx="78102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V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88040" y="5334120"/>
            <a:ext cx="360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rite X at al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ut see later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784-CEE9-4A91-A63C-A3263C3A94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16T04:45:05Z</dcterms:modified>
  <cp:revision>335</cp:revision>
  <dc:subject/>
  <dc:title>Lecture 09:</dc:title>
</cp:coreProperties>
</file>