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D07-F639-48BB-BBC0-F3DC3824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DD7-DD48-48BD-9763-4DB16406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703-BE7B-47D6-B92F-AE39AA70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A54-B2D2-47B5-896E-5AE90882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D32-B270-4502-B498-DE7FAD9C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DB3-AD29-4D48-9357-AEEEBB40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002-10D9-4F18-BBBF-368358C9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EED-697B-4B85-BD39-74D00621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30E-6C6E-4AF0-9758-6517A9C6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8B9-29F0-49E4-A6CA-CDAA88A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32C-0C6A-4483-9768-6E14DC6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77A-E942-4753-A35B-38FB9B4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7CCC-71E9-4ABD-A9F1-B8B54A398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8: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1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8AA-DE65-4F70-B660-7FEE28A54A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971800" y="1752480"/>
          <a:ext cx="2666880" cy="394164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062-60E6-48CD-991B-C1EB763DFF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54B-4003-4DB5-8DC2-3FE010154C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31360" y="609588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C1F-F812-4CD9-8AFF-FC510D196F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316-3BE5-49DF-9DAA-4B63816D06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475-3A59-4678-9CE1-6E4BD02495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5880" y="2590920"/>
            <a:ext cx="4350960" cy="95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0DB-C21A-4752-86C8-F34085C03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64000" y="290520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280" y="2819520"/>
            <a:ext cx="582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ctions by the same tran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4360" y="4191120"/>
            <a:ext cx="19839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120" y="4114800"/>
            <a:ext cx="596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4000" y="53341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480" y="5334120"/>
            <a:ext cx="59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nd write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4000" y="60199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913-3022-49A1-A75A-2CC6C10FDC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0000" y="41054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480" y="60199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480" y="46483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3FF-C369-4ACD-89DC-43F4D2F753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2720" y="617220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36400" y="495288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10320" y="4020840"/>
            <a:ext cx="1148400" cy="1172520"/>
          </a:xfrm>
          <a:prstGeom prst="wedgeEllipseCallout">
            <a:avLst>
              <a:gd name="adj1" fmla="val -155606"/>
              <a:gd name="adj2" fmla="val 3305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0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24E-5ED7-44C1-AF74-A1847655AF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D38-7512-4B10-89C8-C0D8DFE9EE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5E4-3182-44D6-8817-20F745EEAC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6"/>
            <a:endCxn id="10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4" idx="6"/>
            <a:endCxn id="10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90008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FBC-B689-44DE-988F-627CC20BCE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48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6"/>
            <a:endCxn id="11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11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90116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4" idx="1"/>
            <a:endCxn id="113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7200" y="457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7F0-7593-4684-A182-9E49B40B7A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286-4584-4AD4-8DED-F2F0D176F6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2ED-CA7E-4581-84C2-88CA1D5013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640" y="2895480"/>
            <a:ext cx="81770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9D8-9B57-4637-8871-26FEDD375C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1752480"/>
          <a:ext cx="4724640" cy="42451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27400" y="609588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183-E195-4B5C-B225-CFF347C7C7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1752480"/>
          <a:ext cx="5638680" cy="394200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19480" y="603576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0B0-8A65-4FD3-BE1C-4FBD44836E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6FD-340D-4D97-AA7A-E28E86CFFC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1752480"/>
          <a:ext cx="5028840" cy="424512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2992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D69-A971-45B5-91E1-8B098BA1D7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35B-0243-49AD-BA58-DFA985956D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B61-E180-4B8C-9B13-ED9DF5C8E0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5B5-14B8-4084-91B4-EB1C36A35B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s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526-E813-4DAF-9F54-87CB2EB76C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6C8-B18F-4053-9BAD-BFD61989F3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849-6BA2-4D15-A580-5E471CF268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3BF-3E6A-4671-A62F-AC18E3DC6E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if we didn’t have concurrency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t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5791320"/>
            <a:ext cx="77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ny other things may go wrong, but have n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954-984A-4C17-8816-E15CAA8B1E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2360" y="3086280"/>
            <a:ext cx="3143520" cy="23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B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93120" y="3162240"/>
            <a:ext cx="28278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412-D683-4B4F-97B9-EE91411EAF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59560" y="2514600"/>
            <a:ext cx="3029040" cy="34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+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65960" y="2590920"/>
            <a:ext cx="3041280" cy="35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*1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6DD-054C-4216-ACC8-3316AF1EC3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280" y="2367000"/>
            <a:ext cx="4204080" cy="29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 := 20;  B := 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B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69800" y="2362320"/>
            <a:ext cx="304272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B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46E-B078-4290-BA59-7A2731E94F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CF5-72A2-4364-8369-CCBFC581AE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2057400"/>
          <a:ext cx="3504960" cy="276696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AE2-6AAF-431A-8391-397900A9AA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16T04:54:48Z</dcterms:modified>
  <cp:revision>353</cp:revision>
  <dc:subject/>
  <dc:title>Lecture 09:</dc:title>
</cp:coreProperties>
</file>