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C50-576E-4249-ACF5-CF876DB3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D97-850C-4CDA-852B-9E12490E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C48-ADB3-485D-9AEC-68E99518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1CC-8084-4C8E-A095-A1EED821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8DE-837B-49FD-89A0-90EB5933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61D-BE7A-43B8-8082-9D53CFF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D9E-8F95-4B30-8714-72D6708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34A-AA2D-4199-8AE8-334D6E6D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85E-AD8C-4316-8E83-840E6DF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D2C-C351-48E7-A58C-9B23C90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CB6-D2E5-4D41-8752-6AB54CF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173-60C6-4F62-ABA4-1EF7335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B487-B087-4821-9DD6-519F8F323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1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A91-2210-49C5-98F1-251940ADE0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971800" y="1752480"/>
          <a:ext cx="2666880" cy="394164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7B2-8F75-4AAA-A98D-C149FA0C15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26E-3A6B-414F-96ED-3FD0C1F35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31360" y="609588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B7A-6687-4FF7-9BC2-E0746123D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6EE-3C58-4847-B66C-E9574EEFB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52D-9C2C-407F-A441-045D6061C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5880" y="2590920"/>
            <a:ext cx="4350960" cy="95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F63-B457-4007-AAD8-1AE3247B9F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4000" y="290520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280" y="2819520"/>
            <a:ext cx="58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ctions by the same tran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4360" y="4191120"/>
            <a:ext cx="19839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4114800"/>
            <a:ext cx="596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4000" y="53341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480" y="5334120"/>
            <a:ext cx="59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nd write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4000" y="60199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380-EECB-4B34-9ACB-9E8A15645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0000" y="41054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480" y="60199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480" y="46483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262-05A6-47E8-B4A0-A990D0A72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720" y="617220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36400" y="495288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10320" y="4020840"/>
            <a:ext cx="1148400" cy="1172520"/>
          </a:xfrm>
          <a:prstGeom prst="wedgeEllipseCallout">
            <a:avLst>
              <a:gd name="adj1" fmla="val -155606"/>
              <a:gd name="adj2" fmla="val 330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0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265-D02A-4E32-8755-6CB3A76AAF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B20-0EB4-4299-809C-B2F2A80564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5A3-DF5E-40C1-B059-007784FE7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6"/>
            <a:endCxn id="10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6"/>
            <a:endCxn id="10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90008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D38-4A51-4496-8F80-2039B8C970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48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6"/>
            <a:endCxn id="11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90116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1"/>
            <a:endCxn id="113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5C8-E4EC-4AC7-889E-8A0D98C22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4DB-8F33-44AD-B830-8B8F1F72C2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77D-D529-46AF-8E2E-633E801DC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640" y="2895480"/>
            <a:ext cx="81770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861-F3E8-4426-A716-047BAF365B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1752480"/>
          <a:ext cx="4724640" cy="4245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7400" y="60958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31D-434D-42A7-A5C0-8D34BDC49D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752480"/>
          <a:ext cx="5638680" cy="394200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19480" y="603576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CD6-BDC6-432F-8909-E7705B5B6E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85D-E507-4E7D-BC44-1B68ED54DE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752480"/>
          <a:ext cx="5028840" cy="424512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2992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36E-A255-4F93-BA51-C2E2E7044B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79C-8960-40DD-A7AB-8860D1E8A9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84C-8EA6-4D5E-AF60-66F940D44A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A1F-2ACC-47F3-9AFE-4615D478F6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29C-F7A3-443F-9DC7-54A740BF4A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538-876A-4613-9B55-8B3268D74D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8B3-5BF4-4AD4-88E3-252DE02985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82E-47F6-48AD-96C4-56680522EB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AF6-0AE6-428F-9E7A-BD00E306A3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36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B4F-20E5-4526-B3FF-5A470EAD25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5956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158-4E19-4E0B-9FD8-4D32A92C1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28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FE0-B5A8-4743-A1D2-C812E8531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3D5-AAF1-42B9-A7A3-92C70C742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2057400"/>
          <a:ext cx="3504960" cy="276696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B54-C1F9-4CAD-87A0-0039F8E0B5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16T04:54:48Z</dcterms:modified>
  <cp:revision>353</cp:revision>
  <dc:subject/>
  <dc:title>Lecture 09:</dc:title>
</cp:coreProperties>
</file>