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87F-E0E0-4F26-99CF-54BA4EE1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BE7-0EAB-4EC9-98F2-530B4114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EBD-EAE7-4A38-8D03-B3F9C0B3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8D5-0162-4379-BDD5-5973A1E9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5A7-19E3-402D-B6D7-9AD1E55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802-6CFA-42DC-9968-6283D4FC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25D-08EE-4F89-A90B-03DA36FB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165-6C4B-4157-975C-56362283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499-BB32-4F7C-B1EE-97182C6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884-536B-4F8C-BEA7-AD053165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BED-9506-4BE0-A5D5-E5FE259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5C3-E920-4898-99B4-72A8BB8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AB5-3C22-472E-AFC7-A4F285EF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February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92F-23CF-4AA5-8D80-8D05E77102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7A8-AC36-4649-86F7-C75A4FA4F5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A06-7B99-4B2C-81D5-4EA6979A44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33F-4053-4BCE-9565-1F9EEA887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DB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692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50200" y="1523880"/>
            <a:ext cx="1584360" cy="1172520"/>
          </a:xfrm>
          <a:prstGeom prst="wedgeEllipseCallout">
            <a:avLst>
              <a:gd name="adj1" fmla="val 5587"/>
              <a:gd name="adj2" fmla="val 134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46320" y="5715000"/>
            <a:ext cx="1072800" cy="652680"/>
          </a:xfrm>
          <a:prstGeom prst="wedgeEllipseCallout">
            <a:avLst>
              <a:gd name="adj1" fmla="val -3541"/>
              <a:gd name="adj2" fmla="val -2131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endCxn id="8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E18-B9D8-4720-A405-C4DB498AEB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88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8280" y="3828240"/>
            <a:ext cx="1146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3320" y="12952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0" y="60199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2"/>
            <a:endCxn id="91" idx="5"/>
          </p:cNvCxnSpPr>
          <p:nvPr/>
        </p:nvCxnSpPr>
        <p:spPr>
          <a:xfrm rot="5400000">
            <a:off x="2353680" y="3789360"/>
            <a:ext cx="62640" cy="1434240"/>
          </a:xfrm>
          <a:prstGeom prst="curvedConnector5">
            <a:avLst>
              <a:gd name="adj1" fmla="val 676878"/>
              <a:gd name="adj2" fmla="val 49987"/>
              <a:gd name="adj3" fmla="val 676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7"/>
            <a:endCxn id="94" idx="0"/>
          </p:cNvCxnSpPr>
          <p:nvPr/>
        </p:nvCxnSpPr>
        <p:spPr>
          <a:xfrm flipH="1" flipV="1" rot="5400000">
            <a:off x="2340000" y="3152160"/>
            <a:ext cx="91080" cy="1434240"/>
          </a:xfrm>
          <a:prstGeom prst="curvedConnector5">
            <a:avLst>
              <a:gd name="adj1" fmla="val 394444"/>
              <a:gd name="adj2" fmla="val 49987"/>
              <a:gd name="adj3" fmla="val 394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endCxn id="9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CDC-ACEF-41F0-8C8A-7B6C85DD3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76E-18B1-4DC9-8418-F533D9C22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0C1-342A-4293-8CE2-41E40A3494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899-1AC6-438C-A0F5-D784501FD1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B1C-50B2-4824-84B3-F3D947EB7B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080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4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052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3000" y="4537080"/>
            <a:ext cx="7804080" cy="1972800"/>
            <a:chOff x="63000" y="4537080"/>
            <a:chExt cx="7804080" cy="1972800"/>
          </a:xfrm>
        </p:grpSpPr>
        <p:sp>
          <p:nvSpPr>
            <p:cNvPr id="125" name=""/>
            <p:cNvSpPr/>
            <p:nvPr/>
          </p:nvSpPr>
          <p:spPr>
            <a:xfrm>
              <a:off x="30564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132600" y="3808440"/>
            <a:ext cx="2621160" cy="1172520"/>
          </a:xfrm>
          <a:prstGeom prst="wedgeEllipseCallout">
            <a:avLst>
              <a:gd name="adj1" fmla="val -129194"/>
              <a:gd name="adj2" fmla="val -6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D01-CEAA-4EB5-A131-D98519F3BD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C25-33C2-42E6-A303-775534821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 with partn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364-893B-4057-B7D5-31BD2ACA52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in MS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2666880"/>
            <a:ext cx="655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EXPLICIT (won’t show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C3F-B673-4A89-AA69-65B7B6D3D7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56721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Student.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0840" y="5029200"/>
            <a:ext cx="6071760" cy="155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John” grade=“3.5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Blow” grade = “4.0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9F2-3CC6-4A82-B24F-56BA0773B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634080" cy="20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‘&lt;row name=“’ as a, Student.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rade=“’ b,  Student.gr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 a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5920" y="14637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C78-6DFD-4FB9-BAA7-745AE38159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557676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Course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, Enroll,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udent.sid = Enroll.si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.cid = Course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9120" y="480060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hierarchy, based on the order in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QL SERVER DOCUMENTATION !  TRY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   FOR XML AUTO,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58B-264A-4B85-8A7E-AEE2F3F4D1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23560" y="1006560"/>
            <a:ext cx="549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student name=“xxxx”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course name = “yyy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course name = “zzz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student&gt; . .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9C7-457C-41C5-896D-C37BB79EE8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75A-6FB3-4D97-8B1E-32DF1581E1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66E-4422-457D-911F-F6C4DF1CB7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0E6-90AE-40E6-BCCD-88F7826DE8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2" idx="3"/>
            <a:endCxn id="153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5"/>
            <a:endCxn id="154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3" idx="2"/>
            <a:endCxn id="155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3" idx="4"/>
            <a:endCxn id="157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3" idx="5"/>
            <a:endCxn id="158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4" idx="2"/>
            <a:endCxn id="156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4" idx="3"/>
            <a:endCxn id="159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4" idx="4"/>
            <a:endCxn id="160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4" idx="5"/>
            <a:endCxn id="161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4" idx="6"/>
            <a:endCxn id="162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7BE-914C-4A4C-B692-E36F778FE1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8CD-0690-43D6-9844-A6B019ED9C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0" idx="3"/>
            <a:endCxn id="181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5"/>
            <a:endCxn id="182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1" idx="2"/>
            <a:endCxn id="183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1" idx="3"/>
            <a:endCxn id="184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1" idx="4"/>
            <a:endCxn id="185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1" idx="5"/>
            <a:endCxn id="186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2" idx="2"/>
            <a:endCxn id="184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2" idx="3"/>
            <a:endCxn id="187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2" idx="4"/>
            <a:endCxn id="188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2" idx="5"/>
            <a:endCxn id="189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2" idx="6"/>
            <a:endCxn id="190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D53-E590-4E27-B115-CF2DC51E20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E8D-5629-4DF3-9A4D-4BA5661BF0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F4F-82A5-4E9D-BA8C-C405B9650D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8160" y="1219320"/>
            <a:ext cx="5680800" cy="2472480"/>
            <a:chOff x="3278160" y="1219320"/>
            <a:chExt cx="5680800" cy="2472480"/>
          </a:xfrm>
        </p:grpSpPr>
        <p:grpSp>
          <p:nvGrpSpPr>
            <p:cNvPr id="216" name=""/>
            <p:cNvGrpSpPr/>
            <p:nvPr/>
          </p:nvGrpSpPr>
          <p:grpSpPr>
            <a:xfrm>
              <a:off x="3278160" y="1549440"/>
              <a:ext cx="5680800" cy="2142360"/>
              <a:chOff x="3278160" y="1549440"/>
              <a:chExt cx="5680800" cy="21423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3345120" y="1649520"/>
                <a:ext cx="5546160" cy="2042280"/>
                <a:chOff x="3345120" y="1649520"/>
                <a:chExt cx="5546160" cy="20422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83272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88276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7648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383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18544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8212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29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76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23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4244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99068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36400" y="32914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780960" y="32914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2840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52480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152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381000" y="1848600"/>
                  <a:ext cx="1195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53780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548388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23160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38100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772524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7472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5488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7500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808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62596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11532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1676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9A5-3DB5-4E7A-96F5-0D00928C84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68" idx="4"/>
            <a:endCxn id="269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9" idx="3"/>
            <a:endCxn id="270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5"/>
            <a:endCxn id="271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endCxn id="268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79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D4D-5967-4D29-8F68-21866CABCC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A67-0999-493B-97F3-1BE878EB55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B7D-587C-446D-8BBD-FFBD98635D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878-29C4-40D3-B249-126A9C32EF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5D7-2150-48FD-82D4-C901D40BC5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4A7-1F6E-495A-A2CE-40438212D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A02-7563-4140-8B20-D747D825E3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123-DD22-4E8A-9C1A-0B0C2EE166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5C7-7E4C-45EA-9BBA-FB45EF3BF2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54E-4DD6-4A35-9351-2C443699C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14T04:14:40Z</dcterms:modified>
  <cp:revision>330</cp:revision>
  <dc:subject/>
  <dc:title>Lecture 09:</dc:title>
</cp:coreProperties>
</file>