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A6E7-6D80-4DDB-801D-621C8944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79D9-D7BC-4488-9F36-5E3FA65E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C6F5-0CD6-4B6F-B08B-8B029ECA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41E2-CC3B-43C3-B1AF-7A032289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0E4D-B684-45FD-BCE1-8A9B29C0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45BE-B8BE-4C30-BDA0-3CD4FC9F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3382-3CAD-45D7-8A38-B89CDBD2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90DD-524A-4575-976C-B71DD737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DBA8-7FF4-4DCA-8288-284EA923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7413-524F-4013-828C-AC6DD572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B38A-CB6A-4754-BECB-83A1F98B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0211-53C3-43A5-BC41-AF16332D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00BD-C63C-4290-B84E-1586C66EA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7: XQue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, 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February 14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1FBD-A46A-49A3-9202-F3B6D3FB1E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-LET-WHERE-RETURN  = FLW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37480" y="3492360"/>
            <a:ext cx="203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/LET Cla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320" y="4594320"/>
            <a:ext cx="1803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02280" y="5726160"/>
            <a:ext cx="190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54480" y="40212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54480" y="514656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5960" y="39546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75960" y="5195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77040" y="624852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ce of Xquery data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BCC5-07AA-48D3-854E-1FF5A331C2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ed and unordered 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 =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llection: result i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cument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 = an unordered collection: the output order is implementation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collection (several authors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0200" y="5251320"/>
            <a:ext cx="5374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8320" y="5025960"/>
            <a:ext cx="27435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8275-27B3-49BE-9A1C-9A0A8648A2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from/to Relationa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publish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dat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tor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ation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44D2-E063-4FC8-8B95-44202D3F9E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553080" y="3429000"/>
            <a:ext cx="2438640" cy="137160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5000" y="3178080"/>
            <a:ext cx="3844800" cy="210204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ent/server DB Ap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86920" y="3771720"/>
            <a:ext cx="1589040" cy="908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4360" y="3790080"/>
            <a:ext cx="22942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2438280"/>
            <a:ext cx="1676160" cy="2971800"/>
          </a:xfrm>
          <a:prstGeom prst="flowChartPunchedTap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50200" y="1523880"/>
            <a:ext cx="1584360" cy="1172520"/>
          </a:xfrm>
          <a:prstGeom prst="wedgeEllipseCallout">
            <a:avLst>
              <a:gd name="adj1" fmla="val 5587"/>
              <a:gd name="adj2" fmla="val 13403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46320" y="5715000"/>
            <a:ext cx="1072800" cy="652680"/>
          </a:xfrm>
          <a:prstGeom prst="wedgeEllipseCallout">
            <a:avLst>
              <a:gd name="adj1" fmla="val -3541"/>
              <a:gd name="adj2" fmla="val -21311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2" idx="3"/>
          </p:cNvCxnSpPr>
          <p:nvPr/>
        </p:nvCxnSpPr>
        <p:spPr>
          <a:xfrm rot="5400000">
            <a:off x="5238720" y="2904120"/>
            <a:ext cx="315000" cy="3174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endCxn id="82" idx="1"/>
          </p:cNvCxnSpPr>
          <p:nvPr/>
        </p:nvCxnSpPr>
        <p:spPr>
          <a:xfrm>
            <a:off x="3809520" y="3733560"/>
            <a:ext cx="3174120" cy="162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3569-4B1E-4685-BEB7-2F9F2BF512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553080" y="3429000"/>
            <a:ext cx="2438640" cy="137160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5000" y="3178080"/>
            <a:ext cx="3844800" cy="210204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880" y="3771720"/>
            <a:ext cx="1589040" cy="908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4360" y="3790080"/>
            <a:ext cx="22942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2438280"/>
            <a:ext cx="1676160" cy="2971800"/>
          </a:xfrm>
          <a:prstGeom prst="flowChartPunchedTap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28280" y="3828240"/>
            <a:ext cx="11469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3320" y="1295280"/>
            <a:ext cx="1584360" cy="1172520"/>
          </a:xfrm>
          <a:prstGeom prst="wedgeEllipseCallout">
            <a:avLst>
              <a:gd name="adj1" fmla="val 15513"/>
              <a:gd name="adj2" fmla="val 9993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0840" y="2133720"/>
            <a:ext cx="1218240" cy="652680"/>
          </a:xfrm>
          <a:prstGeom prst="wedgeEllipseCallout">
            <a:avLst>
              <a:gd name="adj1" fmla="val -24833"/>
              <a:gd name="adj2" fmla="val 214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69600" y="6019920"/>
            <a:ext cx="1072800" cy="652680"/>
          </a:xfrm>
          <a:prstGeom prst="wedgeEllipseCallout">
            <a:avLst>
              <a:gd name="adj1" fmla="val -893"/>
              <a:gd name="adj2" fmla="val -1233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03120" y="5486400"/>
            <a:ext cx="1650960" cy="1172520"/>
          </a:xfrm>
          <a:prstGeom prst="wedgeEllipseCallout">
            <a:avLst>
              <a:gd name="adj1" fmla="val -842"/>
              <a:gd name="adj2" fmla="val -12504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path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4" idx="2"/>
            <a:endCxn id="91" idx="5"/>
          </p:cNvCxnSpPr>
          <p:nvPr/>
        </p:nvCxnSpPr>
        <p:spPr>
          <a:xfrm rot="5400000">
            <a:off x="2353680" y="3789360"/>
            <a:ext cx="62640" cy="1434240"/>
          </a:xfrm>
          <a:prstGeom prst="curvedConnector5">
            <a:avLst>
              <a:gd name="adj1" fmla="val 676878"/>
              <a:gd name="adj2" fmla="val 49987"/>
              <a:gd name="adj3" fmla="val 6768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1" idx="7"/>
            <a:endCxn id="94" idx="0"/>
          </p:cNvCxnSpPr>
          <p:nvPr/>
        </p:nvCxnSpPr>
        <p:spPr>
          <a:xfrm flipH="1" flipV="1" rot="5400000">
            <a:off x="2340000" y="3152160"/>
            <a:ext cx="91080" cy="1434240"/>
          </a:xfrm>
          <a:prstGeom prst="curvedConnector5">
            <a:avLst>
              <a:gd name="adj1" fmla="val 394444"/>
              <a:gd name="adj2" fmla="val 49987"/>
              <a:gd name="adj3" fmla="val 394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2" idx="3"/>
          </p:cNvCxnSpPr>
          <p:nvPr/>
        </p:nvCxnSpPr>
        <p:spPr>
          <a:xfrm rot="5400000">
            <a:off x="5238720" y="2904120"/>
            <a:ext cx="315000" cy="3174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endCxn id="92" idx="1"/>
          </p:cNvCxnSpPr>
          <p:nvPr/>
        </p:nvCxnSpPr>
        <p:spPr>
          <a:xfrm>
            <a:off x="3809520" y="3733560"/>
            <a:ext cx="3174120" cy="162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0630-F9D2-431E-8E13-AB18E75225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sche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uden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name, add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urs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title, ro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roll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id, cid,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2819520"/>
            <a:ext cx="1143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2819520"/>
            <a:ext cx="12952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2514600"/>
            <a:ext cx="1214280" cy="12142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819160" y="3124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3124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3242-1A54-4068-AD12-C005DBDE67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99760"/>
            <a:ext cx="5149800" cy="52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Operating Systems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MGH084 &lt;/roo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Seattle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3.8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…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Database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EE045 &lt;/roo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Shoreline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3.9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…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51640" y="4987800"/>
            <a:ext cx="203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11760" y="2133720"/>
            <a:ext cx="191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AD92-0370-454A-AB8E-3382AAAEF0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819520"/>
            <a:ext cx="6615000" cy="361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040" y="1854360"/>
            <a:ext cx="50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thing to do: design the DT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F088-F9D2-4B98-A4A9-C0D470DCAC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69240" y="1676520"/>
            <a:ext cx="7495920" cy="497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urse/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ro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{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Enroll/row[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/row[s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s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z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z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600" y="533520"/>
            <a:ext cx="745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write an XQuery to export relational dat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esult is is the right 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BE61-ADC4-4720-BC52-63F11DBEA7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0800" y="1752480"/>
            <a:ext cx="60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: find Mary’s grade in Operating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8040" y="2514600"/>
            <a:ext cx="792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=“Operating Systems”]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“Mary”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191120"/>
            <a:ext cx="485640" cy="533160"/>
          </a:xfrm>
          <a:prstGeom prst="downArrow">
            <a:avLst>
              <a:gd name="adj1" fmla="val 50000"/>
              <a:gd name="adj2" fmla="val 274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0520" y="2098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3000" y="4537080"/>
            <a:ext cx="7804080" cy="1972800"/>
            <a:chOff x="63000" y="4537080"/>
            <a:chExt cx="7804080" cy="1972800"/>
          </a:xfrm>
        </p:grpSpPr>
        <p:sp>
          <p:nvSpPr>
            <p:cNvPr id="125" name=""/>
            <p:cNvSpPr/>
            <p:nvPr/>
          </p:nvSpPr>
          <p:spPr>
            <a:xfrm>
              <a:off x="305640" y="4952880"/>
              <a:ext cx="756144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Enroll.grad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Student, Enroll, Cours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Student.name=“Mary” and Course.title=“OS”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and Student.sid = Enroll.sid and Enroll.cid = Course.c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000" y="453708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132600" y="3808440"/>
            <a:ext cx="2621160" cy="1172520"/>
          </a:xfrm>
          <a:prstGeom prst="wedgeEllipseCallout">
            <a:avLst>
              <a:gd name="adj1" fmla="val -129194"/>
              <a:gd name="adj2" fmla="val -666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d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EB6F-99C4-471A-86E2-39C6B941A1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collections in expressions 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of n pric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0.7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of n numb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of n x m numbers ?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7C86-2B4D-47E4-8414-735569F979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choose the output structure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d by agreement with partners/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dictated by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dialects (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DT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Data is often nested, irregular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ormal forms for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1722-72BC-4FA1-B5B9-DDEFB1F7C9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 in MS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9480" y="2666880"/>
            <a:ext cx="655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XML R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XML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XML EXPLICIT (won’t show in cl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ED6C-DE5B-4305-9203-B094DB8A37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XML R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00200" y="2133360"/>
            <a:ext cx="567216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Student.name, Student.g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XML R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0840" y="5029200"/>
            <a:ext cx="6071760" cy="155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ame=“John” grade=“3.5”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ame=“Blow” grade = “4.0”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403848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2C6A-A066-411E-A8A0-463F553690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XML R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6634080" cy="206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‘&lt;row name=“’ as a, Student.na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‘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grade=“’ b,  Student.grad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&gt; as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5920" y="146376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the same th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9530-4213-40B0-ACF6-A42C01A738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XML AU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8960" y="1904760"/>
            <a:ext cx="5576760" cy="25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Student.name, Course.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tudent, Enroll,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Student.sid = Enroll.sid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roll.cid = Course.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XML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9120" y="4800600"/>
            <a:ext cx="68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s hierarchy, based on the order in 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SQL SERVER DOCUMENTATION !  TRY I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:    FOR XML AUTO,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B4D8-49E6-453D-8DF0-69BEA657DB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23560" y="1006560"/>
            <a:ext cx="5496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student name=“xxxx”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course name = “yyy”/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course name = “zzz”/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/student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student&gt; . .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55D7-EEE0-4F7B-91E7-7E72FEFAF6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ften the XML data is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a SOAP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d directly into the application (DOM A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XML data is 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store/process it in a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XML storag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choose the schema of the databas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0486-A691-4D1F-971F-B14A0BAB97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solu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derived from DT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ing XML as a graph: “Edge rela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it as a BL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, boring, in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n’t discuss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4A14-2C61-4E77-A47C-4153B1FAC24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a relational schema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23040" y="3200400"/>
            <a:ext cx="6272280" cy="27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|produc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offi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roduc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(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availabil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|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descrip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i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descrip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7531-10CA-401C-85A4-4F9064A4FC2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1600" y="1905120"/>
            <a:ext cx="21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, constr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TD grap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87640" y="2435760"/>
            <a:ext cx="18370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53640" y="4070880"/>
            <a:ext cx="140580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88120" y="4070880"/>
            <a:ext cx="15742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360" y="5436360"/>
            <a:ext cx="80712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1200" y="5436360"/>
            <a:ext cx="119052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07800" y="5434560"/>
            <a:ext cx="126324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29280" y="5434560"/>
            <a:ext cx="130896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97920" y="5434560"/>
            <a:ext cx="80712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62920" y="5434560"/>
            <a:ext cx="111960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37160" y="5434560"/>
            <a:ext cx="12034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v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96360" y="5434560"/>
            <a:ext cx="127440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esc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52" idx="3"/>
            <a:endCxn id="153" idx="0"/>
          </p:cNvCxnSpPr>
          <p:nvPr/>
        </p:nvCxnSpPr>
        <p:spPr>
          <a:xfrm flipH="1">
            <a:off x="3455280" y="2979720"/>
            <a:ext cx="724680" cy="110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52" idx="5"/>
            <a:endCxn id="154" idx="0"/>
          </p:cNvCxnSpPr>
          <p:nvPr/>
        </p:nvCxnSpPr>
        <p:spPr>
          <a:xfrm flipH="1">
            <a:off x="5275080" y="2979720"/>
            <a:ext cx="157680" cy="110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3" idx="2"/>
            <a:endCxn id="155" idx="0"/>
          </p:cNvCxnSpPr>
          <p:nvPr/>
        </p:nvCxnSpPr>
        <p:spPr>
          <a:xfrm flipH="1">
            <a:off x="600840" y="4395960"/>
            <a:ext cx="2181960" cy="105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3" idx="3"/>
            <a:endCxn id="156" idx="0"/>
          </p:cNvCxnSpPr>
          <p:nvPr/>
        </p:nvCxnSpPr>
        <p:spPr>
          <a:xfrm flipH="1">
            <a:off x="1556640" y="4614840"/>
            <a:ext cx="142308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3" idx="4"/>
            <a:endCxn id="157" idx="0"/>
          </p:cNvCxnSpPr>
          <p:nvPr/>
        </p:nvCxnSpPr>
        <p:spPr>
          <a:xfrm flipH="1">
            <a:off x="2739240" y="4704840"/>
            <a:ext cx="716760" cy="74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53" idx="5"/>
            <a:endCxn id="158" idx="0"/>
          </p:cNvCxnSpPr>
          <p:nvPr/>
        </p:nvCxnSpPr>
        <p:spPr>
          <a:xfrm>
            <a:off x="3931920" y="4614840"/>
            <a:ext cx="5292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4" idx="2"/>
            <a:endCxn id="156" idx="7"/>
          </p:cNvCxnSpPr>
          <p:nvPr/>
        </p:nvCxnSpPr>
        <p:spPr>
          <a:xfrm flipH="1">
            <a:off x="1953720" y="4395600"/>
            <a:ext cx="2566080" cy="114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4" idx="3"/>
            <a:endCxn id="159" idx="0"/>
          </p:cNvCxnSpPr>
          <p:nvPr/>
        </p:nvCxnSpPr>
        <p:spPr>
          <a:xfrm>
            <a:off x="4740120" y="4614840"/>
            <a:ext cx="26280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4" idx="4"/>
            <a:endCxn id="160" idx="0"/>
          </p:cNvCxnSpPr>
          <p:nvPr/>
        </p:nvCxnSpPr>
        <p:spPr>
          <a:xfrm>
            <a:off x="5275080" y="4704840"/>
            <a:ext cx="648360" cy="74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4" idx="5"/>
            <a:endCxn id="161" idx="0"/>
          </p:cNvCxnSpPr>
          <p:nvPr/>
        </p:nvCxnSpPr>
        <p:spPr>
          <a:xfrm>
            <a:off x="5810040" y="4614840"/>
            <a:ext cx="122940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4" idx="6"/>
            <a:endCxn id="162" idx="0"/>
          </p:cNvCxnSpPr>
          <p:nvPr/>
        </p:nvCxnSpPr>
        <p:spPr>
          <a:xfrm>
            <a:off x="6031080" y="4395960"/>
            <a:ext cx="2203920" cy="10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3735000" y="3276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11160" y="3352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3600" y="4800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7120" y="3352680"/>
            <a:ext cx="2075760" cy="1172520"/>
          </a:xfrm>
          <a:prstGeom prst="wedgeEllipseCallout">
            <a:avLst>
              <a:gd name="adj1" fmla="val 42662"/>
              <a:gd name="adj2" fmla="val 5171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ign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297F-2DFE-4AB3-BEDB-3B4EFE280BB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6720" y="1905120"/>
            <a:ext cx="76914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1752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_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Courier New"/>
              </a:rPr>
              <a:t>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document("bib.xml")/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document("bib.xml")/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SORT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DESCEN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SORT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_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49EA-551A-4051-846D-EF2F3FF8AF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160" y="1905120"/>
            <a:ext cx="28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, design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schema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mon s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27640" y="1966320"/>
            <a:ext cx="144252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03800" y="2817360"/>
            <a:ext cx="11170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60240" y="2817360"/>
            <a:ext cx="124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87200" y="3760200"/>
            <a:ext cx="6670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99560" y="3760200"/>
            <a:ext cx="957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29880" y="3758760"/>
            <a:ext cx="1011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76040" y="3758760"/>
            <a:ext cx="10461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42320" y="3758760"/>
            <a:ext cx="6692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46040" y="3758760"/>
            <a:ext cx="903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64760" y="3758760"/>
            <a:ext cx="9687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va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49440" y="3758760"/>
            <a:ext cx="1020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esc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0" idx="3"/>
            <a:endCxn id="181" idx="0"/>
          </p:cNvCxnSpPr>
          <p:nvPr/>
        </p:nvCxnSpPr>
        <p:spPr>
          <a:xfrm flipH="1">
            <a:off x="3962160" y="2400120"/>
            <a:ext cx="6976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0" idx="5"/>
            <a:endCxn id="182" idx="0"/>
          </p:cNvCxnSpPr>
          <p:nvPr/>
        </p:nvCxnSpPr>
        <p:spPr>
          <a:xfrm>
            <a:off x="5636880" y="2400120"/>
            <a:ext cx="14472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81" idx="2"/>
            <a:endCxn id="183" idx="0"/>
          </p:cNvCxnSpPr>
          <p:nvPr/>
        </p:nvCxnSpPr>
        <p:spPr>
          <a:xfrm flipH="1">
            <a:off x="1420200" y="3078000"/>
            <a:ext cx="201348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1" idx="3"/>
            <a:endCxn id="184" idx="0"/>
          </p:cNvCxnSpPr>
          <p:nvPr/>
        </p:nvCxnSpPr>
        <p:spPr>
          <a:xfrm flipH="1">
            <a:off x="2177640" y="3250800"/>
            <a:ext cx="14119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81" idx="4"/>
            <a:endCxn id="185" idx="0"/>
          </p:cNvCxnSpPr>
          <p:nvPr/>
        </p:nvCxnSpPr>
        <p:spPr>
          <a:xfrm flipH="1">
            <a:off x="3235320" y="3322800"/>
            <a:ext cx="72756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81" idx="5"/>
            <a:endCxn id="186" idx="0"/>
          </p:cNvCxnSpPr>
          <p:nvPr/>
        </p:nvCxnSpPr>
        <p:spPr>
          <a:xfrm flipH="1">
            <a:off x="4298400" y="3250800"/>
            <a:ext cx="3708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82" idx="2"/>
            <a:endCxn id="184" idx="7"/>
          </p:cNvCxnSpPr>
          <p:nvPr/>
        </p:nvCxnSpPr>
        <p:spPr>
          <a:xfrm flipH="1">
            <a:off x="2493360" y="3077640"/>
            <a:ext cx="26960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82" idx="3"/>
            <a:endCxn id="187" idx="0"/>
          </p:cNvCxnSpPr>
          <p:nvPr/>
        </p:nvCxnSpPr>
        <p:spPr>
          <a:xfrm>
            <a:off x="5362200" y="3250800"/>
            <a:ext cx="21492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82" idx="4"/>
            <a:endCxn id="188" idx="0"/>
          </p:cNvCxnSpPr>
          <p:nvPr/>
        </p:nvCxnSpPr>
        <p:spPr>
          <a:xfrm>
            <a:off x="5781240" y="3322800"/>
            <a:ext cx="51660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82" idx="5"/>
            <a:endCxn id="189" idx="0"/>
          </p:cNvCxnSpPr>
          <p:nvPr/>
        </p:nvCxnSpPr>
        <p:spPr>
          <a:xfrm>
            <a:off x="6200280" y="3250800"/>
            <a:ext cx="104832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82" idx="6"/>
            <a:endCxn id="190" idx="0"/>
          </p:cNvCxnSpPr>
          <p:nvPr/>
        </p:nvCxnSpPr>
        <p:spPr>
          <a:xfrm>
            <a:off x="6373440" y="3078000"/>
            <a:ext cx="1986840" cy="69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4024440" y="2340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3740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45200" y="336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45080" y="4917960"/>
            <a:ext cx="49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offic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on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, phon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price, avail., desc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8960" y="6213600"/>
            <a:ext cx="66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Which attributes may be NULL ? (Look at the DT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FBE6-E5CB-471D-97AD-A116760A2AD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72000" y="20224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68360" y="2825640"/>
            <a:ext cx="7601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[description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nam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descrip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57880" y="4952880"/>
            <a:ext cx="56581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roduct.name, Product.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roduct.description IS NOT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38862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1AA2-519A-4E4F-BD92-D6C8D233A34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we don’t have a DT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we store the XML dat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XML instance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the edges in a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d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the #PCDATA in 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2B9E-BA92-4957-A887-26B66C8D858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278160" y="1219320"/>
            <a:ext cx="5680800" cy="2472480"/>
            <a:chOff x="3278160" y="1219320"/>
            <a:chExt cx="5680800" cy="2472480"/>
          </a:xfrm>
        </p:grpSpPr>
        <p:grpSp>
          <p:nvGrpSpPr>
            <p:cNvPr id="216" name=""/>
            <p:cNvGrpSpPr/>
            <p:nvPr/>
          </p:nvGrpSpPr>
          <p:grpSpPr>
            <a:xfrm>
              <a:off x="3278160" y="1549440"/>
              <a:ext cx="5680800" cy="2142360"/>
              <a:chOff x="3278160" y="1549440"/>
              <a:chExt cx="5680800" cy="214236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3345120" y="1649520"/>
                <a:ext cx="5546160" cy="2042280"/>
                <a:chOff x="3345120" y="1649520"/>
                <a:chExt cx="5546160" cy="20422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832720" y="16495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d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239000" y="214740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boo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882760" y="214740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boo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476480" y="2147400"/>
                  <a:ext cx="69732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publish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44196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33836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185440" y="284436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982120" y="284436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72948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47648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22348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sta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345120" y="3143880"/>
                  <a:ext cx="82368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omple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uid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o DB2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042440" y="3242520"/>
                  <a:ext cx="1098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hamberli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990680" y="3242520"/>
                  <a:ext cx="109800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ransac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rocessing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936400" y="3291480"/>
                  <a:ext cx="1006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ernstei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780960" y="3291480"/>
                  <a:ext cx="915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ewcomer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628400" y="3143880"/>
                  <a:ext cx="73224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orga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aufma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8524800" y="3193920"/>
                  <a:ext cx="366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A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4786560" y="1848600"/>
                  <a:ext cx="104580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131520" y="1947960"/>
                  <a:ext cx="49680" cy="19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381000" y="1848600"/>
                  <a:ext cx="119520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3889800" y="2396160"/>
                  <a:ext cx="39852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537800" y="2446200"/>
                  <a:ext cx="9936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>
                  <a:off x="5483880" y="2446200"/>
                  <a:ext cx="54756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231600" y="2446200"/>
                  <a:ext cx="4932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381000" y="2396160"/>
                  <a:ext cx="54756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>
                  <a:off x="7725240" y="2446200"/>
                  <a:ext cx="4932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974720" y="2446200"/>
                  <a:ext cx="44820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6" name=""/>
              <p:cNvSpPr/>
              <p:nvPr/>
            </p:nvSpPr>
            <p:spPr>
              <a:xfrm>
                <a:off x="6366960" y="154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003560" y="2045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7816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730040" y="2575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654880" y="21117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19228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98464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75000" y="2575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899120" y="19796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768080" y="263988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625960" y="257544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6115320" y="1285200"/>
              <a:ext cx="0" cy="32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16760" y="1219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59" name=""/>
          <p:cNvGraphicFramePr/>
          <p:nvPr/>
        </p:nvGraphicFramePr>
        <p:xfrm>
          <a:off x="533520" y="3581280"/>
          <a:ext cx="2514600" cy="301464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aut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aut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429000" y="4800600"/>
          <a:ext cx="2819520" cy="1727280"/>
        </p:xfrm>
        <a:graphic>
          <a:graphicData uri="http://schemas.openxmlformats.org/drawingml/2006/table">
            <a:tbl>
              <a:tblPr/>
              <a:tblGrid>
                <a:gridCol w="914400"/>
                <a:gridCol w="1905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 guide 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mber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518760" y="29368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29720" y="42670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920" y="1219320"/>
            <a:ext cx="3000240" cy="1432800"/>
          </a:xfrm>
          <a:prstGeom prst="wedgeEllipseCallout">
            <a:avLst>
              <a:gd name="adj1" fmla="val 65185"/>
              <a:gd name="adj2" fmla="val 2620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on’t know DT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A6A9-FFCE-4837-9A38-62661E608DD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72000" y="20224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5720" y="2847960"/>
            <a:ext cx="74343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text()=“Chamberlin”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/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6200000">
            <a:off x="1361880" y="4657320"/>
            <a:ext cx="771480" cy="1209600"/>
          </a:xfrm>
          <a:prstGeom prst="downArrow">
            <a:avLst>
              <a:gd name="adj1" fmla="val 50000"/>
              <a:gd name="adj2" fmla="val 391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30400" y="4252320"/>
            <a:ext cx="57852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94320" y="5014440"/>
            <a:ext cx="9014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98560" y="5591160"/>
            <a:ext cx="10828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54960" y="5623920"/>
            <a:ext cx="76212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68" idx="4"/>
            <a:endCxn id="269" idx="0"/>
          </p:cNvCxnSpPr>
          <p:nvPr/>
        </p:nvCxnSpPr>
        <p:spPr>
          <a:xfrm>
            <a:off x="4119120" y="4757760"/>
            <a:ext cx="2628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69" idx="3"/>
            <a:endCxn id="270" idx="7"/>
          </p:cNvCxnSpPr>
          <p:nvPr/>
        </p:nvCxnSpPr>
        <p:spPr>
          <a:xfrm flipH="1">
            <a:off x="3601440" y="5447880"/>
            <a:ext cx="2466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9" idx="5"/>
            <a:endCxn id="271" idx="1"/>
          </p:cNvCxnSpPr>
          <p:nvPr/>
        </p:nvCxnSpPr>
        <p:spPr>
          <a:xfrm>
            <a:off x="4441320" y="5448240"/>
            <a:ext cx="54648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2589840" y="6095880"/>
            <a:ext cx="118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mberli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99520" y="609588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endCxn id="268" idx="0"/>
          </p:cNvCxnSpPr>
          <p:nvPr/>
        </p:nvCxnSpPr>
        <p:spPr>
          <a:xfrm>
            <a:off x="4114440" y="3962520"/>
            <a:ext cx="54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78" name=""/>
          <p:cNvGrpSpPr/>
          <p:nvPr/>
        </p:nvGrpSpPr>
        <p:grpSpPr>
          <a:xfrm>
            <a:off x="2821320" y="3962520"/>
            <a:ext cx="2809440" cy="2743920"/>
            <a:chOff x="2821320" y="3962520"/>
            <a:chExt cx="2809440" cy="2743920"/>
          </a:xfrm>
        </p:grpSpPr>
        <p:sp>
          <p:nvSpPr>
            <p:cNvPr id="279" name=""/>
            <p:cNvSpPr/>
            <p:nvPr/>
          </p:nvSpPr>
          <p:spPr>
            <a:xfrm>
              <a:off x="4344480" y="396252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d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96400" y="4648320"/>
              <a:ext cx="69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21320" y="518148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auth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27880" y="51814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ti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97640" y="636912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vauth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32440" y="63244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vti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 rot="16200000">
            <a:off x="6476760" y="4657320"/>
            <a:ext cx="771480" cy="1209600"/>
          </a:xfrm>
          <a:prstGeom prst="downArrow">
            <a:avLst>
              <a:gd name="adj1" fmla="val 50000"/>
              <a:gd name="adj2" fmla="val 391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3DFF-9CCE-4A01-9FED-4F9C8AFC17C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4320" y="182880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6040" y="3352680"/>
            <a:ext cx="851544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  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Valu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alu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= 0                  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db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book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author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title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value = ‘Chamberlin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36800" y="2438280"/>
            <a:ext cx="1521000" cy="5875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80680" y="1828800"/>
            <a:ext cx="3087000" cy="652680"/>
          </a:xfrm>
          <a:prstGeom prst="wedgeEllipseCallout">
            <a:avLst>
              <a:gd name="adj1" fmla="val -27601"/>
              <a:gd name="adj2" fmla="val 179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6-way join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6E1-D76A-4C60-9770-169E6DB5619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 relation summ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relational schema for every XML docu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dge(Source, Tag, De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(Source, V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ic: work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ML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effici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 tags multiple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many joins to reconstruc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EE65-8096-46C4-99CF-63A087572F1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XML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AP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M = “Document Object Mode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langu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link, X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16120" y="5105520"/>
            <a:ext cx="415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ww.w3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t don’t spend rest of your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those standards 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A113-E084-4DB4-BD5A-87C6A110E92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96120" y="2057400"/>
            <a:ext cx="459324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1752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IN /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@type = "Journal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edi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SORT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(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A4DF-013B-49D8-BD86-933BB16946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ential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3800" y="2209680"/>
            <a:ext cx="6148800" cy="26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TISF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"sailing"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"windsurfing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C2E5-A9AF-4196-95AE-79D25208C9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al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54760" y="2362320"/>
            <a:ext cx="5757840" cy="21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TISF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"sailing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887A-30DA-4F9C-A5DB-974EF92811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Stuff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F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ealing with order in the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s some edges in the result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ive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: arbitrary recu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haps more restrictions in the fu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0CF3-BADB-4F3A-8496-0B242F9801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de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llection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FCE0-FD3B-40C0-AC11-9A39F62E42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4440" y="2438280"/>
            <a:ext cx="4508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83480" y="2286000"/>
            <a:ext cx="32572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4440" y="4343400"/>
            <a:ext cx="4508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=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38800" y="4343400"/>
            <a:ext cx="25210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F7AB-84F8-4FE3-9324-A38F5B3339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02-14T04:14:40Z</dcterms:modified>
  <cp:revision>330</cp:revision>
  <dc:subject/>
  <dc:title>Lecture 09:</dc:title>
</cp:coreProperties>
</file>