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40FF-4CF9-410E-B573-0231B2334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FA2D-7925-4CA9-BAE2-DEEACC149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0800" y="4341960"/>
            <a:ext cx="50338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0ABE-47E0-4B3E-A016-7BC0A296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A3FD-9688-4F9D-8996-AAED4C2A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F4E9-2297-457F-8D8B-E07088DD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7E31-476D-419B-8575-0AD62867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89F1-80A1-48D2-9BDA-2892C24E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12B4-1A42-4CE4-8525-B3A03B6D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D67E-359D-4C6C-8E6C-02F1EC41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FBAF-3E0C-4FF7-82AC-30A3DE05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A586-1AD2-46E0-96D2-3E3F1196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540-D800-49B9-BEE1-9B904801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FB4E-67C1-438D-B2E8-EEC65420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657F-592C-4744-A910-D41CBC9B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7DE5-D9B5-4C84-B29B-174B0AF4D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ing XML Data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,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February 11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0041-4800-4893-9B15-C8FD42FD59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Attribute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“55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@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ans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 is has to be 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600" y="1828800"/>
            <a:ext cx="3047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/@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83280" y="1676520"/>
            <a:ext cx="4689000" cy="37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A Wesley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Serge Abiteboul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Rick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Hull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Victor Vianu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oundations of Databases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Arial"/>
              </a:rPr>
              <a:t>pr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=“55”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reema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Jeffrey D. Ullma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Database Syste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7DC4-BB42-4489-8142-84BC54AB2F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0760" y="1905120"/>
            <a:ext cx="41371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author[firstnam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62480" y="1447920"/>
            <a:ext cx="4689000" cy="37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A Wesley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Serge Abiteboul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Rick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Hull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Victor Vianu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oundations of Databases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Arial"/>
              </a:rPr>
              <a:t>pr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=“55”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reema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Jeffrey D. Ullma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Database Syste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B38F-2248-4EFB-A1B4-97970586E1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9520" y="2209680"/>
            <a:ext cx="7355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book/author[firstname][address[.//zip][city]]/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D48-3C16-4C66-981D-D9D2D55B9E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4760" y="2286000"/>
            <a:ext cx="40485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@price &lt; 6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2240" y="3657600"/>
            <a:ext cx="4955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author/@age &lt; 2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5105520"/>
            <a:ext cx="40532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author/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5B99-9413-49F9-AF41-B0B9E186F2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556400" cy="48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ny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the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ment under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/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//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t any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/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paper at any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per|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@pric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/book/@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ibute i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/book[@price&lt;“55”]/author/lastnam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D988-D9D0-4CCA-A21B-29F7B5881B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Quilt, which is based on XML-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XPath to express more complex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941F-812D-4343-B22C-197D3A224F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WR (“Flower”)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33360" y="2819520"/>
            <a:ext cx="3429000" cy="23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739E-8C8A-4A74-AA2A-E498FB636D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47680" y="1645920"/>
            <a:ext cx="7616880" cy="50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Addison-Wesley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Serge Abitebou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Rick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Hul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Victor Vianu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oundations of Databases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5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“55”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ree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Jeffrey D. Ull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Principles of Database and Knowledge Base Syste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8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Data for Quer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more or les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C65F-5A9C-4248-9C36-1C74767CF8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 titles published after 199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8680" y="2895480"/>
            <a:ext cx="5397840" cy="157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07560" y="4876920"/>
            <a:ext cx="271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FDEC-C8A9-4BEF-8409-7A81DFEEA0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61786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ly (perhaps more geeki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3120" y="2895480"/>
            <a:ext cx="85251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1240" y="449568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n shor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8000" y="5562720"/>
            <a:ext cx="7078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E0C3-2C75-473C-B575-54DA3EF26D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: syntax, semantics, data, DT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ongly recommended read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Path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java.sun.com/webservices/docs/ea2/tutorial/doc/JAXPXSLT2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Quer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w3.org/TR/xmlquery-use-cases/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xmlportfolio.com/xquery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2DFC-8D10-4B66-93E4-6B916EEF78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 titles and the year when they were publish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6480" y="2971800"/>
            <a:ext cx="58687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5840" y="5000760"/>
            <a:ext cx="85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95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2002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k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80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72200" y="2514600"/>
            <a:ext cx="2590920" cy="914400"/>
          </a:xfrm>
          <a:prstGeom prst="wedgeEllipseCallout">
            <a:avLst>
              <a:gd name="adj1" fmla="val -90134"/>
              <a:gd name="adj2" fmla="val 9131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“{“ and “}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600D-AA7E-47A5-A710-E297BD49E6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author of a book by Morgan Kaufmann, list all books she publish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2200" y="2971800"/>
            <a:ext cx="843336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ocument(“bib.xml”)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“Morgan Kaufmann”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1480" y="6172200"/>
            <a:ext cx="76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In the </a:t>
            </a:r>
            <a:r>
              <a:rPr b="0" lang="en-US" sz="2400" spc="-1" strike="noStrike" u="sng">
                <a:solidFill>
                  <a:srgbClr val="ff66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clause comma concatenates XML fra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8F96-1E41-43E2-B800-D091E073ED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913280" cy="394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Jones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2D77-8E12-470C-82C6-F2D92C5A53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s with more than 3 auth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3440" y="4876920"/>
            <a:ext cx="528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 function that 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av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computes the average</a:t>
            </a:r>
            <a:br>
              <a:rPr sz="2400"/>
            </a:b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mputes the sum</a:t>
            </a:r>
            <a:br>
              <a:rPr sz="2400"/>
            </a:b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eliminates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1480" y="2971800"/>
            <a:ext cx="5397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3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C2FB-8EC3-44A4-A3FF-1E59784188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 all authors who published more than 3 books – be aware of duplicat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480" y="4267080"/>
            <a:ext cx="6229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$a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book/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3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0E2C-BDDA-436A-BD19-E1DC8974F6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att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tten” the authors, i.e. return a list of (author, title)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" y="3352680"/>
            <a:ext cx="547416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$x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$y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1920" y="3429000"/>
            <a:ext cx="2838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efg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hkj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F646-EBD9-411C-BF0D-4F27148D870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-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author, return all titles of her/his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9680" y="3276720"/>
            <a:ext cx="600300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82040" y="5334120"/>
            <a:ext cx="159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plic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14400" y="2819520"/>
            <a:ext cx="2838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efg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klm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. 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2D22-A02D-497F-92DA-B7ED90269E2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-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, but eliminate duplicate auth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2819520"/>
            <a:ext cx="611352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D684-8A2F-4FBF-8AB1-C851FEBD62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-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th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819520"/>
            <a:ext cx="624636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73C0-F812-49CE-9293-2C8A4095B04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book titles by the coauthors of “Database Theory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3114720"/>
            <a:ext cx="68990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“Database Theory”],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]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4811760"/>
            <a:ext cx="382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k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160" y="5410080"/>
            <a:ext cx="35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Qu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Why do we get duplicat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3FD1-3551-4419-9ECF-7BDFCFC2ABE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ing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Path = simple navigation through th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Query = the SQL of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SLT = recursive tra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not discuss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7311-D8EF-42EF-9FD6-CD329FE9933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inct-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efore, but eliminate duplic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800600"/>
            <a:ext cx="382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k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4952880"/>
            <a:ext cx="848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 func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liminates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apply to a colle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s, no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s – note how query has 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5720" y="2971800"/>
            <a:ext cx="8513280" cy="174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“Database Theory”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,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988D-6B80-4DF2-8E55-686CFBE1219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5720" y="1752480"/>
            <a:ext cx="42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name, maker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4400" y="1600200"/>
            <a:ext cx="39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 names, pric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by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83600" y="2735280"/>
            <a:ext cx="2625120" cy="2556360"/>
            <a:chOff x="183600" y="2735280"/>
            <a:chExt cx="2625120" cy="2556360"/>
          </a:xfrm>
        </p:grpSpPr>
        <p:sp>
          <p:nvSpPr>
            <p:cNvPr id="179" name=""/>
            <p:cNvSpPr/>
            <p:nvPr/>
          </p:nvSpPr>
          <p:spPr>
            <a:xfrm>
              <a:off x="183600" y="2735280"/>
              <a:ext cx="262512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x.name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x.pric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Product x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DER BY x.pr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600" y="4638960"/>
              <a:ext cx="1072800" cy="652680"/>
            </a:xfrm>
            <a:prstGeom prst="wedgeEllipseCallout">
              <a:avLst>
                <a:gd name="adj1" fmla="val -26620"/>
                <a:gd name="adj2" fmla="val -958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719360" y="2666880"/>
            <a:ext cx="7319520" cy="3090960"/>
            <a:chOff x="1719360" y="2666880"/>
            <a:chExt cx="7319520" cy="3090960"/>
          </a:xfrm>
        </p:grpSpPr>
        <p:sp>
          <p:nvSpPr>
            <p:cNvPr id="182" name=""/>
            <p:cNvSpPr/>
            <p:nvPr/>
          </p:nvSpPr>
          <p:spPr>
            <a:xfrm>
              <a:off x="2975040" y="2666880"/>
              <a:ext cx="6063840" cy="192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document(“db.xml”)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RDER BY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/price/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xt()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answ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,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ic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&lt;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answ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19360" y="5105160"/>
              <a:ext cx="1650960" cy="652680"/>
            </a:xfrm>
            <a:prstGeom prst="wedgeEllipseCallout">
              <a:avLst>
                <a:gd name="adj1" fmla="val 42129"/>
                <a:gd name="adj2" fmla="val -12436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C443-494E-44A3-B5A5-ED3D3990B9F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08400" y="2057400"/>
            <a:ext cx="3615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nsw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  abc  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ice&gt;  7 &lt;/price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answer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answ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  def  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ice&gt;  23 &lt;/price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answ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’s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5480" y="434340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this is NOT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-formed document 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2F5A-79DF-4CAB-9F82-30D79996C29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cing a Well-Formed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7080" y="2438280"/>
            <a:ext cx="651492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y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{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price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,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y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318A-4554-446D-81F5-93DF65F4EED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8400" y="2057400"/>
            <a:ext cx="3844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yQuery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answ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  abc  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ice&gt;  7 &lt;/price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/answer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answ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  def  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ice&gt;  23 &lt;/price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/answ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myQuer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’s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62000" y="297180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t is well-formed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8CAE-242C-4869-B5EA-4B0A97882AE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8200" y="1523880"/>
            <a:ext cx="460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name, maker, pric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cid, name, city, reven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90160" y="175248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s made in Sea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58400" y="2895480"/>
            <a:ext cx="3864240" cy="2556360"/>
            <a:chOff x="158400" y="2895480"/>
            <a:chExt cx="3864240" cy="2556360"/>
          </a:xfrm>
        </p:grpSpPr>
        <p:sp>
          <p:nvSpPr>
            <p:cNvPr id="196" name=""/>
            <p:cNvSpPr/>
            <p:nvPr/>
          </p:nvSpPr>
          <p:spPr>
            <a:xfrm>
              <a:off x="158400" y="2895480"/>
              <a:ext cx="386424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x.nam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Product x, Company 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x.maker=y.ci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and y.city=“Seattle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6840" y="4799160"/>
              <a:ext cx="1072800" cy="652680"/>
            </a:xfrm>
            <a:prstGeom prst="wedgeEllipseCallout">
              <a:avLst>
                <a:gd name="adj1" fmla="val -26620"/>
                <a:gd name="adj2" fmla="val -958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241800" y="2362320"/>
            <a:ext cx="5752440" cy="3090960"/>
            <a:chOff x="3241800" y="2362320"/>
            <a:chExt cx="5752440" cy="3090960"/>
          </a:xfrm>
        </p:grpSpPr>
        <p:sp>
          <p:nvSpPr>
            <p:cNvPr id="199" name=""/>
            <p:cNvSpPr/>
            <p:nvPr/>
          </p:nvSpPr>
          <p:spPr>
            <a:xfrm>
              <a:off x="4498920" y="2362320"/>
              <a:ext cx="4495320" cy="265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document(“db.xml”)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ompan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WHER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mak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i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and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i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 = “Seattle”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41800" y="4800600"/>
              <a:ext cx="1650960" cy="652680"/>
            </a:xfrm>
            <a:prstGeom prst="wedgeEllipseCallout">
              <a:avLst>
                <a:gd name="adj1" fmla="val 42129"/>
                <a:gd name="adj2" fmla="val -12436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39680" y="5546880"/>
            <a:ext cx="8861040" cy="1264320"/>
            <a:chOff x="139680" y="5546880"/>
            <a:chExt cx="8861040" cy="1264320"/>
          </a:xfrm>
        </p:grpSpPr>
        <p:sp>
          <p:nvSpPr>
            <p:cNvPr id="202" name=""/>
            <p:cNvSpPr/>
            <p:nvPr/>
          </p:nvSpPr>
          <p:spPr>
            <a:xfrm>
              <a:off x="2054880" y="5546880"/>
              <a:ext cx="694584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ompan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[ci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“Seattle”]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[mak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/cid/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xt()]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9680" y="5638680"/>
              <a:ext cx="1650960" cy="1172520"/>
            </a:xfrm>
            <a:prstGeom prst="wedgeEllipseCallout">
              <a:avLst>
                <a:gd name="adj1" fmla="val 64560"/>
                <a:gd name="adj2" fmla="val 309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ol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AFD2-3A6C-41B1-BBDC-97B61F58110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430280" y="1260360"/>
            <a:ext cx="470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odu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row&gt; &lt;pid&gt; 123 &lt;/pi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 abc 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aker&gt; efg &lt;/mak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row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row&gt; …. &lt;/row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product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oduct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product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676-E6F2-419A-860F-18B40C9716A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0960" y="1523880"/>
            <a:ext cx="85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company with revenues &lt; 1M count the products over 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1120" y="2009880"/>
            <a:ext cx="84988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y.name, count(*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roduct x, Company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x.price &gt; 100 and x.maker=y.cid and y.revenue &lt; 10000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 y.cid, 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3920" y="3809880"/>
            <a:ext cx="864900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[revenue/text()&lt;1000000]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ud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()  }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umberOfExpensiveProduc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{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&gt;100])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umberOfExpensiveProduc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ud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B47B-F15A-4FA4-8120-318ADC7D12B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9160" y="152388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companies with at least 30 products, and their average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2009880"/>
            <a:ext cx="328968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y.name, avg(x.pric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Product x, Company 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x.maker=y.ci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BY y.cid, y.na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ING count(*) &gt;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1320" y="2971800"/>
            <a:ext cx="568584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30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()  }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vg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)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vg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080" y="4114800"/>
            <a:ext cx="2389680" cy="652680"/>
          </a:xfrm>
          <a:prstGeom prst="wedgeEllipseCallout">
            <a:avLst>
              <a:gd name="adj1" fmla="val 103453"/>
              <a:gd name="adj2" fmla="val -7568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88800" y="2133720"/>
            <a:ext cx="2268360" cy="652680"/>
          </a:xfrm>
          <a:prstGeom prst="wedgeEllipseCallout">
            <a:avLst>
              <a:gd name="adj1" fmla="val -41907"/>
              <a:gd name="adj2" fmla="val 13500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7A09-533C-4D34-9B83-73F70087D47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Data for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52600" y="1646280"/>
            <a:ext cx="5749920" cy="503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 A Wesley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 Serge Abiteboul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 Rick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 Hull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 Victor Vianu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oundations of Databases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Arial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=“55”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reeman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 Jeffrey D. Ullman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 Database Syste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DC7-FE20-42E8-B3CD-DE66682094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 for X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848040" y="1981080"/>
            <a:ext cx="609840" cy="1524240"/>
            <a:chOff x="3848040" y="1981080"/>
            <a:chExt cx="609840" cy="1524240"/>
          </a:xfrm>
        </p:grpSpPr>
        <p:sp>
          <p:nvSpPr>
            <p:cNvPr id="58" name=""/>
            <p:cNvSpPr/>
            <p:nvPr/>
          </p:nvSpPr>
          <p:spPr>
            <a:xfrm>
              <a:off x="3848040" y="19810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48040" y="28954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i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48006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48006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00040" y="3352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352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09680" y="43434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43434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3960" y="4917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.  .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46760" y="594360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 Wes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59436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rge Abiteb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01640" y="2057400"/>
            <a:ext cx="1223640" cy="459720"/>
          </a:xfrm>
          <a:prstGeom prst="wedgeRectCallout">
            <a:avLst>
              <a:gd name="adj1" fmla="val -182967"/>
              <a:gd name="adj2" fmla="val -12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12560" y="3048120"/>
            <a:ext cx="2266920" cy="459720"/>
          </a:xfrm>
          <a:prstGeom prst="wedgeRectCallout">
            <a:avLst>
              <a:gd name="adj1" fmla="val -109907"/>
              <a:gd name="adj2" fmla="val -20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t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48006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77640" y="594360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Free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18280" y="4876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.  .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5780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4E9F-F126-4A6E-9EB7-65F49892C8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Simple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 A Wesley &lt;/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 Freeman &lt;/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ult:  empty  (there are no paper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6600" y="1757520"/>
            <a:ext cx="29725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publis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2200" y="4419720"/>
            <a:ext cx="304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paper/publis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83280" y="1820880"/>
            <a:ext cx="4689000" cy="37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A Wesley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Serge Abiteboul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Rick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Hull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Victor Vianu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oundations of Databases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Arial"/>
              </a:rPr>
              <a:t>pr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=“55”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reema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Jeffrey D. Ullma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Database Syste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9982-E929-43DA-B98D-B539F46A2B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Restricted Kleene 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Serge Abitebou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Victor Vianu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Jeffrey D. Ull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5240" y="1752480"/>
            <a:ext cx="128880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/auth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3800" y="4630680"/>
            <a:ext cx="239508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/first-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59240" y="1820880"/>
            <a:ext cx="4689000" cy="37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A Wesley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Serge Abiteboul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Rick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Hull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Victor Vianu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oundations of Databases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Arial"/>
              </a:rPr>
              <a:t>pr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=“55”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reema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Jeffrey D. Ullma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Database Syste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3CB7-4085-4918-9335-502DAEFCE6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Text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ge Abitebo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ctor Vian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ffrey D. Ull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ck Hull doesn’t appe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he has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in XPa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= matches the tex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nod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matches any node (= * or @* or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nam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eturns the name of the current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2000" y="1905120"/>
            <a:ext cx="342684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author/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83280" y="1676520"/>
            <a:ext cx="4689000" cy="37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A Wesley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Serge Abiteboul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Rick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Hull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Victor Vianu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oundations of Databases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Arial"/>
              </a:rPr>
              <a:t>pr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=“55”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reema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Jeffrey D. Ullma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Database Syste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F4EC-FF30-427F-A01F-0FB8101295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Wild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tches any el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3080" y="1752480"/>
            <a:ext cx="17658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/author/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83280" y="1820880"/>
            <a:ext cx="4689000" cy="37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A Wesley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Serge Abiteboul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Rick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Hull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Victor Vianu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oundations of Databases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Arial"/>
              </a:rPr>
              <a:t>pr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=“55”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reema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Jeffrey D. Ullma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Database Syste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F2EC-3871-4A31-8EC3-748E48A709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Ashish Kumar Gupta</cp:lastModifiedBy>
  <dcterms:modified xsi:type="dcterms:W3CDTF">2005-02-10T20:37:13Z</dcterms:modified>
  <cp:revision>131</cp:revision>
  <dc:subject/>
  <dc:title>Lecture 09:</dc:title>
</cp:coreProperties>
</file>