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FF93-AAAC-46B6-9A29-E645EE235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B0DC-F010-47A8-A972-911EC63C9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0800" y="4341960"/>
            <a:ext cx="50338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AA27-390D-44AA-A045-2D4383999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F2CC-D74F-4097-B299-D1AFA221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1C98-8FCF-46D3-B3DC-93DBACE73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A492-5906-4AAE-8DC4-94AB39741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526F-D2C9-4A66-AF87-3C485046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8034-BC78-4310-9345-409E7380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D383-8D4E-44FB-B3CF-50EF556E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D971-B622-49EA-85ED-DBB6E2D8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D610-F4AB-445C-AB4E-9D8B6532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4A12-EC42-4B12-B8F8-708A91F9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9F89-3A97-4053-8EF9-5BE4781F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7D5B-3EBD-4EBB-84EE-DD4C7C5F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A8BC-F42F-4B8F-BD9D-A3DD93CD9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ing XML Data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,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February 11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8150-918C-4D09-B4FB-06EC0044CFB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Attribute N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“55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@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ans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ce is has to be 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7600" y="1828800"/>
            <a:ext cx="30474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/@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83280" y="1676520"/>
            <a:ext cx="4689000" cy="379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A Wesley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Serge Abiteboul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Rick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Hull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Victor Vianu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oundations of Databases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99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Arial"/>
              </a:rPr>
              <a:t>pr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=“55”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reeman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Jeffrey D. Ullman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Database System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83C5-517D-409B-93F6-62965570D5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ult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0760" y="1905120"/>
            <a:ext cx="41371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book/author[firstname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62480" y="1447920"/>
            <a:ext cx="4689000" cy="379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A Wesley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Serge Abiteboul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Rick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Hull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Victor Vianu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oundations of Databases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99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Arial"/>
              </a:rPr>
              <a:t>pr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=“55”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reeman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Jeffrey D. Ullman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Database System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C1C1-F2DF-4A0D-BB25-590E1969CA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More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…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…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9520" y="2209680"/>
            <a:ext cx="7355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/book/author[firstname][address[.//zip][city]]/la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1A7A-538E-4089-9255-436EF2B509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More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4760" y="2286000"/>
            <a:ext cx="40485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@price &lt; 6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2240" y="3657600"/>
            <a:ext cx="49554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author/@age &lt; 2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5105520"/>
            <a:ext cx="40532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author/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B358-A632-42AF-AE67-6EEC3E4D68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556400" cy="48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ny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the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lement under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ib/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ib//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t any de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/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paper at any de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aper|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@pric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ib/book/@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tribute in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n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ib/book[@price&lt;“55”]/author/lastnam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88CB-1A1E-4FEB-9C41-3226504C7C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Quilt, which is based on XML-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XPath to express more complex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1C34-C4E5-4496-AEAA-79F954FCF3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WR (“Flower”)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133360" y="2819520"/>
            <a:ext cx="3429000" cy="234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F258-B4D8-44FA-BA72-8605EE5131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47680" y="1645920"/>
            <a:ext cx="7616880" cy="50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Addison-Wesley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Serge Abitebou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Rick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Hul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Victor Vianu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oundations of Databases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1995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Arial"/>
              </a:rPr>
              <a:t>pr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“55”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reema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Jeffrey D. Ullma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Principles of Database and Knowledge Base Syste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1998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Data for Quer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more or les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1810-CC6C-498F-82F6-6F71A6DB4E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WHERE-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book titles published after 199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8680" y="2895480"/>
            <a:ext cx="5397840" cy="157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07560" y="4876920"/>
            <a:ext cx="2713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i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FE2F-8AFA-4D28-A01B-6C44EF4E91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WHERE-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61786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ly (perhaps more geekis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3120" y="2895480"/>
            <a:ext cx="85251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gt; 1995]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1240" y="449568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n shor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8000" y="5562720"/>
            <a:ext cx="7078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gt; 1995]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346F-0675-43CE-8790-F5C438CC1A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: syntax, semantics, data, DT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ongly recommended readin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Path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java.sun.com/webservices/docs/ea2/tutorial/doc/JAXPXSLT2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Quer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w3.org/TR/xmlquery-use-cases/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xmlportfolio.com/xquery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846F-009C-4E01-ADA4-8E8596B458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WHERE-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book titles and the year when they were publish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6480" y="2971800"/>
            <a:ext cx="586872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5840" y="5000760"/>
            <a:ext cx="852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995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2002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k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980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72200" y="2514600"/>
            <a:ext cx="2590920" cy="914400"/>
          </a:xfrm>
          <a:prstGeom prst="wedgeEllipseCallout">
            <a:avLst>
              <a:gd name="adj1" fmla="val -90134"/>
              <a:gd name="adj2" fmla="val 9131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“{“ and “}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AE31-D7CB-45C1-A4FE-451034CCE5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author of a book by Morgan Kaufmann, list all books she publish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2200" y="2971800"/>
            <a:ext cx="843336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document(“bib.xml”)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“Morgan Kaufmann”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1480" y="6172200"/>
            <a:ext cx="76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In the </a:t>
            </a:r>
            <a:r>
              <a:rPr b="0" lang="en-US" sz="2400" spc="-1" strike="noStrike" u="sng">
                <a:solidFill>
                  <a:srgbClr val="ff66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clause comma concatenates XML fra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7AB7-9675-4BA4-8940-5078DF316C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913280" cy="394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Jones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def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Smith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ghi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9689-E8C6-40B5-8E41-C3CFED41E7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books with more than 3 auth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3440" y="4876920"/>
            <a:ext cx="528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 function that 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av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computes the average</a:t>
            </a:r>
            <a:br>
              <a:rPr sz="2400"/>
            </a:b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s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omputes the sum</a:t>
            </a:r>
            <a:br>
              <a:rPr sz="2400"/>
            </a:b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eliminates dupl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1480" y="2971800"/>
            <a:ext cx="5397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&gt;3 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13DB-DA70-4860-BA26-CD2F8FB5A9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 all authors who published more than 3 books – be aware of duplicate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480" y="4267080"/>
            <a:ext cx="62298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$a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book/author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&gt;3 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106D-14ED-4716-957F-B64C61801DF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att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atten” the authors, i.e. return a list of (author, title)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6400" y="3352680"/>
            <a:ext cx="547416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,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$x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$y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1920" y="3429000"/>
            <a:ext cx="2838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efg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hkj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CB7B-5A9C-473D-8283-EB857A1CA73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-grou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author, return all titles of her/his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9680" y="3276720"/>
            <a:ext cx="600300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{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82040" y="5334120"/>
            <a:ext cx="159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plic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314400" y="2819520"/>
            <a:ext cx="2838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efg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klm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. 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91C6-F986-45EC-B019-9A8932F3E5B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-grou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, but eliminate duplicate auth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2819520"/>
            <a:ext cx="611352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{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9B7A-AACF-42F0-8E72-2ECF89E54F6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-grou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th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819520"/>
            <a:ext cx="624636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{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D9C3-9C47-4611-B2B2-9298A2CA69E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book titles by the coauthors of “Database Theory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3114720"/>
            <a:ext cx="68990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“Database Theory”],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]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4811760"/>
            <a:ext cx="382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k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160" y="5410080"/>
            <a:ext cx="35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Ques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Why do we get duplicat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9CEC-F2C4-4401-87D0-5C77BFABB05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ing 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Path = simple navigation through th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Query = the SQL of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SLT = recursive traver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not discuss in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B623-DC8D-4ED6-99AD-0EA79720E7C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inct-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before, but eliminate duplic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800600"/>
            <a:ext cx="382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k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4952880"/>
            <a:ext cx="848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 func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eliminates dupl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apply to a colle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ues, no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ments – note how query has chan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5720" y="2971800"/>
            <a:ext cx="8513280" cy="174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“Database Theory”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,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5B68-2CD9-4C8A-BCD2-CCA073F3F3D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XQuery Side-by-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5720" y="1752480"/>
            <a:ext cx="421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pid, name, maker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4400" y="1600200"/>
            <a:ext cx="394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product names, pric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by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83600" y="2735280"/>
            <a:ext cx="2625120" cy="2556360"/>
            <a:chOff x="183600" y="2735280"/>
            <a:chExt cx="2625120" cy="2556360"/>
          </a:xfrm>
        </p:grpSpPr>
        <p:sp>
          <p:nvSpPr>
            <p:cNvPr id="179" name=""/>
            <p:cNvSpPr/>
            <p:nvPr/>
          </p:nvSpPr>
          <p:spPr>
            <a:xfrm>
              <a:off x="183600" y="2735280"/>
              <a:ext cx="2625120" cy="155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LECT x.name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x.pric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Product x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DER BY x.pr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0600" y="4638960"/>
              <a:ext cx="1072800" cy="652680"/>
            </a:xfrm>
            <a:prstGeom prst="wedgeEllipseCallout">
              <a:avLst>
                <a:gd name="adj1" fmla="val -26620"/>
                <a:gd name="adj2" fmla="val -9586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Q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719360" y="2666880"/>
            <a:ext cx="7319520" cy="3090960"/>
            <a:chOff x="1719360" y="2666880"/>
            <a:chExt cx="7319520" cy="3090960"/>
          </a:xfrm>
        </p:grpSpPr>
        <p:sp>
          <p:nvSpPr>
            <p:cNvPr id="182" name=""/>
            <p:cNvSpPr/>
            <p:nvPr/>
          </p:nvSpPr>
          <p:spPr>
            <a:xfrm>
              <a:off x="2975040" y="2666880"/>
              <a:ext cx="6063840" cy="192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O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document(“db.xml”)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Produ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RDER BY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/price/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xt()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lt;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answ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{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name,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pric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}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&lt;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answ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19360" y="5105160"/>
              <a:ext cx="1650960" cy="652680"/>
            </a:xfrm>
            <a:prstGeom prst="wedgeEllipseCallout">
              <a:avLst>
                <a:gd name="adj1" fmla="val 42129"/>
                <a:gd name="adj2" fmla="val -12436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EC52-C8E9-4DF4-9801-9DD22890DCB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08400" y="2057400"/>
            <a:ext cx="3615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answ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ame&gt;  abc  &lt;/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rice&gt;  7 &lt;/price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answer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answ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ame&gt;  def  &lt;/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rice&gt;  23 &lt;/price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answ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’s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5480" y="4343400"/>
            <a:ext cx="31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: this is NOT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-formed document 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?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54FA-C837-4EBB-8109-8E55ADC3943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ducing a Well-Formed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7080" y="2438280"/>
            <a:ext cx="651492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yQu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{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document(“db.xml”)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price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,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yQu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E676-AF48-4BA5-B29C-E0BF2FFD5CB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08400" y="2057400"/>
            <a:ext cx="3844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myQuery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&lt;answ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ame&gt;  abc  &lt;/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rice&gt;  7 &lt;/price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&lt;/answer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&lt;answ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ame&gt;  def  &lt;/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rice&gt;  23 &lt;/price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&lt;/answ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myQuer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’s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562000" y="297180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it is well-formed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8B94-8CBA-430A-81C9-7D72C319409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XQuery Side-by-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8200" y="1523880"/>
            <a:ext cx="460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pid, name, maker, price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(cid, name, city, reven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90160" y="175248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products made in Sea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58400" y="2895480"/>
            <a:ext cx="3864240" cy="2556360"/>
            <a:chOff x="158400" y="2895480"/>
            <a:chExt cx="3864240" cy="2556360"/>
          </a:xfrm>
        </p:grpSpPr>
        <p:sp>
          <p:nvSpPr>
            <p:cNvPr id="196" name=""/>
            <p:cNvSpPr/>
            <p:nvPr/>
          </p:nvSpPr>
          <p:spPr>
            <a:xfrm>
              <a:off x="158400" y="2895480"/>
              <a:ext cx="3864240" cy="155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LECT x.nam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Product x, Company y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x.maker=y.cid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and y.city=“Seattle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6840" y="4799160"/>
              <a:ext cx="1072800" cy="652680"/>
            </a:xfrm>
            <a:prstGeom prst="wedgeEllipseCallout">
              <a:avLst>
                <a:gd name="adj1" fmla="val -26620"/>
                <a:gd name="adj2" fmla="val -9586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Q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241800" y="2362320"/>
            <a:ext cx="5752440" cy="3090960"/>
            <a:chOff x="3241800" y="2362320"/>
            <a:chExt cx="5752440" cy="3090960"/>
          </a:xfrm>
        </p:grpSpPr>
        <p:sp>
          <p:nvSpPr>
            <p:cNvPr id="199" name=""/>
            <p:cNvSpPr/>
            <p:nvPr/>
          </p:nvSpPr>
          <p:spPr>
            <a:xfrm>
              <a:off x="4498920" y="2362320"/>
              <a:ext cx="4495320" cy="265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O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document(“db.xml”)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Produ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ompan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WHER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mak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=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i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and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i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 = “Seattle”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{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41800" y="4800600"/>
              <a:ext cx="1650960" cy="652680"/>
            </a:xfrm>
            <a:prstGeom prst="wedgeEllipseCallout">
              <a:avLst>
                <a:gd name="adj1" fmla="val 42129"/>
                <a:gd name="adj2" fmla="val -12436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39680" y="5546880"/>
            <a:ext cx="8861040" cy="1264320"/>
            <a:chOff x="139680" y="5546880"/>
            <a:chExt cx="8861040" cy="1264320"/>
          </a:xfrm>
        </p:grpSpPr>
        <p:sp>
          <p:nvSpPr>
            <p:cNvPr id="202" name=""/>
            <p:cNvSpPr/>
            <p:nvPr/>
          </p:nvSpPr>
          <p:spPr>
            <a:xfrm>
              <a:off x="2054880" y="5546880"/>
              <a:ext cx="694584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O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ompan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[ci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=“Seattle”]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Produ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[mak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=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/cid/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xt()]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{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9680" y="5638680"/>
              <a:ext cx="1650960" cy="1172520"/>
            </a:xfrm>
            <a:prstGeom prst="wedgeEllipseCallout">
              <a:avLst>
                <a:gd name="adj1" fmla="val 64560"/>
                <a:gd name="adj2" fmla="val 309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ol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F047-FF2D-447D-8270-7CDABE77B33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430280" y="1260360"/>
            <a:ext cx="4700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rodu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row&gt; &lt;pid&gt; 123 &lt;/pi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ame&gt; abc &lt;/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maker&gt; efg &lt;/mak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row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row&gt; …. &lt;/row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product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roduct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product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BAA2-3C59-4453-AE38-DD89FA17107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XQuery Side-by-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0960" y="1523880"/>
            <a:ext cx="85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company with revenues &lt; 1M count the products over 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1120" y="2009880"/>
            <a:ext cx="84988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y.name, count(*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Product x, Company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x.price &gt; 100 and x.maker=y.cid and y.revenue &lt; 10000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BY y.cid, 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3920" y="3809880"/>
            <a:ext cx="864900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document(“db.xml”)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,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[revenue/text()&lt;1000000]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ud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()  }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umberOfExpensiveProduc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{ 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mak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]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&gt;100])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umberOfExpensiveProduc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ud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3BF3-A426-4B7E-B72E-1FB70CC3331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XQuery Side-by-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9160" y="1523880"/>
            <a:ext cx="81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companies with at least 30 products, and their average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2009880"/>
            <a:ext cx="328968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y.name, avg(x.pric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Product x, Company 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x.maker=y.ci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 BY y.cid, y.na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ING count(*) &gt;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71320" y="2971800"/>
            <a:ext cx="568584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document(“db.xml”)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,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mak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]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30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e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()  }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vg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</a:rPr>
              <a:t>av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)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vg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e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080" y="4114800"/>
            <a:ext cx="2389680" cy="652680"/>
          </a:xfrm>
          <a:prstGeom prst="wedgeEllipseCallout">
            <a:avLst>
              <a:gd name="adj1" fmla="val 103453"/>
              <a:gd name="adj2" fmla="val -7568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88800" y="2133720"/>
            <a:ext cx="2268360" cy="652680"/>
          </a:xfrm>
          <a:prstGeom prst="wedgeEllipseCallout">
            <a:avLst>
              <a:gd name="adj1" fmla="val -41907"/>
              <a:gd name="adj2" fmla="val 13500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004A-38BD-4107-B2C2-5C3B9737938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Data for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52600" y="1646280"/>
            <a:ext cx="5749920" cy="503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 A Wesley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 Serge Abiteboul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 Rick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 Hull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 Victor Vianu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oundations of Databases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Arial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=“55”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reeman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 Jeffrey D. Ullman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 Database System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48DC-ECD5-442A-9637-0F3756F24F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Model for XP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848040" y="1981080"/>
            <a:ext cx="609840" cy="1524240"/>
            <a:chOff x="3848040" y="1981080"/>
            <a:chExt cx="609840" cy="1524240"/>
          </a:xfrm>
        </p:grpSpPr>
        <p:sp>
          <p:nvSpPr>
            <p:cNvPr id="58" name=""/>
            <p:cNvSpPr/>
            <p:nvPr/>
          </p:nvSpPr>
          <p:spPr>
            <a:xfrm>
              <a:off x="3848040" y="198108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48040" y="289548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i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3886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48006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48006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00040" y="3352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352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09680" y="43434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43434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63960" y="4917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.  .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46760" y="5943600"/>
            <a:ext cx="10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 Wes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59436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rge Abitebo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01640" y="2057400"/>
            <a:ext cx="1223640" cy="459720"/>
          </a:xfrm>
          <a:prstGeom prst="wedgeRectCallout">
            <a:avLst>
              <a:gd name="adj1" fmla="val -182967"/>
              <a:gd name="adj2" fmla="val -12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12560" y="3048120"/>
            <a:ext cx="2266920" cy="459720"/>
          </a:xfrm>
          <a:prstGeom prst="wedgeRectCallout">
            <a:avLst>
              <a:gd name="adj1" fmla="val -109907"/>
              <a:gd name="adj2" fmla="val -20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ot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48006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77640" y="594360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Free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18280" y="4876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.  .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5780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7357-7320-4049-9043-D40ABCC759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Simple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gt; A Wesley &lt;/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gt; Freeman &lt;/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ult:  empty  (there are no paper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6600" y="1757520"/>
            <a:ext cx="29725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book/publis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2200" y="4419720"/>
            <a:ext cx="3048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paper/publis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83280" y="1820880"/>
            <a:ext cx="4689000" cy="379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A Wesley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Serge Abiteboul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Rick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Hull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Victor Vianu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oundations of Databases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99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Arial"/>
              </a:rPr>
              <a:t>pr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=“55”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reeman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Jeffrey D. Ullman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Database System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4DF0-F07D-4256-AF8E-5D011B7F22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Restricted Kleene 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Serge Abitebou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Victor Vianu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Jeffrey D. Ullma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5240" y="1752480"/>
            <a:ext cx="128880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/auth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3800" y="4630680"/>
            <a:ext cx="239508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/first-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59240" y="1820880"/>
            <a:ext cx="4689000" cy="379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A Wesley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Serge Abiteboul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Rick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Hull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Victor Vianu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oundations of Databases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99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Arial"/>
              </a:rPr>
              <a:t>pr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=“55”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reeman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Jeffrey D. Ullman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Database System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8589-CAA1-45EC-AE15-72F17662D8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Text N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ge Abitebo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ctor Vian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ffrey D. Ull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ck Hull doesn’t appe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ause he has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r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in XPa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= matches the tex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node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matches any node (= * or @* or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name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returns the name of the current 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2000" y="1905120"/>
            <a:ext cx="342684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book/author/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83280" y="1676520"/>
            <a:ext cx="4689000" cy="379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A Wesley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Serge Abiteboul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Rick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Hull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Victor Vianu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oundations of Databases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99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Arial"/>
              </a:rPr>
              <a:t>pr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=“55”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reeman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Jeffrey D. Ullman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Database System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1B84-71C4-4783-BF5F-61A70BF4A7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Wildc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tches any el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3080" y="1752480"/>
            <a:ext cx="17658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/author/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83280" y="1820880"/>
            <a:ext cx="4689000" cy="379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A Wesley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Serge Abiteboul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Rick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Hull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Victor Vianu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oundations of Databases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99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Arial"/>
              </a:rPr>
              <a:t>pr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=“55”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reeman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Jeffrey D. Ullman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 Database System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80B8-310E-4D1F-A9B8-9085D3655E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Ashish Kumar Gupta</cp:lastModifiedBy>
  <dcterms:modified xsi:type="dcterms:W3CDTF">2005-02-10T20:37:13Z</dcterms:modified>
  <cp:revision>131</cp:revision>
  <dc:subject/>
  <dc:title>Lecture 09:</dc:title>
</cp:coreProperties>
</file>