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1E3-2527-4F26-85CD-44FFDEAA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36E7-29DB-4568-B5E2-AAEF8B28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F21-64BE-4972-B2B6-A22B796D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9EB-28E3-49D2-8024-CCB3DAAA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2CE-E837-48ED-B911-B9498138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DC6-5644-4390-A010-0C02CBE6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EB2-31F3-4222-AA10-0742764C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EA3-7CDE-4727-8F53-D4EBBF4C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8AD-8B11-483C-8030-BBA5924B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73A-30D6-476F-901C-E7CDE339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B01-7DA9-4115-93B9-C172263D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22B-BAA4-45B4-A03C-0F137166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0EBB-0062-4218-BDC3-75D413917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3.org/XML/1999/XML-in-10-points" TargetMode="External"/><Relationship Id="rId2" Type="http://schemas.openxmlformats.org/officeDocument/2006/relationships/hyperlink" Target="http://www.zvon.org/xxl/XMLTutorial/General/book_en.html" TargetMode="External"/><Relationship Id="rId3" Type="http://schemas.openxmlformats.org/officeDocument/2006/relationships/hyperlink" Target="http://db.bell-labs.com/galax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XML and Semi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February 9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76A-E71E-4693-99A9-AA1765949B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676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A8A-0662-4E10-A102-283D6FA9B4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360" y="1752480"/>
            <a:ext cx="7810560" cy="35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3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11D-23EF-42D1-97C2-7FF6C0CC65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FFB-A625-46DD-87B3-F8E32661FB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v.s.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4130640" cy="23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920" y="525780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03800" y="2209680"/>
            <a:ext cx="4762440" cy="268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5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USD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D42-8D9D-436B-8ACD-F8A5001DC4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143000" y="2057400"/>
          <a:ext cx="6858000" cy="40640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rib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repe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u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ne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at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EB7-7853-4E1E-8F34-6425CACA5B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5400" y="464040"/>
            <a:ext cx="7694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Oid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365960" cy="39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 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”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894-025A-4BCA-AACC-72DBB2AA58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![CDATA[ .....any text here...]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51040" y="4191120"/>
            <a:ext cx="7128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&lt;![CDATA[ some text here &lt;/notAtag&gt; &lt;&gt;]]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A63-108F-4B0C-9FC9-9914608590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Entit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amp;entity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this is less than &amp;lt;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nt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114800" y="3886200"/>
          <a:ext cx="3200400" cy="28195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p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quo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#38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FE9-87C7-4372-835B-EE73FA48DD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Process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?target argument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6840" y="3276720"/>
            <a:ext cx="711144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larm Clo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?ringBell 20?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05A-8827-4A5A-9AED-DF51989AB2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lt;!-- .... Comment text...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they are part of the data model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134-31AB-494A-94D2-8404EFFCE8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v.s. relational data and semistructu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CDF-ACE3-482E-859E-7A0DE97050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w3.org/TR/REC-xml-names (1/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::= [prefix:]local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0600" y="4071960"/>
            <a:ext cx="5034960" cy="225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xmlns:isb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www.isbn-org.org/def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5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.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BCE-5474-4A67-B147-96C97A8CB8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73080" y="3141720"/>
            <a:ext cx="69688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xmlns:my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“http://…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2952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,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sbn: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: provide URL f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8880" y="3780720"/>
            <a:ext cx="3947040" cy="563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ng to this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05160" y="3886200"/>
            <a:ext cx="824040" cy="549360"/>
          </a:xfrm>
          <a:custGeom>
            <a:avLst/>
            <a:gdLst/>
            <a:ahLst/>
            <a:rect l="l" t="t" r="r" b="b"/>
            <a:pathLst>
              <a:path w="1045" h="270">
                <a:moveTo>
                  <a:pt x="0" y="270"/>
                </a:moveTo>
                <a:cubicBezTo>
                  <a:pt x="54" y="232"/>
                  <a:pt x="151" y="78"/>
                  <a:pt x="325" y="39"/>
                </a:cubicBezTo>
                <a:cubicBezTo>
                  <a:pt x="499" y="0"/>
                  <a:pt x="895" y="39"/>
                  <a:pt x="1045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98880" y="4267080"/>
            <a:ext cx="663840" cy="671760"/>
          </a:xfrm>
          <a:custGeom>
            <a:avLst/>
            <a:gdLst/>
            <a:ahLst/>
            <a:rect l="l" t="t" r="r" b="b"/>
            <a:pathLst>
              <a:path w="711" h="471">
                <a:moveTo>
                  <a:pt x="0" y="471"/>
                </a:moveTo>
                <a:cubicBezTo>
                  <a:pt x="34" y="428"/>
                  <a:pt x="78" y="302"/>
                  <a:pt x="197" y="223"/>
                </a:cubicBezTo>
                <a:cubicBezTo>
                  <a:pt x="316" y="144"/>
                  <a:pt x="534" y="63"/>
                  <a:pt x="7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3605040"/>
            <a:ext cx="1038240" cy="281160"/>
          </a:xfrm>
          <a:custGeom>
            <a:avLst/>
            <a:gdLst/>
            <a:ahLst/>
            <a:rect l="l" t="t" r="r" b="b"/>
            <a:pathLst>
              <a:path w="234" h="163">
                <a:moveTo>
                  <a:pt x="234" y="163"/>
                </a:moveTo>
                <a:cubicBezTo>
                  <a:pt x="154" y="125"/>
                  <a:pt x="74" y="87"/>
                  <a:pt x="37" y="60"/>
                </a:cubicBezTo>
                <a:cubicBezTo>
                  <a:pt x="0" y="33"/>
                  <a:pt x="5" y="16"/>
                  <a:pt x="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987720" y="4422600"/>
            <a:ext cx="1501920" cy="1135080"/>
            <a:chOff x="3987720" y="4422600"/>
            <a:chExt cx="1501920" cy="1135080"/>
          </a:xfrm>
        </p:grpSpPr>
        <p:sp>
          <p:nvSpPr>
            <p:cNvPr id="100" name=""/>
            <p:cNvSpPr/>
            <p:nvPr/>
          </p:nvSpPr>
          <p:spPr>
            <a:xfrm>
              <a:off x="3987720" y="4422600"/>
              <a:ext cx="914400" cy="46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25960" y="4970520"/>
              <a:ext cx="1363680" cy="58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4BA-15DA-4E72-925F-3C11267A1B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emantics: a Tre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53000" y="2133720"/>
            <a:ext cx="3849840" cy="391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 </a:t>
            </a: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“o555”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Maple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345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Thailand 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23456 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60040" y="1974960"/>
            <a:ext cx="733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4710240"/>
            <a:ext cx="942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51240" y="250056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37240" y="280512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57040" y="37195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07240" y="36435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00240" y="39481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61640" y="38721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20600" y="46339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32480" y="4633920"/>
            <a:ext cx="543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02000" y="4633920"/>
            <a:ext cx="68652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0480" y="5472360"/>
            <a:ext cx="1037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3120" y="5472360"/>
            <a:ext cx="687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76800" y="5548320"/>
            <a:ext cx="1082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50360" y="4938840"/>
            <a:ext cx="8632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14640" y="4710240"/>
            <a:ext cx="830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04" idx="3"/>
            <a:endCxn id="106" idx="7"/>
          </p:cNvCxnSpPr>
          <p:nvPr/>
        </p:nvCxnSpPr>
        <p:spPr>
          <a:xfrm flipH="1">
            <a:off x="6000480" y="2371680"/>
            <a:ext cx="388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4" idx="5"/>
            <a:endCxn id="107" idx="1"/>
          </p:cNvCxnSpPr>
          <p:nvPr/>
        </p:nvCxnSpPr>
        <p:spPr>
          <a:xfrm>
            <a:off x="6865920" y="2371680"/>
            <a:ext cx="7437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6" idx="3"/>
            <a:endCxn id="108" idx="7"/>
          </p:cNvCxnSpPr>
          <p:nvPr/>
        </p:nvCxnSpPr>
        <p:spPr>
          <a:xfrm flipH="1">
            <a:off x="4583880" y="2897280"/>
            <a:ext cx="739080" cy="90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6" idx="4"/>
            <a:endCxn id="109" idx="0"/>
          </p:cNvCxnSpPr>
          <p:nvPr/>
        </p:nvCxnSpPr>
        <p:spPr>
          <a:xfrm flipH="1">
            <a:off x="5564880" y="2962080"/>
            <a:ext cx="9756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7" idx="3"/>
            <a:endCxn id="110" idx="0"/>
          </p:cNvCxnSpPr>
          <p:nvPr/>
        </p:nvCxnSpPr>
        <p:spPr>
          <a:xfrm flipH="1">
            <a:off x="7038360" y="3201480"/>
            <a:ext cx="5706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07" idx="4"/>
            <a:endCxn id="111" idx="0"/>
          </p:cNvCxnSpPr>
          <p:nvPr/>
        </p:nvCxnSpPr>
        <p:spPr>
          <a:xfrm flipH="1">
            <a:off x="7919280" y="3267000"/>
            <a:ext cx="2916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08" idx="4"/>
            <a:endCxn id="105" idx="0"/>
          </p:cNvCxnSpPr>
          <p:nvPr/>
        </p:nvCxnSpPr>
        <p:spPr>
          <a:xfrm flipH="1">
            <a:off x="4250880" y="4181400"/>
            <a:ext cx="453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09" idx="3"/>
            <a:endCxn id="112" idx="0"/>
          </p:cNvCxnSpPr>
          <p:nvPr/>
        </p:nvCxnSpPr>
        <p:spPr>
          <a:xfrm flipH="1">
            <a:off x="5059440" y="4039920"/>
            <a:ext cx="13356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09" idx="4"/>
            <a:endCxn id="113" idx="0"/>
          </p:cNvCxnSpPr>
          <p:nvPr/>
        </p:nvCxnSpPr>
        <p:spPr>
          <a:xfrm>
            <a:off x="5565600" y="4105440"/>
            <a:ext cx="2390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9" idx="5"/>
            <a:endCxn id="114" idx="0"/>
          </p:cNvCxnSpPr>
          <p:nvPr/>
        </p:nvCxnSpPr>
        <p:spPr>
          <a:xfrm>
            <a:off x="5938920" y="4039920"/>
            <a:ext cx="50688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2" idx="4"/>
            <a:endCxn id="115" idx="0"/>
          </p:cNvCxnSpPr>
          <p:nvPr/>
        </p:nvCxnSpPr>
        <p:spPr>
          <a:xfrm flipH="1">
            <a:off x="4807800" y="5095440"/>
            <a:ext cx="25164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3" idx="4"/>
            <a:endCxn id="116" idx="0"/>
          </p:cNvCxnSpPr>
          <p:nvPr/>
        </p:nvCxnSpPr>
        <p:spPr>
          <a:xfrm flipH="1">
            <a:off x="5776200" y="5095440"/>
            <a:ext cx="2772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14" idx="4"/>
            <a:endCxn id="117" idx="0"/>
          </p:cNvCxnSpPr>
          <p:nvPr/>
        </p:nvCxnSpPr>
        <p:spPr>
          <a:xfrm>
            <a:off x="6444720" y="5095440"/>
            <a:ext cx="1738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10" idx="4"/>
            <a:endCxn id="118" idx="0"/>
          </p:cNvCxnSpPr>
          <p:nvPr/>
        </p:nvCxnSpPr>
        <p:spPr>
          <a:xfrm>
            <a:off x="7038720" y="4410000"/>
            <a:ext cx="1436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11" idx="4"/>
            <a:endCxn id="119" idx="0"/>
          </p:cNvCxnSpPr>
          <p:nvPr/>
        </p:nvCxnSpPr>
        <p:spPr>
          <a:xfrm>
            <a:off x="7919640" y="4334040"/>
            <a:ext cx="10440" cy="39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8139600" y="4100760"/>
            <a:ext cx="9597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21960" y="5015160"/>
            <a:ext cx="977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34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07" idx="5"/>
            <a:endCxn id="135" idx="0"/>
          </p:cNvCxnSpPr>
          <p:nvPr/>
        </p:nvCxnSpPr>
        <p:spPr>
          <a:xfrm>
            <a:off x="8286840" y="3201840"/>
            <a:ext cx="33408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5" idx="4"/>
            <a:endCxn id="136" idx="0"/>
          </p:cNvCxnSpPr>
          <p:nvPr/>
        </p:nvCxnSpPr>
        <p:spPr>
          <a:xfrm flipH="1">
            <a:off x="8609760" y="4562640"/>
            <a:ext cx="1044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627720" y="3338640"/>
            <a:ext cx="47880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22080" y="4253040"/>
            <a:ext cx="832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06" idx="2"/>
            <a:endCxn id="139" idx="7"/>
          </p:cNvCxnSpPr>
          <p:nvPr/>
        </p:nvCxnSpPr>
        <p:spPr>
          <a:xfrm flipH="1">
            <a:off x="4014000" y="2738160"/>
            <a:ext cx="1167480" cy="68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9" idx="3"/>
            <a:endCxn id="140" idx="0"/>
          </p:cNvCxnSpPr>
          <p:nvPr/>
        </p:nvCxnSpPr>
        <p:spPr>
          <a:xfrm>
            <a:off x="3719160" y="3735000"/>
            <a:ext cx="1980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" name=""/>
          <p:cNvGrpSpPr/>
          <p:nvPr/>
        </p:nvGrpSpPr>
        <p:grpSpPr>
          <a:xfrm>
            <a:off x="3925440" y="1523880"/>
            <a:ext cx="5067360" cy="4701600"/>
            <a:chOff x="3925440" y="1523880"/>
            <a:chExt cx="5067360" cy="4701600"/>
          </a:xfrm>
        </p:grpSpPr>
        <p:sp>
          <p:nvSpPr>
            <p:cNvPr id="144" name=""/>
            <p:cNvSpPr/>
            <p:nvPr/>
          </p:nvSpPr>
          <p:spPr>
            <a:xfrm>
              <a:off x="7890120" y="1523880"/>
              <a:ext cx="1102680" cy="739080"/>
            </a:xfrm>
            <a:prstGeom prst="wedgeEllipseCallout">
              <a:avLst>
                <a:gd name="adj1" fmla="val -37958"/>
                <a:gd name="adj2" fmla="val 1143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83840" y="5486400"/>
              <a:ext cx="752040" cy="739080"/>
            </a:xfrm>
            <a:prstGeom prst="wedgeEllipseCallout">
              <a:avLst>
                <a:gd name="adj1" fmla="val -115884"/>
                <a:gd name="adj2" fmla="val -1519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25440" y="1752480"/>
              <a:ext cx="1176840" cy="739080"/>
            </a:xfrm>
            <a:prstGeom prst="wedgeEllipseCallout">
              <a:avLst>
                <a:gd name="adj1" fmla="val -52324"/>
                <a:gd name="adj2" fmla="val 152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326480" y="621360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rder matter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59F-7230-4334-9B35-E4BE3A7263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6A7-721D-4E8A-AFC4-5544A718A1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8160" y="120600"/>
            <a:ext cx="8983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66720" y="3657600"/>
            <a:ext cx="46818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71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276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88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22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152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4944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8200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444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638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1172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5640" y="2971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3581280"/>
          <a:ext cx="3504960" cy="1822680"/>
        </p:xfrm>
        <a:graphic>
          <a:graphicData uri="http://schemas.openxmlformats.org/drawingml/2006/table">
            <a:tbl>
              <a:tblPr/>
              <a:tblGrid>
                <a:gridCol w="1752120"/>
                <a:gridCol w="175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356040" y="15318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onical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139-7DDD-4D57-9A31-83396D03ED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0320" y="120600"/>
            <a:ext cx="8983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4143240" cy="527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363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2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pro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c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Sue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6343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5640" y="2057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4920" y="2666880"/>
          <a:ext cx="3504960" cy="13669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54960" y="153180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pecific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1600" y="4191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4800600"/>
          <a:ext cx="3886200" cy="1822320"/>
        </p:xfrm>
        <a:graphic>
          <a:graphicData uri="http://schemas.openxmlformats.org/drawingml/2006/table">
            <a:tbl>
              <a:tblPr/>
              <a:tblGrid>
                <a:gridCol w="1752840"/>
                <a:gridCol w="91440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erson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4574160" y="1219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514-2044-4A3E-B93B-575EE21EE6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3960" y="2514600"/>
            <a:ext cx="37378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1720" y="396252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791320" y="4876920"/>
          <a:ext cx="213336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24F-E455-4166-A14C-D714E9A03C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4320" y="2590920"/>
            <a:ext cx="36100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96120" y="31240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419720" y="5105520"/>
          <a:ext cx="320040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792612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BA3-22C4-496C-ACBF-E0AAF9FD01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396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96480" y="274320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BDC-F3A7-407D-9C4C-66F2F14920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Type Defini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original XM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ML document may have a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-form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if tags are correctl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f it has a DTD and conforms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s useful in data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F59-BEEB-4D57-B0A8-519FF036D6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676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395-A606-4502-A06C-3555FB840E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6120" y="2057400"/>
            <a:ext cx="7113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FCF-12C8-418B-BBE0-ABAA12B4C4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2640" y="2209680"/>
            <a:ext cx="45590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56789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432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987654321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im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123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... 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7640" y="16416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valid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383-A55C-45BD-9812-EDCBB12A75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The Cont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= a regular expression over other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-only = #PC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ty =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=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 content = (#PCDATA | A | B | C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41040" y="1905120"/>
            <a:ext cx="4779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09040" y="2590920"/>
            <a:ext cx="1215720" cy="912600"/>
          </a:xfrm>
          <a:prstGeom prst="wedgeEllipseCallout">
            <a:avLst>
              <a:gd name="adj1" fmla="val -78328"/>
              <a:gd name="adj2" fmla="val -7050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BC8-497A-4E71-A912-BB2311E4AB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3040" y="2514600"/>
            <a:ext cx="382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2080" y="2514600"/>
            <a:ext cx="297756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440" y="4038480"/>
            <a:ext cx="4642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irstNam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20800" y="1600200"/>
            <a:ext cx="1144800" cy="652680"/>
          </a:xfrm>
          <a:prstGeom prst="wedgeEllipseCallout">
            <a:avLst>
              <a:gd name="adj1" fmla="val -2500"/>
              <a:gd name="adj2" fmla="val 87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78240" y="1600200"/>
            <a:ext cx="1218240" cy="652680"/>
          </a:xfrm>
          <a:prstGeom prst="wedgeEllipseCallout">
            <a:avLst>
              <a:gd name="adj1" fmla="val -5245"/>
              <a:gd name="adj2" fmla="val 1141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9520" y="5105520"/>
            <a:ext cx="4057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, phone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6120" y="202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400" y="3546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0240" y="6172200"/>
            <a:ext cx="4725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, (phone|emai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1240" y="46483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ene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560" y="57150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274320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24280" y="51055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5800" y="4419720"/>
            <a:ext cx="244116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. 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22B-F0BB-4790-B07C-D5ED7D2341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(4.6, 4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cture: syntax, semi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lectures: DTDs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1EE-6505-4F3D-A86A-93554B14B0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adings on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 from the Experts, Katz, 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ference on 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.org/XML/1999/XML-in-10-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zvon.org/xxl/XMLTutorial/General/book_en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db.bell-labs.com/galax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source: www.w3.org (but hard to 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613-D2E0-455E-A153-FCC7C1AB33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ble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1.0 – a recommendation from W3C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s: SGML (a very nasty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roots: a format for shar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D7F-A3ED-4186-8B04-8221574D4F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 does not have a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n’t “give” you my rel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mport it from other other syntax, like CSV (comma-separated-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= rich syntax fo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XML is not relational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istruc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 any data to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 it in files, exchange on the Web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query it directly, using XPath, 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83B-DE9B-4C13-AF29-674E631B48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HTML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57240" y="1700280"/>
            <a:ext cx="5429520" cy="38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46000" y="5786280"/>
            <a:ext cx="56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HTML describes th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0AD-EE7E-4573-8B7E-A04FBAD9FD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Bibliography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boul, Hull, Vi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br&gt; Addison Wesley,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Data on the Web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oul, Buneman,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Morgan Kaufmann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560-5F4B-431D-B051-B1942FCE3F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2-03T06:19:54Z</dcterms:modified>
  <cp:revision>96</cp:revision>
  <dc:subject/>
  <dc:title>Lecture 09:</dc:title>
</cp:coreProperties>
</file>