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E1F-4762-4A22-8E82-D377B06E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8F8-E4A8-41AB-A2DA-CE09DC1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6F2-43AF-45A2-9717-27F58E92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A29-4B5C-43BF-BCDA-DB7FE114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7C7-9996-4978-85D0-003BF055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C71-914C-4EE4-9867-D4363CA0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12C-63D1-4ED2-B4FF-DBDD6B3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56A-730A-4540-BC35-0F872471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DCD-D14B-4F34-8186-D6794B84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5EC-0182-4AE3-ABBA-923EF49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913-DA45-4E90-8314-5F6EE314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211-9984-4C55-908C-E21BEC7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B4CC-0884-42B7-AFA4-07F7BD82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3.org/XML/1999/XML-in-10-points" TargetMode="External"/><Relationship Id="rId2" Type="http://schemas.openxmlformats.org/officeDocument/2006/relationships/hyperlink" Target="http://www.zvon.org/xxl/XMLTutorial/General/book_en.html" TargetMode="External"/><Relationship Id="rId3" Type="http://schemas.openxmlformats.org/officeDocument/2006/relationships/hyperlink" Target="http://db.bell-labs.com/galax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ML and 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February 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B0C-A4B9-4B5D-9F76-1F3B20A617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6B3-2C01-4B95-BB30-CD0119AC47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BE4-F365-424C-8C65-9DEBD6CD3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BC7-5246-40D3-B022-638B9AB31C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4130640" cy="23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92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03800" y="2209680"/>
            <a:ext cx="4762440" cy="268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53E-B2BA-4C9E-A4B9-0E16A6AE8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43000" y="205740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F4D-288A-441E-927C-78815D7278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5400" y="464040"/>
            <a:ext cx="7694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1A7-1F66-4A7A-89FF-39BC2CA91D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5C3-5F04-4BBC-94B1-AD16989CB6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88C-D98B-40C1-983A-1164531770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684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24A-9DA7-448A-BFC1-1BC885C49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15E-E753-479E-A8A0-248984AF8F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v.s. relational data and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6EC-06F9-4F4A-9115-AC891CCF1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060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B63-C26E-4051-AD41-8978CA6728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00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AE8-9939-4A51-8503-BD19906ABD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53000" y="2133720"/>
            <a:ext cx="3849840" cy="391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p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Thailand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23456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004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124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3724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704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724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0024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6164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0200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0480" y="5472360"/>
            <a:ext cx="1037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7680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04" idx="3"/>
            <a:endCxn id="106" idx="7"/>
          </p:cNvCxnSpPr>
          <p:nvPr/>
        </p:nvCxnSpPr>
        <p:spPr>
          <a:xfrm flipH="1">
            <a:off x="6000480" y="2371680"/>
            <a:ext cx="388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4" idx="5"/>
            <a:endCxn id="107" idx="1"/>
          </p:cNvCxnSpPr>
          <p:nvPr/>
        </p:nvCxnSpPr>
        <p:spPr>
          <a:xfrm>
            <a:off x="6865920" y="2371680"/>
            <a:ext cx="7437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6" idx="3"/>
            <a:endCxn id="108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6" idx="4"/>
            <a:endCxn id="109" idx="0"/>
          </p:cNvCxnSpPr>
          <p:nvPr/>
        </p:nvCxnSpPr>
        <p:spPr>
          <a:xfrm flipH="1">
            <a:off x="5564880" y="2962080"/>
            <a:ext cx="975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7" idx="3"/>
            <a:endCxn id="110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7" idx="4"/>
            <a:endCxn id="111" idx="0"/>
          </p:cNvCxnSpPr>
          <p:nvPr/>
        </p:nvCxnSpPr>
        <p:spPr>
          <a:xfrm flipH="1">
            <a:off x="7919280" y="3267000"/>
            <a:ext cx="291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8" idx="4"/>
            <a:endCxn id="105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09" idx="3"/>
            <a:endCxn id="112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09" idx="4"/>
            <a:endCxn id="113" idx="0"/>
          </p:cNvCxnSpPr>
          <p:nvPr/>
        </p:nvCxnSpPr>
        <p:spPr>
          <a:xfrm>
            <a:off x="5565600" y="4105440"/>
            <a:ext cx="2390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9" idx="5"/>
            <a:endCxn id="114" idx="0"/>
          </p:cNvCxnSpPr>
          <p:nvPr/>
        </p:nvCxnSpPr>
        <p:spPr>
          <a:xfrm>
            <a:off x="593892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2" idx="4"/>
            <a:endCxn id="115" idx="0"/>
          </p:cNvCxnSpPr>
          <p:nvPr/>
        </p:nvCxnSpPr>
        <p:spPr>
          <a:xfrm flipH="1">
            <a:off x="4807800" y="5095440"/>
            <a:ext cx="25164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3" idx="4"/>
            <a:endCxn id="116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4" idx="4"/>
            <a:endCxn id="117" idx="0"/>
          </p:cNvCxnSpPr>
          <p:nvPr/>
        </p:nvCxnSpPr>
        <p:spPr>
          <a:xfrm>
            <a:off x="64447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0" idx="4"/>
            <a:endCxn id="118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1" idx="4"/>
            <a:endCxn id="119" idx="0"/>
          </p:cNvCxnSpPr>
          <p:nvPr/>
        </p:nvCxnSpPr>
        <p:spPr>
          <a:xfrm>
            <a:off x="7919640" y="4334040"/>
            <a:ext cx="104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07" idx="5"/>
            <a:endCxn id="135" idx="0"/>
          </p:cNvCxnSpPr>
          <p:nvPr/>
        </p:nvCxnSpPr>
        <p:spPr>
          <a:xfrm>
            <a:off x="8286840" y="3201840"/>
            <a:ext cx="3340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5" idx="4"/>
            <a:endCxn id="136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06" idx="2"/>
            <a:endCxn id="139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3"/>
            <a:endCxn id="140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44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32648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496-C3B6-4AFE-B3AD-08C7BF25D1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510-DD54-4826-948F-53E6759444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5604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4CA-AE30-47AF-AAEA-C12B57ADFA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564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5496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160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FBF-A43B-4C94-8698-52A286E3F9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396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012-2026-4F13-8A6A-4A67883494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432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612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714-A87F-4BE7-9813-CD5459FDAC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9648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CE6-9DF0-47E6-A27F-FE7EE7F25D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22A-3E11-4B2F-9879-237CC64974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5A4-AE21-4685-B01A-B71E5D25F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61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2A2-17CC-46E9-9F55-1A6B533F21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264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764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C46-6F91-4915-B65C-0D751B8E2E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40B-FF4E-4FA6-84BF-4AA4FF095C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040" y="2514600"/>
            <a:ext cx="382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2080" y="2514600"/>
            <a:ext cx="2977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440" y="4038480"/>
            <a:ext cx="464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520" y="5105520"/>
            <a:ext cx="4057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612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40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0240" y="6172200"/>
            <a:ext cx="472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124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56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428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5800" y="4419720"/>
            <a:ext cx="24411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709-6766-4792-9D94-C6FF707C3A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39F-FC7B-4D2A-80D8-D9FD14FA09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from the Experts, Katz, 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1999/XML-in-10-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zvon.org/xxl/XMLTutorial/General/book_e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b.bell-labs.com/gala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118-E482-4763-A828-8FFDCC3E49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AF0-A4A1-4D99-9043-E391A9DEA9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mport it from other other syntax, like CSV (comma-separated-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rich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any data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t in files, exchange on the Web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query it directly, using XPath,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A1A-89B8-4600-8EBB-CA8E2A7974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460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A1F-2559-4C7D-A654-AD0341E67C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035-6516-4570-BBD0-945B16E812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03T06:19:54Z</dcterms:modified>
  <cp:revision>96</cp:revision>
  <dc:subject/>
  <dc:title>Lecture 09:</dc:title>
</cp:coreProperties>
</file>