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532-7CF1-4DC0-A668-BB530B06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44B-1B43-4274-A90C-754DE8F9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7CC-3C57-42E3-897C-3C76E751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F01-61DB-4BCE-941F-8DE7FA3A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E6F-947F-48DB-BE31-9C5D348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C29-50B0-4B99-8C9B-457D56C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689-163B-4CA0-95D8-0D724010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D23-37D1-4EC2-B064-55E01228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893-88B3-4FA7-92D2-B373F613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440-B521-4B08-A114-0473C692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4B8-B8E4-47D6-B354-DA562BFA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C2A-0877-4517-9131-6C045F07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90D8-8EBE-4190-8E0F-883541599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February 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6A1-1FDC-4CA8-88A9-CCE19AE839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7280" y="2514600"/>
            <a:ext cx="5246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920" y="4114800"/>
            <a:ext cx="85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(say)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874-D606-4F2D-9938-2BE0BDF344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5240" y="4572000"/>
            <a:ext cx="5663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4480" y="1981080"/>
            <a:ext cx="40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(cid, name, address, …..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s(. . ., cid, …)    cid=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36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80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CD0-B013-4825-A778-C56F4DC98B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SELECT rights on tabl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ebt collector: should see the delinquent customers on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4320" y="3733920"/>
            <a:ext cx="572508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s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Delinquent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balance &lt; 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DelinquentCustomers TO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96240" y="6248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an important secur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951-9486-4D9A-888F-B7B8F16D2A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280" y="2666880"/>
            <a:ext cx="8657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1911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000" y="4876920"/>
            <a:ext cx="786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867280"/>
            <a:ext cx="71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Delinquen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11C-5123-4B61-85D8-40ED722EB3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9880" y="1905120"/>
            <a:ext cx="5712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51120" y="1351440"/>
            <a:ext cx="3437640" cy="1692360"/>
          </a:xfrm>
          <a:prstGeom prst="wedgeEllipseCallout">
            <a:avLst>
              <a:gd name="adj1" fmla="val -57925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2000" y="4924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E94-1EB8-4638-A9A4-02D315E04F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9" idx="4"/>
            <a:endCxn id="90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0" idx="6"/>
            <a:endCxn id="91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96" name=""/>
          <p:cNvCxnSpPr>
            <a:stCxn id="90" idx="4"/>
            <a:endCxn id="92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2" idx="6"/>
            <a:endCxn id="93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5"/>
            <a:endCxn id="93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3" idx="1"/>
            <a:endCxn id="91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801800" y="28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81720" y="343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51720" y="437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48400" y="44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06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9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312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CCB-58B3-475F-AE19-F004DAD070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219320" y="4673160"/>
            <a:ext cx="6781680" cy="1191240"/>
            <a:chOff x="1219320" y="4673160"/>
            <a:chExt cx="6781680" cy="1191240"/>
          </a:xfrm>
        </p:grpSpPr>
        <p:sp>
          <p:nvSpPr>
            <p:cNvPr id="109" name=""/>
            <p:cNvSpPr/>
            <p:nvPr/>
          </p:nvSpPr>
          <p:spPr>
            <a:xfrm>
              <a:off x="1219320" y="467316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5045040"/>
              <a:ext cx="29527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160" y="160020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alth insurance company lets you see the claims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5760" y="404964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earch through the cl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72840" y="5054760"/>
            <a:ext cx="2940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840" y="26668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77320" y="2603520"/>
            <a:ext cx="3492360" cy="1191240"/>
            <a:chOff x="3577320" y="2603520"/>
            <a:chExt cx="3492360" cy="1191240"/>
          </a:xfrm>
        </p:grpSpPr>
        <p:sp>
          <p:nvSpPr>
            <p:cNvPr id="117" name=""/>
            <p:cNvSpPr/>
            <p:nvPr/>
          </p:nvSpPr>
          <p:spPr>
            <a:xfrm>
              <a:off x="3577320" y="2603520"/>
              <a:ext cx="34923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word: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7240" y="2666880"/>
              <a:ext cx="1434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d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7960" y="3276720"/>
              <a:ext cx="1400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31480" y="6095880"/>
            <a:ext cx="8629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…FROM…WHERE doctor=‘Dr. Lee’ and patientID=‘f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60" y="76320"/>
            <a:ext cx="45716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hris Anley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d SQL Injection In SQ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105520" y="2666880"/>
            <a:ext cx="3595680" cy="3929040"/>
            <a:chOff x="5105520" y="2666880"/>
            <a:chExt cx="3595680" cy="3929040"/>
          </a:xfrm>
        </p:grpSpPr>
        <p:sp>
          <p:nvSpPr>
            <p:cNvPr id="123" name=""/>
            <p:cNvSpPr/>
            <p:nvPr/>
          </p:nvSpPr>
          <p:spPr>
            <a:xfrm>
              <a:off x="5105520" y="2666880"/>
              <a:ext cx="9144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67680" y="6138720"/>
              <a:ext cx="53352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3" idx="4"/>
              <a:endCxn id="124" idx="1"/>
            </p:cNvCxnSpPr>
            <p:nvPr/>
          </p:nvCxnSpPr>
          <p:spPr>
            <a:xfrm>
              <a:off x="5562720" y="3137040"/>
              <a:ext cx="2683440" cy="30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4282920" y="4976640"/>
            <a:ext cx="1779840" cy="1652760"/>
            <a:chOff x="4282920" y="4976640"/>
            <a:chExt cx="1779840" cy="1652760"/>
          </a:xfrm>
        </p:grpSpPr>
        <p:sp>
          <p:nvSpPr>
            <p:cNvPr id="127" name=""/>
            <p:cNvSpPr/>
            <p:nvPr/>
          </p:nvSpPr>
          <p:spPr>
            <a:xfrm>
              <a:off x="4282920" y="4976640"/>
              <a:ext cx="10670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8360" y="6095880"/>
              <a:ext cx="91440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7" idx="5"/>
              <a:endCxn id="128" idx="0"/>
            </p:cNvCxnSpPr>
            <p:nvPr/>
          </p:nvCxnSpPr>
          <p:spPr>
            <a:xfrm>
              <a:off x="5194440" y="5510160"/>
              <a:ext cx="41184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7F5-4C18-401B-9B15-0CDC0924D2B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11200"/>
            <a:ext cx="7619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8880" y="2692800"/>
            <a:ext cx="486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   OR patientID = ‘suciu’;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4343400"/>
            <a:ext cx="7848360" cy="1902240"/>
            <a:chOff x="533520" y="4343400"/>
            <a:chExt cx="7848360" cy="1902240"/>
          </a:xfrm>
        </p:grpSpPr>
        <p:sp>
          <p:nvSpPr>
            <p:cNvPr id="135" name=""/>
            <p:cNvSpPr/>
            <p:nvPr/>
          </p:nvSpPr>
          <p:spPr>
            <a:xfrm>
              <a:off x="533520" y="4343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5054400"/>
              <a:ext cx="76197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2480" y="5413680"/>
              <a:ext cx="354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. Lee’      OR   1 = 1;   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6360" y="3782880"/>
            <a:ext cx="8530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WHERE doctor=‘Dr. Lee’  OR patientID=‘suciu’;      --’ and patientID=‘fr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66C-D675-4B83-9AFC-B49C6AF75AD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" y="16002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’re done, do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593800"/>
            <a:ext cx="77724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81760" y="2975040"/>
            <a:ext cx="48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;    DROP TABLE Patients;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845-E77D-4887-A8B6-19965474D1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rogramming:  use stored procedur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policy implementation from apps to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EB4-E219-4DAA-BAE6-964F9B1EBB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2964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140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4D6-4E19-40AA-BC50-6D28E71DBF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11:30, this room (in 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, notebooks,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43B-28FA-462A-ACA7-C11EEDFD2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4D9-285E-4F49-8BA1-5855B1634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ep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ectur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rom the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ho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AC4-A1BE-40D4-9E39-461DBE158F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1760" y="2666880"/>
            <a:ext cx="859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privileges ON object TO users [WITH GRANT OPTIO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6720" y="3886200"/>
            <a:ext cx="557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UPDATE(column-name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628-2238-4267-A9DF-3F3F28FC31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8160" y="2057400"/>
            <a:ext cx="8709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INSERT, DELETE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8195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181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7000" y="3352680"/>
            <a:ext cx="49539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680" y="5562720"/>
            <a:ext cx="3099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648-D0CD-4615-B247-609D31AC79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240" y="2590920"/>
            <a:ext cx="4986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9200" y="38862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3DE-09B6-4652-B063-BAA4E86A03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1400" y="2590920"/>
            <a:ext cx="7799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3800" y="36576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F60-D1A5-4C25-88BE-38B7C04F84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shish Kumar Gupta</cp:lastModifiedBy>
  <dcterms:modified xsi:type="dcterms:W3CDTF">2005-02-04T20:38:57Z</dcterms:modified>
  <cp:revision>302</cp:revision>
  <dc:subject/>
  <dc:title>Lecture 09:</dc:title>
</cp:coreProperties>
</file>