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A56-401B-4499-855A-A9F0BA1F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D44-D984-4AF7-AF5F-B26F4EFB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A61-C0C8-4E62-8E12-6CC2B180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5AF-B579-4E1E-9830-F1038B24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D34-A736-43EF-BD7A-9DD072A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107-4BC0-4448-987E-82FC2729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F2A-8EE6-4913-9BF6-53C66FF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585-3311-445A-A76D-56184ED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D07-091C-45F6-8ED1-5652FBE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A85-CFF5-490D-8BB9-666E5CB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113-B520-419A-A930-4125200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48C-C60F-4F45-99D7-E88050E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FACF-41DB-4617-B890-34B1772D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993-F3D4-4A5F-98D1-C477EDDC9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7280" y="2514600"/>
            <a:ext cx="5246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920" y="4114800"/>
            <a:ext cx="85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(say)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1C0-A3F9-4A18-B2D5-A69E2C11E9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5240" y="4572000"/>
            <a:ext cx="566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4480" y="1981080"/>
            <a:ext cx="40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(cid, name, address, ….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s(. . ., cid, …)    cid=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36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80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233-00A0-416B-A17C-6A3E224B69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SELECT rights on tabl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ebt collector: should see the delinquent customers on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4320" y="3733920"/>
            <a:ext cx="572508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s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Delinquent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balance &lt; 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DelinquentCustomers TO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96240" y="6248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an importa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372-6508-472E-A28A-8C6EA3544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0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867280"/>
            <a:ext cx="71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Delinquen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B39-C7DF-4DAC-B0EB-D54FB2A228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7925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200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1D4-A586-451F-BE5A-B95945A40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9" idx="4"/>
            <a:endCxn id="90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0" idx="6"/>
            <a:endCxn id="91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96" name=""/>
          <p:cNvCxnSpPr>
            <a:stCxn id="90" idx="4"/>
            <a:endCxn id="92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6"/>
            <a:endCxn id="93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5"/>
            <a:endCxn id="93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3" idx="1"/>
            <a:endCxn id="91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312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3E6-F14F-47F8-B830-A255D7B44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09" name="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160" y="160020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5760" y="404964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72840" y="5054760"/>
            <a:ext cx="2940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840" y="26668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77320" y="2603520"/>
            <a:ext cx="3492360" cy="1191240"/>
            <a:chOff x="3577320" y="2603520"/>
            <a:chExt cx="3492360" cy="1191240"/>
          </a:xfrm>
        </p:grpSpPr>
        <p:sp>
          <p:nvSpPr>
            <p:cNvPr id="117" name=""/>
            <p:cNvSpPr/>
            <p:nvPr/>
          </p:nvSpPr>
          <p:spPr>
            <a:xfrm>
              <a:off x="3577320" y="2603520"/>
              <a:ext cx="34923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7240" y="2666880"/>
              <a:ext cx="143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7960" y="3276720"/>
              <a:ext cx="1400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31480" y="6095880"/>
            <a:ext cx="8629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60" y="76320"/>
            <a:ext cx="45716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23" name="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3" idx="4"/>
              <a:endCxn id="124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27" name="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7" idx="5"/>
              <a:endCxn id="128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7AB-E503-4C65-AB37-1FEC76524C8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8880" y="2692800"/>
            <a:ext cx="486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4343400"/>
            <a:ext cx="7848360" cy="1902240"/>
            <a:chOff x="533520" y="4343400"/>
            <a:chExt cx="7848360" cy="1902240"/>
          </a:xfrm>
        </p:grpSpPr>
        <p:sp>
          <p:nvSpPr>
            <p:cNvPr id="135" name=""/>
            <p:cNvSpPr/>
            <p:nvPr/>
          </p:nvSpPr>
          <p:spPr>
            <a:xfrm>
              <a:off x="533520" y="4343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2480" y="5413680"/>
              <a:ext cx="354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6360" y="3782880"/>
            <a:ext cx="8530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7E3-C420-4532-9B97-DDD900F154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" y="16002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81760" y="2975040"/>
            <a:ext cx="48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10C-9707-4B7A-9C07-554CE5CF215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ED2-3F31-41B7-884D-EEB16D81B8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2964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0CC-DBF2-4338-BEA1-62DBB669E9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11:30, this room (in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, notebooks,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ABF-5F82-4731-A118-9F730E9DA9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05C-E96E-4F51-8CCC-05927C894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e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ectur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ho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766-1B99-4C29-8761-C741AD774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1760" y="266688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privileges ON object TO users [WITH GRANT OP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6720" y="3886200"/>
            <a:ext cx="55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5DA-58D9-482E-BA38-922357C13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8160" y="2057400"/>
            <a:ext cx="87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INSERT, DELETE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8195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181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7000" y="335268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68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1EA-9831-4B68-B3DD-00081832DA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240" y="2590920"/>
            <a:ext cx="498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920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3E1-170F-4654-B534-98BD2E17C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1400" y="2590920"/>
            <a:ext cx="779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3800" y="36576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4E2-485A-4834-BB8F-EF8D7A5A3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shish Kumar Gupta</cp:lastModifiedBy>
  <dcterms:modified xsi:type="dcterms:W3CDTF">2005-02-04T20:38:57Z</dcterms:modified>
  <cp:revision>302</cp:revision>
  <dc:subject/>
  <dc:title>Lecture 09:</dc:title>
</cp:coreProperties>
</file>