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FB1E-83F4-4F37-9EE1-C52814CB8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24E-5957-4555-BDF2-F852DAC1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5CB-D313-4A18-B8B0-46CB687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DAB-9B8C-49F3-BA6B-C5D46314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CE4-8462-4A8F-B257-6D743BF3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C48-6E19-4249-8565-E5E9D5BE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188-2C58-47AE-ACE6-F852A96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468-191C-4344-A306-79D6AC5F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FD4-FACA-4C2C-8B45-21CD7554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D4E-8362-424F-8E6F-6893A6CD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109-CEBD-41CC-B662-101B0CE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F62-97EF-455C-B857-F83FB05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945-036F-4C0C-9B07-20C6866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C441-703D-4320-AAC4-38CD9EA36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7CD-3419-41AC-A87F-8FAE2B82FD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67D-6050-41AE-B982-5121F8FA00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80880" y="49528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4419720"/>
            <a:ext cx="1371600" cy="61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2"/>
            <a:endCxn id="79" idx="7"/>
          </p:cNvCxnSpPr>
          <p:nvPr/>
        </p:nvCxnSpPr>
        <p:spPr>
          <a:xfrm flipH="1">
            <a:off x="1550520" y="4728960"/>
            <a:ext cx="561240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04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0" idx="3"/>
            <a:endCxn id="82" idx="6"/>
          </p:cNvCxnSpPr>
          <p:nvPr/>
        </p:nvCxnSpPr>
        <p:spPr>
          <a:xfrm flipH="1">
            <a:off x="1676160" y="4948200"/>
            <a:ext cx="568872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F78-9121-4D03-9B46-B9768B45D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0A5-1659-475D-A186-1BD16F0340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C0A-9229-49C6-9753-E62246FF93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CE3-B9DF-4AF6-9C77-D8F6D7078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1884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58F-92D2-4515-A599-F8E7CCFFE2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A8F-C850-46C9-AF4E-D685F70EE8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68D-31C7-46A7-A145-39D672AB61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relative to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E53-B5D9-483E-A037-ABB2298900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066680" y="61722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PUT whenever we want: before/after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73D-55F0-4E20-AB30-EE0C0C29C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A99-FBBD-4296-85BB-CA4E9A120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8BB-7931-414D-B3E1-BFCF22D1D4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101-F1DD-4E0C-A479-F2A5237989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FDE-4DF6-4628-8E84-A1AD1EB811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A32-E08C-44C3-A371-D15034E709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244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729-6F52-48C6-8E28-9A5E21FAF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FA3-7B28-483B-AA23-5D7F98451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55C-3805-4AB8-8316-584487B14F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297-6A2C-44A3-8DF8-E89D87607A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CA0-5CEF-434C-8A47-9A04B4960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30T23:54:47Z</dcterms:modified>
  <cp:revision>284</cp:revision>
  <dc:subject/>
  <dc:title>Lecture 09:</dc:title>
</cp:coreProperties>
</file>