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D785-CCA9-4E88-8B22-00F1323F8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ecause if the system crashes before it writes &lt;END CKPT&gt; then we cannot use the checkpoint.  We use &lt;END CKPT&gt; to ensure that the system didn’t crash and the checkpoint termin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52A0-02CF-45D5-B2C4-7A732904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C8B3-06F6-4E71-ADE5-95814DD8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E3DB-C32C-42EA-897B-6F4CD83CC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9929-0854-469E-80FF-A0283A603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1D83-F204-4B3A-855B-D6AFEE24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0366-D44D-4F24-8165-906C04F7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EDA9-64BE-4FC9-8EE9-4F46FADD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1E00-1602-4D15-BB2C-20E4878A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7D7E-2347-4666-8E87-AB96E3E8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DEF0-77E5-4935-AD27-414518EB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5CD0-F550-41AB-B40E-4262AC4E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BBA6-B8F9-47C6-96C5-6C5DC182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9123-B628-41D8-8D2A-8640E78C5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February 2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2F01-D62F-4DA5-94FC-DAB7EFCCE70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o-Loggin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: If T modifies X, then both &lt;T,X,v&gt; and &lt;COMMIT T&gt; must be written to disk before OUTPUT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ce: OUTPUTs are don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AE35-3281-4C29-99B5-E6D894175B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228600" y="914400"/>
          <a:ext cx="8534520" cy="49593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380880" y="4952880"/>
            <a:ext cx="13716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62920" y="4419720"/>
            <a:ext cx="1371600" cy="618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80" idx="2"/>
            <a:endCxn id="79" idx="7"/>
          </p:cNvCxnSpPr>
          <p:nvPr/>
        </p:nvCxnSpPr>
        <p:spPr>
          <a:xfrm flipH="1">
            <a:off x="1550520" y="4728960"/>
            <a:ext cx="5612400" cy="30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304920" y="5410080"/>
            <a:ext cx="13716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80" idx="3"/>
            <a:endCxn id="82" idx="6"/>
          </p:cNvCxnSpPr>
          <p:nvPr/>
        </p:nvCxnSpPr>
        <p:spPr>
          <a:xfrm flipH="1">
            <a:off x="1676160" y="4948200"/>
            <a:ext cx="5688720" cy="72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6061-E3BB-4746-8858-5800B8BEBC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Re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system’s crash, run recovery manag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Decide for each transaction T whether it is completed or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.&lt;COMMIT T&gt;….    =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.&lt;ABORT T&gt;…….    =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……………………   =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Read log from the beginning, redo all updates of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mit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A24C-6476-453B-B287-FAD9819D37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Re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7200" y="1905120"/>
            <a:ext cx="169092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1,v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2, X2, v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3,v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MMI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3,X4,v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5,v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438280" y="190512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0952-B5C5-4681-9983-6BB840B5E9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&lt;START CKPT(T1,…,Tk)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T1,…,Tk are all activ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sh to disk all blocks of committed transaction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rty bloc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ile continuing normal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ll blocks have been written, write &lt;END CKP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73C2-BFA5-4079-93E9-969FE0BC20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o Recovery with 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52680" y="1905120"/>
            <a:ext cx="2667240" cy="47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T1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COMMIT T1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T4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CKPT T4, T5, T6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END CKP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CKPT T9, T10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46280" y="2708280"/>
            <a:ext cx="208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END CKP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200400" y="3886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18840" y="2556000"/>
            <a:ext cx="165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re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i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4, T5, T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n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72200" y="32004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80" y="4633920"/>
            <a:ext cx="2038320" cy="916920"/>
          </a:xfrm>
          <a:prstGeom prst="borderCallout1">
            <a:avLst>
              <a:gd name="adj1" fmla="val 18750"/>
              <a:gd name="adj2" fmla="val -8333"/>
              <a:gd name="adj3" fmla="val 8986"/>
              <a:gd name="adj4" fmla="val 1501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OUTPU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1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n to be on 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3C06-4163-48FB-A39B-CED06E02CF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ison Undo/Re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o logg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must be done ea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&lt;COMMIT T&gt; is seen, T definitely has written all its data to disk (hence, don’t need to redo) – inef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o log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must be done 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&lt;COMMIT T&gt; is not seen, T definitely has not written any of its data to disk (hence there is not dirty data on disk, no need to undo) – inflex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like more flexibility on when to OUTPUT: undo/redo logging (nex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B6B2-212E-4155-80A8-1F741FA753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/Redo Lo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 records, only one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T,X,u,v&gt;= T has updated element X,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lue was u, and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lue is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46A3-C420-4EF0-9DE3-F92BF2AEB3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/Redo-Logging R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1: If T modifies X, then &lt;T,X,u,v&gt; must be written to disk before OUTPUT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we are free to OUTPUT early or late relative to &lt;COMMIT 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F061-3A27-4055-858C-DC9930E649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228600" y="914400"/>
          <a:ext cx="8534520" cy="49593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T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8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8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1066680" y="6172200"/>
            <a:ext cx="72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OUTPUT whenever we want: before/after 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1AB5-9458-4E64-98AE-149C34289F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y using undo logging 17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o logging 17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o/undo 17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E039-9DBF-4743-A7C5-1604867C6E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/Re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ystem’s crash, run recovery mana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o all committed transaction, top-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o all uncommitted transactions, bottom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FA26-CA52-4881-85FF-89CD4A2B75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/Re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77200" y="1905120"/>
            <a:ext cx="169092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1,v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2, X2, v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3,v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MMI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3,X4,v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5,v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438280" y="190512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257800" y="1981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DCCD-E5E2-48DD-9794-A03420927D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point the database period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p accepting new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it until all current transactions comp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sh log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&lt;CKPT&gt; log record, fl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m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F9FA-A86D-43A4-A31F-DC145B3D27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 Recovery with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6680" y="1905120"/>
            <a:ext cx="1690920" cy="47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9,X9,v9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ll comple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CKP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1,v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5,X5,v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4,X4,v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MMIT T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3,X3,v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2,X2,v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6280" y="2708280"/>
            <a:ext cx="226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recover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top at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KP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200400" y="3886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72200" y="3886200"/>
            <a:ext cx="152280" cy="2666880"/>
          </a:xfrm>
          <a:custGeom>
            <a:avLst/>
            <a:gdLst>
              <a:gd name="textAreaLeft" fmla="*/ 0 w 152280"/>
              <a:gd name="textAreaRight" fmla="*/ 55080 w 15228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actions T2,T3,T4,T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198108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0575-27EF-4BC6-A844-D6D4BDFFC5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with checkpointing: database freezes during check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uld like to checkpoint while database is oper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: nonquiescent checkpoi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92440" y="5603760"/>
            <a:ext cx="651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escent = being quiet, still, or at rest; in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quiescent = allowing transactions to be 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4E80-3D81-42A4-8F0A-9B8E06996F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&lt;START CKPT(T1,…,Tk)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T1,…,Tk are all activ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 normal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ll of T1,…,Tk have completed, write &lt;END CKP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8AC2-C671-468F-9430-73B68E8BD4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 Recovery with 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1905120"/>
            <a:ext cx="2667240" cy="47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CKPT T4, T5, T6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END CKP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6280" y="2708280"/>
            <a:ext cx="226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recover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top at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KP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200400" y="3886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3733920"/>
            <a:ext cx="76320" cy="1066680"/>
          </a:xfrm>
          <a:custGeom>
            <a:avLst/>
            <a:gdLst>
              <a:gd name="textAreaLeft" fmla="*/ 0 w 76320"/>
              <a:gd name="textAreaRight" fmla="*/ 2736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4, T5, T6, p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ter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198108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rlier transactions p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4, T5, T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72200" y="5029200"/>
            <a:ext cx="76320" cy="1523880"/>
          </a:xfrm>
          <a:custGeom>
            <a:avLst/>
            <a:gdLst>
              <a:gd name="textAreaLeft" fmla="*/ 0 w 76320"/>
              <a:gd name="textAreaRight" fmla="*/ 27360 w 763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ter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8760" y="5791320"/>
            <a:ext cx="26269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Q: why do we ne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&lt;END CKPT&gt;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B6C3-1387-45CE-9092-38C44D296F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o Lo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START T&gt; = transaction T has beg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COMMIT T&gt; = T has commit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ABORT T&gt;= T has abor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T,X,v&gt;= T has updated element X, and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lue is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5C31-56E6-4395-8859-B3772DB215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28600" y="914400"/>
          <a:ext cx="8534520" cy="49593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5DF9-C49E-45E6-9AAB-8D0DF0B8D0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5-01-30T23:54:47Z</dcterms:modified>
  <cp:revision>284</cp:revision>
  <dc:subject/>
  <dc:title>Lecture 09:</dc:title>
</cp:coreProperties>
</file>