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E72-A3CE-487C-B995-8D607B73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8E6-A7C0-486C-B126-F665563B2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429-5085-41D1-8326-3FF1EA16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7CD-DF4A-4891-BF16-51E8764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559-6493-4E6A-9791-3B072ADA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A9F-CC81-46AA-8297-E8A4D7C8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8BD-341F-4F9D-AB0B-B2E4392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377-5D6B-4DF1-A020-BD13E4D5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E3D-DFB4-45E1-9F27-508DF4BD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556-BF57-4321-894B-06D3F365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6A4-8553-4B69-8C84-58240CF5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32E-53EA-4B01-A419-3CFE335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A35-E86E-48BB-B1C9-5F12C50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D65-C19D-451D-A5D1-AF20A4CD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407B-1669-4941-B923-3A3EA8E6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3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7C6-7D75-4754-B697-6508907E9D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F8C-F568-4AD0-B1E6-1C9C4F0B05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E2F-F1C1-4E73-87C2-A0C4126DD4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FD4-0D5D-4688-B793-821ACA451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D55-B180-4367-909B-14AC639B5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ACF-FA60-4B64-A346-A127D7BA6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C05-C75F-430F-9E8E-E9AE6D3BED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651960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8D7-3E55-4FF3-86EB-3E10424A1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580-6E0B-4B10-9C17-D1CB784B25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225-6D6A-4D76-B6FA-953CF78AF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C9B-5E87-42E9-B563-8AB9F2AA78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EB4-4161-4D0E-BABA-3F7497124B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5955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FCD-F3E1-4C8D-864F-AEC0F88279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6614640" y="574848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DA5-D91B-4C50-B9DD-4B707470FA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1EC-CEB3-4016-A992-F2B42E93C5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A87-D66C-4CEA-B5FD-29AC499FD8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200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201" idx="2"/>
              <a:endCxn id="200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3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204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4" idx="2"/>
              <a:endCxn id="205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7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208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5" idx="5"/>
              <a:endCxn id="208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DBC-7928-4F4F-A87E-8AF75B0A0A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EDE-B39A-45A2-ACFB-D3B148D98C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89A-6202-4FAB-BD89-69945E83C3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6A5-DC4B-4F5E-9D13-16FF147002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F77-77CB-4C5C-BB08-3994E25EED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185-5CCB-48CE-9E2D-87D4534A33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56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59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70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74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94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97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01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24E-EEA6-44B5-AD5A-D299D7DA17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E43-EBE9-408F-971A-2DE6D477A4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81080" y="3290760"/>
                <a:ext cx="4743720" cy="33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324-F015-4D4F-9B11-0AE9FE893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arity: if one disk fails, recover from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chapter in the book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DD3-BC0E-44D3-A51D-F63D98DE73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24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36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384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892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1540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5EC-1376-4B70-B59D-C0A638753D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4440" y="1828800"/>
            <a:ext cx="8701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B2E-ED0A-4BDB-A566-98BF6323D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000" y="1600200"/>
            <a:ext cx="723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D52-3C22-4CFF-89AF-A71E79299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30T23:56:56Z</dcterms:modified>
  <cp:revision>287</cp:revision>
  <dc:subject/>
  <dc:title>Lecture 09:</dc:title>
</cp:coreProperties>
</file>