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7C4C-35D1-4E04-A475-D394150D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we UNDO the changes, writing back A=8, and B=8.  The transaction is atomic: none of its actions wa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don’t need to do any recovery actions.  The transaction is still atomic: both actions have been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4CC3-A2C3-4A5D-B10B-3E5C8554A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B65-4B40-428C-B63D-5DA00789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FB2-30F7-4264-B99D-85BDEFA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476-5B3B-4207-8265-669AA9DA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F40-7B35-4D88-A8EF-F60A29E0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A60-B58D-4B03-B94A-614076D3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8C4-FD0E-487F-B378-F71C0BCB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1F4-F80D-4F5D-8E7F-9CB30977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00A-1207-464D-ACC1-2FF62DEB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AFA-680B-4570-A5CA-DFB1002A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57C-86E1-40F7-B508-A7085B8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F41-D95F-41E2-908B-6F3A168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F99-076E-4725-8776-988CEEB3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4EC6-485E-409C-8C59-51225C680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3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B87-C051-4ECD-9E90-2643D2FF52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93320" y="5392440"/>
            <a:ext cx="1702800" cy="1172520"/>
          </a:xfrm>
          <a:prstGeom prst="wedgeEllipseCallout">
            <a:avLst>
              <a:gd name="adj1" fmla="val 56824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CB1-201A-4A6A-84D5-68689A06D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E90-BCB2-401F-B590-8E50E9F56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E3C-D177-4559-A406-89428E96E9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3C0-50F8-4AF5-949A-54845DAB61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4449960" cy="470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B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B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971800"/>
            <a:ext cx="28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ultiplied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903-CC9B-47F5-A063-2D6E676D8E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 rot="5400000">
            <a:off x="44193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920" y="914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9339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3480" y="914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552400" y="9525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760" y="914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83B-E624-46E5-B5E7-BF765AE2EF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04920" y="685800"/>
          <a:ext cx="784836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6519600" y="454356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2160" y="5883120"/>
            <a:ext cx="671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 after OUTPUT(A), before OUTPUT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s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A1C-90F7-4B35-8FA4-D4E9E7C06B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AF9-DE11-4057-A335-02CA4537A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BF8-C490-4D59-9B6C-B92574636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8F3-5DA3-40BC-9DC6-1E0C91891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F0A-1CE0-484E-A1D8-4645B3C2D5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6595560" y="484884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EEE-4FF4-4293-9C0D-FE6C08A3EB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80880" y="2286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6614640" y="574848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3A5-48E0-41A0-9E7D-6081ABE567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first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NDO both changes: A=8, B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none of its actions has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econd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un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 is atomic, since both it’s actions have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0CE-899A-4185-BAE0-6D87747C03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OUTPUT(X) must be written to disk before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242-0F00-4B8C-9FC9-B07E76D93A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380880" y="2624040"/>
            <a:ext cx="8382240" cy="2862360"/>
            <a:chOff x="380880" y="2624040"/>
            <a:chExt cx="8382240" cy="2862360"/>
          </a:xfrm>
        </p:grpSpPr>
        <p:sp>
          <p:nvSpPr>
            <p:cNvPr id="200" name=""/>
            <p:cNvSpPr/>
            <p:nvPr/>
          </p:nvSpPr>
          <p:spPr>
            <a:xfrm>
              <a:off x="380880" y="49528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26240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201" idx="2"/>
              <a:endCxn id="200" idx="7"/>
            </p:cNvCxnSpPr>
            <p:nvPr/>
          </p:nvCxnSpPr>
          <p:spPr>
            <a:xfrm flipH="1">
              <a:off x="1550520" y="2933280"/>
              <a:ext cx="5841360" cy="20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3" name=""/>
          <p:cNvGrpSpPr/>
          <p:nvPr/>
        </p:nvGrpSpPr>
        <p:grpSpPr>
          <a:xfrm>
            <a:off x="457200" y="4452840"/>
            <a:ext cx="8305920" cy="1490760"/>
            <a:chOff x="457200" y="4452840"/>
            <a:chExt cx="8305920" cy="1490760"/>
          </a:xfrm>
        </p:grpSpPr>
        <p:sp>
          <p:nvSpPr>
            <p:cNvPr id="204" name=""/>
            <p:cNvSpPr/>
            <p:nvPr/>
          </p:nvSpPr>
          <p:spPr>
            <a:xfrm>
              <a:off x="7391520" y="44528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" y="54100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4" idx="2"/>
              <a:endCxn id="205" idx="6"/>
            </p:cNvCxnSpPr>
            <p:nvPr/>
          </p:nvCxnSpPr>
          <p:spPr>
            <a:xfrm flipH="1">
              <a:off x="1828440" y="4762440"/>
              <a:ext cx="55634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7" name=""/>
          <p:cNvGrpSpPr/>
          <p:nvPr/>
        </p:nvGrpSpPr>
        <p:grpSpPr>
          <a:xfrm>
            <a:off x="1627200" y="5781600"/>
            <a:ext cx="7059600" cy="619200"/>
            <a:chOff x="1627200" y="5781600"/>
            <a:chExt cx="7059600" cy="619200"/>
          </a:xfrm>
        </p:grpSpPr>
        <p:sp>
          <p:nvSpPr>
            <p:cNvPr id="208" name=""/>
            <p:cNvSpPr/>
            <p:nvPr/>
          </p:nvSpPr>
          <p:spPr>
            <a:xfrm>
              <a:off x="7315200" y="578160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5" idx="5"/>
              <a:endCxn id="208" idx="2"/>
            </p:cNvCxnSpPr>
            <p:nvPr/>
          </p:nvCxnSpPr>
          <p:spPr>
            <a:xfrm>
              <a:off x="1627200" y="5865840"/>
              <a:ext cx="568872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0D9-7516-4A1D-A6CE-EE24B2403E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016-4A4B-42C2-8F7D-BC8763206E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1F4-DB36-47B1-A0AA-89E32E3712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2704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C92-B5B5-4FB5-89B7-9B328EC5F5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B48-A315-48E4-8E73-7D089E7A8F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: use check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C5C-18CC-4095-8A1D-A899FE9049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56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59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70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74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94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97" name="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01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03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6F0-1174-47EF-B1E1-D13CCABDF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71A-9F16-4513-BC0C-C298B72868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81080" y="3290760"/>
                <a:ext cx="4743720" cy="33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7DC-E6B1-4438-B758-8F42A30923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arity: if one disk fails, recover from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chapter in the book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D28-B284-4AEC-9BE3-001579877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24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136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9440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9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924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3848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90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892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1540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77A-DF4C-4C38-B165-6E08F90A99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4440" y="1828800"/>
            <a:ext cx="8701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8D6-F30B-4AB1-9F0E-BA5EACB1E7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000" y="1600200"/>
            <a:ext cx="723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2BF-EEE0-4794-9BBE-BD011C27B7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30T23:56:56Z</dcterms:modified>
  <cp:revision>287</cp:revision>
  <dc:subject/>
  <dc:title>Lecture 09:</dc:title>
</cp:coreProperties>
</file>