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422C-492D-4417-B8FD-F77933886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3B8B-408B-468D-ACD7-E64DA583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7198-E5C4-4F32-A5E2-CDFFA5D7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A862-1269-4B2E-A5ED-613EEF65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8C39-4DF1-474B-9598-AADC32A9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B775-8249-4A87-A99B-D77ADB90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904E-36B4-4EB4-833D-0F73CDC5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640E-0200-473D-886E-490E7DE2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00E4-ED93-41D6-8381-289176F8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95C2-0EEA-4F89-843C-B3C29586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E2BE-F7CD-4A43-9141-3444E757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8B63-B6E6-4431-B74B-6E0A74EE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21F5-B1ED-4AD1-873E-4A9FAF059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1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January 28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EE82-A475-4150-9EBA-B6FD7B29A8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: Atomi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ossible outcomes for a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mi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ll the changes are 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o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o changes are 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is, transaction’s activities are all or 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37A6-D980-4674-A939-30A74974B5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: Consist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te of the tables is restricted by integrity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 number is 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amount can’t be 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bi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may b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plic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mplic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onsistency is achiev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er makes sure a txn takes a consistent state to a consist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ystem makes sure that the tnx is at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9F33-6901-4AF0-AE3E-25D9195230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: Is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ansaction executes concurrently with other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lation: the effect is as if each transaction executes in isolation of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9C8E-6506-474B-8F32-EDE911F776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: Dur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ffect of a transaction must continue to exists after the transaction, or the whole program has termin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: write data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E29E-C911-4CB8-AEAA-C61D54FEE1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L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app gets to a place where it can’t complete the transaction successfully, it can execute ROLL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auses the system to “abort” the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tabase returns to the state without any of the previous changes made by activity of the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00E5-01FF-4FAA-9743-411BA0F688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sons for Roll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hanges their mind (“ctl-C”/canc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icit in program, when app program finds a probl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when qty on hand &lt; qty being s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-initiated ab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cr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due to timeo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008C-5707-48EA-A0A2-A13EFB557A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-ONLY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3240" y="1600200"/>
            <a:ext cx="5027040" cy="503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mallProduct(name, pric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name, pr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ice &lt;= 0.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DELE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ice &lt;=0.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MI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 TRANSACTION READ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unt(*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unt(*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mallProdu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4061880"/>
            <a:ext cx="1904760" cy="1172520"/>
          </a:xfrm>
          <a:prstGeom prst="wedgeEllipseCallout">
            <a:avLst>
              <a:gd name="adj1" fmla="val -89152"/>
              <a:gd name="adj2" fmla="val -896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 it f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F81F-D949-4112-918F-43204868F9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mous anoma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ty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reads data written by T’ while T’ is ru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T’ ab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t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tasks T and T’ both modify the sam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and T’ both 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l state shows effects of only T, but not of T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nsistent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task T sees some but not all changes made by T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BA5D-0E2A-46C2-B941-50DB221149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ty read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TRANSACTION ISOLATION LEVEL READ UNCOMMIT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ted read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TRANSACTION ISOLATION LEVEL READ COMMIT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able read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TRANSACTION ISOLATION LEVEL REPEATABLE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ializable transactions (defaul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TRANSACTION ISOLATION LEVEL SERIALIZ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401D-8E3E-428B-BFFE-FD44305D0F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: Dirty R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73000" y="1600200"/>
            <a:ext cx="4956840" cy="47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llocateSeat( %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 ISOLATION LEVEL READ UNCOM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x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.occup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t.number = %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(x == 1)  /* occupied */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OLL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ccupied = 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t.number = %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M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960" y="1752480"/>
            <a:ext cx="14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 se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1240" y="3505320"/>
            <a:ext cx="17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an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4724280"/>
            <a:ext cx="206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an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 if on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un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Se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es Sea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BF60-1A4D-4FB9-929B-C7C234260F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8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7C35-DB1D-40CC-9F9B-6D6A1A0E7B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743200" y="914400"/>
            <a:ext cx="4967640" cy="530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TransferMoney( %amount, %acc1, %acc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x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.bala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.number = %ac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(x &lt; %amount)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OLL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alance = balance+%am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.number = %ac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alance = balance-%am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.number = %ac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M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7760" y="2192400"/>
            <a:ext cx="201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dirty rea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 her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1320" y="3902040"/>
            <a:ext cx="185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w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updat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5CBD-5669-4E1D-854A-F4646CEB5F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: Read Committ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6680" y="2057400"/>
            <a:ext cx="462780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 ISOLATION LEVEL READ COM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x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.occup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t.number = %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. . . . . More stuff here . . . .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y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.occup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t.number = %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we may have 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y   !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640" y="1981080"/>
            <a:ext cx="33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er th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UN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2600" y="3325680"/>
            <a:ext cx="219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possi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ad twic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get differ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4C70-ACBF-4204-A720-648677CDE0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: Repeatable Rea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5600" y="2057400"/>
            <a:ext cx="484560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 ISOLATION LEVEL REPEATABLE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x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.am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.number = ‘555555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. . . . . More stuff here . . . .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y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.am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.number = ‘777777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we may have a wrong x+y   !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560" y="1981080"/>
            <a:ext cx="29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er th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7160" y="3429000"/>
            <a:ext cx="287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see incompati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txn transf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from acc. 55555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ECFE-A284-48B5-8753-5119104A99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: Serializab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6840" y="2590920"/>
            <a:ext cx="4318560" cy="20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 ISOLATION LEVEL SERIALIZ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.  .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8760" y="26668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es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1440" y="42670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3AA6-70CC-49E2-82BD-EC3A36AF46D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users: single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2209680"/>
            <a:ext cx="387972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 = Price – 1.99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name = ‘Gizmo’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 = Price*0.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name=‘Gizmo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09600" y="5642280"/>
            <a:ext cx="507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managers attempt to do a discoun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it work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1D5A-CF01-4DC5-B598-66D7A8360E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users: multiple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31320" y="2057400"/>
            <a:ext cx="5027040" cy="366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mallProduct(name, pric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name, pr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ice &lt;= 0.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DELE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ice &lt;=0.99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unt(*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unt(*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mal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2360" y="61711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5971-AE4D-4BEF-8ED1-9D7FFF5C2B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tection against cras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1680" y="2286000"/>
            <a:ext cx="633168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mallProduct(name, pri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ame, pr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 &lt;= 0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 &lt;=0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2360" y="61711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10040" y="4029120"/>
            <a:ext cx="1071000" cy="459720"/>
          </a:xfrm>
          <a:prstGeom prst="wedgeRectCallout">
            <a:avLst>
              <a:gd name="adj1" fmla="val -431615"/>
              <a:gd name="adj2" fmla="val 356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32E0-509F-4671-86F3-ECB96DE881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transa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one or more operations, which reflects a single real-world tran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real world, this happened completely or not at 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e examp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money between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 a group of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 record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er for a class (either waitlist or alloca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1ECF-DAF7-49B6-9860-0744E1C1CB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“ad-hoc” SQ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: each statement = one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progr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QL statement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T    or     ROLLBACK (=ABO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33360" y="3508200"/>
            <a:ext cx="2200320" cy="1191240"/>
          </a:xfrm>
          <a:prstGeom prst="wedgeRectCallout">
            <a:avLst>
              <a:gd name="adj1" fmla="val -123824"/>
              <a:gd name="adj2" fmla="val 2437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omitted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SQL 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s t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1121-C77F-4A4B-AEA1-E6240F7572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sed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1981080"/>
            <a:ext cx="38797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1: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 = Price – 1.99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name = ‘Gizmo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MMI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2: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 = Price*0.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name=‘Gizmo’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5640" y="5942520"/>
            <a:ext cx="34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t works like a ch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58C3-C9BF-4F0D-B367-E1871A94D8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 Proper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shows either all the effects of txn, or none of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sis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xn moves from a state where integrity holds, to another where integrity ho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 of txns is the same as txns running one after another (ie looks like batch m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a txn has committed, its effects remain in th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6866-362E-459A-8245-FF587046E9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5-01-28T06:23:38Z</dcterms:modified>
  <cp:revision>380</cp:revision>
  <dc:subject/>
  <dc:title>Lecture 09:</dc:title>
</cp:coreProperties>
</file>