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963-DE0E-4130-8FE3-BA1807D3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840-2B57-4763-9A99-2682CFF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D96-7CEA-4496-9528-B0939E0A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601-4A4A-47B1-B591-69A7BBDE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991-A691-4403-B52C-22F807BB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DEF-31A0-41CA-836C-BA199B2F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A47-29C2-4530-ACCA-DA9ED9FC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A92-0E7B-4B2F-AF34-8A295C9B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F4C-26D8-438D-BB23-2FF33FA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6E5-3B42-441F-A16A-96ED961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BCC-0DA4-4679-9655-2C000BC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933-5E6B-4A0C-9F68-E9BED0A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EBA9-2845-4D73-B7E5-C8958A6D7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8E1-26FF-4634-A4DD-E09B137E39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6D5-6839-44BE-B6BF-F79362B418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nx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9C6-BED5-41B4-85CD-7E77A5E45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AEC-E483-405E-A90C-9F51F38BE4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B65-FCE3-4747-9416-A168B343CD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2FF-0FCD-4D02-96CD-6CC0B81255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949-87FC-40CC-8CBF-FDF02F2B4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24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A10-B8FD-459D-B913-C8FD8E04BF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reads data written by T’ while T’ is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’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446-517C-40F1-949E-A1E243EFE8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2FE-721C-4061-A08E-E96BF4CF1C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B70-490B-4680-B758-E3A0560AD5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DE7-C5B1-46FC-AFB1-460291B99B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A87-8BE3-4A88-B213-E507D108F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93B-AC4D-413D-B502-2777D1074E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80E-3FB6-41A4-8CC9-ABA6E6E2DD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A03-E476-4660-9469-549B3B0F93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960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E0B-8829-44D3-9E7E-13EC28C00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EB0-ABF4-4680-BBE5-CD7A5EF257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168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6A7-57EF-4891-81BE-79EEB0F47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e ex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B90-9EBE-474B-8AFC-00420A47D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15B-8EB1-4C93-B124-4D12F96BD5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9FA-DA4F-4B21-8E3D-7E2531F5B9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8C1-BEBC-443F-9F82-8E6CEB77F6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28T06:23:38Z</dcterms:modified>
  <cp:revision>380</cp:revision>
  <dc:subject/>
  <dc:title>Lecture 09:</dc:title>
</cp:coreProperties>
</file>