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658D-738E-44B4-A62D-B0C801B3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3A3E-996B-4471-A9FC-5108F4EA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FCA2-73BC-453D-AF8C-18D468140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D2EE-5DAD-4C22-8F90-D2BF29FB1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493C-5889-4C99-A6E1-A1CD1A51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0158-41B0-4E16-83F7-27F1432C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53E1-A8ED-4196-ABFC-2A533E96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6D24-D218-4731-9920-25EB1467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A825-F100-4C87-8885-D55DFFEA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69D0-0C35-4AA6-90E4-A854D4CF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22AC-380F-440E-B4BE-F4E5B1BF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6D34-BF26-444E-83EC-A35F9962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E844-B946-4680-82CA-CFBE1F9CB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January 26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84CA-AFE4-4D4F-A2FF-69A5CD61CD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2800" y="4384800"/>
            <a:ext cx="385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dependenc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ke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, PhoneNumbe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 in BCN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43000" y="1828800"/>
          <a:ext cx="7010280" cy="2278080"/>
        </p:xfrm>
        <a:graphic>
          <a:graphicData uri="http://schemas.openxmlformats.org/drawingml/2006/table">
            <a:tbl>
              <a:tblPr/>
              <a:tblGrid>
                <a:gridCol w="1219320"/>
                <a:gridCol w="1981080"/>
                <a:gridCol w="2057400"/>
                <a:gridCol w="1752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BF31-84AC-4906-B767-F7A79BAE09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e it into B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600200" y="2209680"/>
          <a:ext cx="4514760" cy="1185840"/>
        </p:xfrm>
        <a:graphic>
          <a:graphicData uri="http://schemas.openxmlformats.org/drawingml/2006/table">
            <a:tbl>
              <a:tblPr/>
              <a:tblGrid>
                <a:gridCol w="1504800"/>
                <a:gridCol w="1505160"/>
                <a:gridCol w="1504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676520" y="3886200"/>
          <a:ext cx="3962160" cy="197640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Phone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6322680" y="2362320"/>
            <a:ext cx="26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89880" y="3809880"/>
            <a:ext cx="299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check anomal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c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5BCB-56F5-46B8-ADE8-F55F96323A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Decomposi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1720" y="1676520"/>
            <a:ext cx="638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SSN, age, hairColor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9600" y="3089160"/>
            <a:ext cx="407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 in BCNF (in cla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E8B4-DE70-48D0-8FE3-E18BD16B03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CNF Decompositio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47080" y="1752480"/>
            <a:ext cx="7000560" cy="435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CNF_Decompose(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X s.t.: X ≠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≠ [all attributes]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ot found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R is in BCNF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Z = [all attributes] -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decompose R into R1(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) and R2(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Z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continue to decompose recursively R1 and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A955-EF24-4C23-9BC5-B7EA756ADE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BCNF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5880" y="1565280"/>
            <a:ext cx="638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SSN, age, hairColor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2400" y="2922480"/>
            <a:ext cx="5978160" cy="375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on 1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+ = SSN, name, age,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 into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, age, hairColor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      Phone(SSN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on 2: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+ = age,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ople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age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Hair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ag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hairColor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Phone(SSN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43520" y="228600"/>
            <a:ext cx="44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X s.t.: X ≠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≠ [all attribute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03360" y="3261600"/>
            <a:ext cx="1813320" cy="1166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8DF6-B482-47E5-979F-48B2CBC8EF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(A,B,C,D)    A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B,    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R: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BC ≠ AB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 into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,B,C), 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,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BC ≠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 into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,C)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,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omposition: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,C)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,B)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,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appens if in R we first pick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?  Or A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28120" y="3413880"/>
            <a:ext cx="1981080" cy="1166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8F7A-7AAF-4F7F-A6EF-F84D677FC7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NF: A Problem with B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65440" y="1828800"/>
            <a:ext cx="34102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, Produc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51160" y="304812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Unit,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09720" y="6172200"/>
            <a:ext cx="60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loose the FD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, Product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Uni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" y="1600200"/>
          <a:ext cx="4572000" cy="1320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80880" y="3962520"/>
          <a:ext cx="3200400" cy="132084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</a:tblGrid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Un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419720" y="3962520"/>
          <a:ext cx="2819160" cy="1320840"/>
        </p:xfrm>
        <a:graphic>
          <a:graphicData uri="http://schemas.openxmlformats.org/drawingml/2006/table">
            <a:tbl>
              <a:tblPr/>
              <a:tblGrid>
                <a:gridCol w="1409400"/>
                <a:gridCol w="1409760"/>
              </a:tblGrid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4" name=""/>
          <p:cNvGrpSpPr/>
          <p:nvPr/>
        </p:nvGrpSpPr>
        <p:grpSpPr>
          <a:xfrm>
            <a:off x="1066320" y="3048120"/>
            <a:ext cx="3810600" cy="685800"/>
            <a:chOff x="1066320" y="3048120"/>
            <a:chExt cx="3810600" cy="685800"/>
          </a:xfrm>
        </p:grpSpPr>
        <p:sp>
          <p:nvSpPr>
            <p:cNvPr id="125" name=""/>
            <p:cNvSpPr/>
            <p:nvPr/>
          </p:nvSpPr>
          <p:spPr>
            <a:xfrm flipH="1">
              <a:off x="1066320" y="3048120"/>
              <a:ext cx="228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67080" y="3048120"/>
              <a:ext cx="6098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65920" y="5410080"/>
            <a:ext cx="2308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DDC1-E8C5-445A-A6A8-B86A764798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’s the Probl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09360" y="3429000"/>
            <a:ext cx="64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roblem so far. All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o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D’s are satis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put all the data back into a single table ag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371600"/>
          <a:ext cx="3276720" cy="1492200"/>
        </p:xfrm>
        <a:graphic>
          <a:graphicData uri="http://schemas.openxmlformats.org/drawingml/2006/table">
            <a:tbl>
              <a:tblPr/>
              <a:tblGrid>
                <a:gridCol w="1638360"/>
                <a:gridCol w="1638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Un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aga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191120" y="1405080"/>
          <a:ext cx="3809880" cy="1490400"/>
        </p:xfrm>
        <a:graphic>
          <a:graphicData uri="http://schemas.openxmlformats.org/drawingml/2006/table">
            <a:tbl>
              <a:tblPr/>
              <a:tblGrid>
                <a:gridCol w="2058840"/>
                <a:gridCol w="1751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aga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b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b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295280" y="4419720"/>
          <a:ext cx="6095880" cy="15080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aga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b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b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641880" y="2895480"/>
            <a:ext cx="2308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990720" y="6095880"/>
            <a:ext cx="6337080" cy="464760"/>
            <a:chOff x="990720" y="6095880"/>
            <a:chExt cx="6337080" cy="464760"/>
          </a:xfrm>
        </p:grpSpPr>
        <p:sp>
          <p:nvSpPr>
            <p:cNvPr id="135" name=""/>
            <p:cNvSpPr/>
            <p:nvPr/>
          </p:nvSpPr>
          <p:spPr>
            <a:xfrm>
              <a:off x="3917520" y="6095880"/>
              <a:ext cx="34102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Company, Produc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 Un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90720" y="6100920"/>
              <a:ext cx="219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iolates the FD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6610-3585-4245-B366-687D72580B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tarted with a table R and 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decomposed R into BCNF tables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their own F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reconstruct R from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we cannot reconstruct FD from F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65F9-9442-4FF4-BED7-B0C1704D29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ion: 3rd Normal Form (3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960" y="1946160"/>
            <a:ext cx="74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mple condition for removing anomalies from rel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2280" y="2819520"/>
            <a:ext cx="7919640" cy="2242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relation R is in 3rd normal form if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there is a nontrivial dependency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 R , then 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a super-key for 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 B is part of a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1000" y="5410080"/>
            <a:ext cx="74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off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NF = no anomalies, but may lose some F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NF = keeps all FDs, but may have some 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264B-805C-42CE-A984-7F40A6C104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of a Relational schema (3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5807-DE3F-4AAE-80C7-51862EEEAC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NF Decompositio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4200" y="1676520"/>
            <a:ext cx="7587720" cy="478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NF_Decompose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 = [all attributes that are part of some key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X s.t.: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X - K ≠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≠ [all attribute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ot found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R is already in 3NF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X - 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Z = [all attributes] - (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e into R1(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) and R2(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Z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decompose, recursively, R1 and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4F42-1574-4CBA-9C91-E41B737277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3NF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120" y="1600200"/>
            <a:ext cx="2008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(A,B,C,D,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8760" y="2209680"/>
            <a:ext cx="12049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22280" y="1905120"/>
            <a:ext cx="552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: (need to compute X+, for several X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, AC, 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7680" y="29718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{A, B, C, 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7280" y="3505320"/>
            <a:ext cx="474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X =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+  = BC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DE is a BCNF vi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3NF: remove B, D (part of K)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 is a 3NF vi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:  R1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), R2(A,B,C,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1440" y="5791320"/>
            <a:ext cx="574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 is in 3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 is in 3NF (because its keys: AB, AC, 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682D-F973-470C-9A8C-B8F291CDE1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6320" y="5867280"/>
            <a:ext cx="8915400" cy="914400"/>
          </a:xfrm>
          <a:prstGeom prst="ellipse">
            <a:avLst/>
          </a:prstGeom>
          <a:solidFill>
            <a:srgbClr val="00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NF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NF v.s. BCNF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828800" y="1828800"/>
          <a:ext cx="5486400" cy="54756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304920" y="3124080"/>
          <a:ext cx="3047760" cy="54792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5105520" y="3124080"/>
          <a:ext cx="3047760" cy="547560"/>
        </p:xfrm>
        <a:graphic>
          <a:graphicData uri="http://schemas.openxmlformats.org/drawingml/2006/table">
            <a:tbl>
              <a:tblPr/>
              <a:tblGrid>
                <a:gridCol w="609120"/>
                <a:gridCol w="609840"/>
                <a:gridCol w="609480"/>
                <a:gridCol w="609480"/>
                <a:gridCol w="60984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800600" y="4481640"/>
          <a:ext cx="1828800" cy="54756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7086600" y="4481640"/>
          <a:ext cx="1828800" cy="54756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52280" y="4495680"/>
          <a:ext cx="1828800" cy="54792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438280" y="4495680"/>
          <a:ext cx="1828800" cy="54756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 flipH="1">
            <a:off x="2133360" y="24382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15000" y="243828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91520" y="388620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388620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837720" y="38862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562360" y="38862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533412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28240" y="53341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533412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514240" y="53341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533412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952520" y="53341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29600" y="525780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7238520" y="52578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76320" y="601992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1447920" y="601992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2438280" y="601992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3886200" y="601992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800600" y="601992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6248520" y="601992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7238880" y="601992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8458200" y="594360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3" name=""/>
          <p:cNvGrpSpPr/>
          <p:nvPr/>
        </p:nvGrpSpPr>
        <p:grpSpPr>
          <a:xfrm>
            <a:off x="33480" y="3860640"/>
            <a:ext cx="8958240" cy="2928960"/>
            <a:chOff x="33480" y="3860640"/>
            <a:chExt cx="8958240" cy="2928960"/>
          </a:xfrm>
        </p:grpSpPr>
        <p:sp>
          <p:nvSpPr>
            <p:cNvPr id="184" name=""/>
            <p:cNvSpPr/>
            <p:nvPr/>
          </p:nvSpPr>
          <p:spPr>
            <a:xfrm>
              <a:off x="33480" y="3860640"/>
              <a:ext cx="8958240" cy="2928960"/>
            </a:xfrm>
            <a:custGeom>
              <a:avLst/>
              <a:gdLst/>
              <a:ahLst/>
              <a:rect l="l" t="t" r="r" b="b"/>
              <a:pathLst>
                <a:path w="5643" h="1845">
                  <a:moveTo>
                    <a:pt x="0" y="1248"/>
                  </a:moveTo>
                  <a:cubicBezTo>
                    <a:pt x="3" y="1369"/>
                    <a:pt x="5" y="1490"/>
                    <a:pt x="11" y="1611"/>
                  </a:cubicBezTo>
                  <a:cubicBezTo>
                    <a:pt x="17" y="1774"/>
                    <a:pt x="262" y="1822"/>
                    <a:pt x="384" y="1835"/>
                  </a:cubicBezTo>
                  <a:cubicBezTo>
                    <a:pt x="419" y="1838"/>
                    <a:pt x="455" y="1841"/>
                    <a:pt x="491" y="1845"/>
                  </a:cubicBezTo>
                  <a:cubicBezTo>
                    <a:pt x="625" y="1839"/>
                    <a:pt x="753" y="1828"/>
                    <a:pt x="886" y="1819"/>
                  </a:cubicBezTo>
                  <a:cubicBezTo>
                    <a:pt x="922" y="1808"/>
                    <a:pt x="960" y="1808"/>
                    <a:pt x="998" y="1803"/>
                  </a:cubicBezTo>
                  <a:cubicBezTo>
                    <a:pt x="1081" y="1771"/>
                    <a:pt x="1167" y="1774"/>
                    <a:pt x="1254" y="1755"/>
                  </a:cubicBezTo>
                  <a:cubicBezTo>
                    <a:pt x="1280" y="1728"/>
                    <a:pt x="1297" y="1707"/>
                    <a:pt x="1328" y="1685"/>
                  </a:cubicBezTo>
                  <a:cubicBezTo>
                    <a:pt x="1340" y="1665"/>
                    <a:pt x="1356" y="1648"/>
                    <a:pt x="1366" y="1627"/>
                  </a:cubicBezTo>
                  <a:cubicBezTo>
                    <a:pt x="1379" y="1597"/>
                    <a:pt x="1388" y="1565"/>
                    <a:pt x="1403" y="1536"/>
                  </a:cubicBezTo>
                  <a:cubicBezTo>
                    <a:pt x="1433" y="1472"/>
                    <a:pt x="1476" y="1420"/>
                    <a:pt x="1488" y="1349"/>
                  </a:cubicBezTo>
                  <a:cubicBezTo>
                    <a:pt x="1495" y="1196"/>
                    <a:pt x="1504" y="970"/>
                    <a:pt x="1670" y="901"/>
                  </a:cubicBezTo>
                  <a:cubicBezTo>
                    <a:pt x="1741" y="871"/>
                    <a:pt x="1847" y="880"/>
                    <a:pt x="1920" y="875"/>
                  </a:cubicBezTo>
                  <a:cubicBezTo>
                    <a:pt x="2180" y="855"/>
                    <a:pt x="1849" y="868"/>
                    <a:pt x="2230" y="859"/>
                  </a:cubicBezTo>
                  <a:cubicBezTo>
                    <a:pt x="2372" y="862"/>
                    <a:pt x="2471" y="870"/>
                    <a:pt x="2603" y="901"/>
                  </a:cubicBezTo>
                  <a:cubicBezTo>
                    <a:pt x="2627" y="917"/>
                    <a:pt x="2654" y="917"/>
                    <a:pt x="2683" y="923"/>
                  </a:cubicBezTo>
                  <a:cubicBezTo>
                    <a:pt x="2712" y="942"/>
                    <a:pt x="2717" y="951"/>
                    <a:pt x="2742" y="976"/>
                  </a:cubicBezTo>
                  <a:cubicBezTo>
                    <a:pt x="2753" y="999"/>
                    <a:pt x="2764" y="1023"/>
                    <a:pt x="2779" y="1045"/>
                  </a:cubicBezTo>
                  <a:cubicBezTo>
                    <a:pt x="2791" y="1097"/>
                    <a:pt x="2797" y="1153"/>
                    <a:pt x="2816" y="1205"/>
                  </a:cubicBezTo>
                  <a:cubicBezTo>
                    <a:pt x="2845" y="1287"/>
                    <a:pt x="2882" y="1367"/>
                    <a:pt x="2907" y="1451"/>
                  </a:cubicBezTo>
                  <a:cubicBezTo>
                    <a:pt x="2913" y="1522"/>
                    <a:pt x="2938" y="1585"/>
                    <a:pt x="2960" y="1653"/>
                  </a:cubicBezTo>
                  <a:cubicBezTo>
                    <a:pt x="2979" y="1713"/>
                    <a:pt x="2968" y="1745"/>
                    <a:pt x="3030" y="1776"/>
                  </a:cubicBezTo>
                  <a:cubicBezTo>
                    <a:pt x="3920" y="1757"/>
                    <a:pt x="3555" y="1764"/>
                    <a:pt x="4123" y="1755"/>
                  </a:cubicBezTo>
                  <a:cubicBezTo>
                    <a:pt x="4126" y="1754"/>
                    <a:pt x="4194" y="1749"/>
                    <a:pt x="4219" y="1739"/>
                  </a:cubicBezTo>
                  <a:cubicBezTo>
                    <a:pt x="4313" y="1698"/>
                    <a:pt x="4340" y="1642"/>
                    <a:pt x="4400" y="1568"/>
                  </a:cubicBezTo>
                  <a:cubicBezTo>
                    <a:pt x="4411" y="1554"/>
                    <a:pt x="4427" y="1544"/>
                    <a:pt x="4438" y="1531"/>
                  </a:cubicBezTo>
                  <a:cubicBezTo>
                    <a:pt x="4452" y="1512"/>
                    <a:pt x="4467" y="1470"/>
                    <a:pt x="4480" y="1451"/>
                  </a:cubicBezTo>
                  <a:cubicBezTo>
                    <a:pt x="4487" y="1439"/>
                    <a:pt x="4499" y="1430"/>
                    <a:pt x="4507" y="1419"/>
                  </a:cubicBezTo>
                  <a:cubicBezTo>
                    <a:pt x="4531" y="1380"/>
                    <a:pt x="4564" y="1329"/>
                    <a:pt x="4576" y="1285"/>
                  </a:cubicBezTo>
                  <a:cubicBezTo>
                    <a:pt x="4580" y="1265"/>
                    <a:pt x="4587" y="1227"/>
                    <a:pt x="4587" y="1227"/>
                  </a:cubicBezTo>
                  <a:cubicBezTo>
                    <a:pt x="4582" y="1192"/>
                    <a:pt x="4582" y="1017"/>
                    <a:pt x="4523" y="976"/>
                  </a:cubicBezTo>
                  <a:cubicBezTo>
                    <a:pt x="4500" y="881"/>
                    <a:pt x="4585" y="845"/>
                    <a:pt x="4662" y="837"/>
                  </a:cubicBezTo>
                  <a:cubicBezTo>
                    <a:pt x="4829" y="797"/>
                    <a:pt x="5078" y="820"/>
                    <a:pt x="5264" y="816"/>
                  </a:cubicBezTo>
                  <a:cubicBezTo>
                    <a:pt x="5379" y="809"/>
                    <a:pt x="5508" y="814"/>
                    <a:pt x="5622" y="779"/>
                  </a:cubicBezTo>
                  <a:cubicBezTo>
                    <a:pt x="5625" y="765"/>
                    <a:pt x="5637" y="754"/>
                    <a:pt x="5638" y="741"/>
                  </a:cubicBezTo>
                  <a:cubicBezTo>
                    <a:pt x="5639" y="695"/>
                    <a:pt x="5643" y="590"/>
                    <a:pt x="5616" y="539"/>
                  </a:cubicBezTo>
                  <a:cubicBezTo>
                    <a:pt x="5608" y="475"/>
                    <a:pt x="5594" y="431"/>
                    <a:pt x="5568" y="373"/>
                  </a:cubicBezTo>
                  <a:cubicBezTo>
                    <a:pt x="5550" y="334"/>
                    <a:pt x="5535" y="270"/>
                    <a:pt x="5499" y="245"/>
                  </a:cubicBezTo>
                  <a:cubicBezTo>
                    <a:pt x="5352" y="248"/>
                    <a:pt x="5238" y="257"/>
                    <a:pt x="5099" y="267"/>
                  </a:cubicBezTo>
                  <a:cubicBezTo>
                    <a:pt x="4864" y="262"/>
                    <a:pt x="4659" y="239"/>
                    <a:pt x="4438" y="309"/>
                  </a:cubicBezTo>
                  <a:cubicBezTo>
                    <a:pt x="4399" y="335"/>
                    <a:pt x="4407" y="334"/>
                    <a:pt x="4384" y="373"/>
                  </a:cubicBezTo>
                  <a:cubicBezTo>
                    <a:pt x="4370" y="431"/>
                    <a:pt x="4339" y="488"/>
                    <a:pt x="4315" y="544"/>
                  </a:cubicBezTo>
                  <a:cubicBezTo>
                    <a:pt x="4309" y="582"/>
                    <a:pt x="4294" y="613"/>
                    <a:pt x="4283" y="651"/>
                  </a:cubicBezTo>
                  <a:cubicBezTo>
                    <a:pt x="4273" y="682"/>
                    <a:pt x="4275" y="715"/>
                    <a:pt x="4267" y="747"/>
                  </a:cubicBezTo>
                  <a:cubicBezTo>
                    <a:pt x="4260" y="771"/>
                    <a:pt x="4227" y="816"/>
                    <a:pt x="4208" y="832"/>
                  </a:cubicBezTo>
                  <a:cubicBezTo>
                    <a:pt x="4167" y="865"/>
                    <a:pt x="4157" y="859"/>
                    <a:pt x="4118" y="880"/>
                  </a:cubicBezTo>
                  <a:cubicBezTo>
                    <a:pt x="4090" y="894"/>
                    <a:pt x="4079" y="911"/>
                    <a:pt x="4048" y="917"/>
                  </a:cubicBezTo>
                  <a:cubicBezTo>
                    <a:pt x="4011" y="942"/>
                    <a:pt x="3968" y="948"/>
                    <a:pt x="3926" y="960"/>
                  </a:cubicBezTo>
                  <a:cubicBezTo>
                    <a:pt x="3822" y="1030"/>
                    <a:pt x="3567" y="986"/>
                    <a:pt x="3536" y="987"/>
                  </a:cubicBezTo>
                  <a:cubicBezTo>
                    <a:pt x="3323" y="983"/>
                    <a:pt x="3221" y="980"/>
                    <a:pt x="3046" y="965"/>
                  </a:cubicBezTo>
                  <a:cubicBezTo>
                    <a:pt x="3021" y="953"/>
                    <a:pt x="2995" y="945"/>
                    <a:pt x="2971" y="933"/>
                  </a:cubicBezTo>
                  <a:cubicBezTo>
                    <a:pt x="2949" y="889"/>
                    <a:pt x="2943" y="850"/>
                    <a:pt x="2928" y="805"/>
                  </a:cubicBezTo>
                  <a:cubicBezTo>
                    <a:pt x="2917" y="739"/>
                    <a:pt x="2926" y="672"/>
                    <a:pt x="2912" y="608"/>
                  </a:cubicBezTo>
                  <a:cubicBezTo>
                    <a:pt x="2887" y="504"/>
                    <a:pt x="2864" y="424"/>
                    <a:pt x="2816" y="331"/>
                  </a:cubicBezTo>
                  <a:cubicBezTo>
                    <a:pt x="2802" y="305"/>
                    <a:pt x="2765" y="212"/>
                    <a:pt x="2731" y="181"/>
                  </a:cubicBezTo>
                  <a:cubicBezTo>
                    <a:pt x="2685" y="139"/>
                    <a:pt x="2618" y="113"/>
                    <a:pt x="2566" y="85"/>
                  </a:cubicBezTo>
                  <a:cubicBezTo>
                    <a:pt x="2506" y="52"/>
                    <a:pt x="2424" y="6"/>
                    <a:pt x="2358" y="5"/>
                  </a:cubicBezTo>
                  <a:cubicBezTo>
                    <a:pt x="2279" y="3"/>
                    <a:pt x="2201" y="1"/>
                    <a:pt x="2123" y="0"/>
                  </a:cubicBezTo>
                  <a:cubicBezTo>
                    <a:pt x="2036" y="3"/>
                    <a:pt x="1948" y="2"/>
                    <a:pt x="1862" y="11"/>
                  </a:cubicBezTo>
                  <a:cubicBezTo>
                    <a:pt x="1815" y="15"/>
                    <a:pt x="1815" y="32"/>
                    <a:pt x="1782" y="48"/>
                  </a:cubicBezTo>
                  <a:cubicBezTo>
                    <a:pt x="1736" y="69"/>
                    <a:pt x="1687" y="83"/>
                    <a:pt x="1643" y="107"/>
                  </a:cubicBezTo>
                  <a:cubicBezTo>
                    <a:pt x="1616" y="121"/>
                    <a:pt x="1597" y="139"/>
                    <a:pt x="1568" y="149"/>
                  </a:cubicBezTo>
                  <a:cubicBezTo>
                    <a:pt x="1533" y="172"/>
                    <a:pt x="1506" y="201"/>
                    <a:pt x="1488" y="240"/>
                  </a:cubicBezTo>
                  <a:cubicBezTo>
                    <a:pt x="1470" y="276"/>
                    <a:pt x="1484" y="258"/>
                    <a:pt x="1472" y="299"/>
                  </a:cubicBezTo>
                  <a:cubicBezTo>
                    <a:pt x="1468" y="311"/>
                    <a:pt x="1451" y="337"/>
                    <a:pt x="1446" y="347"/>
                  </a:cubicBezTo>
                  <a:cubicBezTo>
                    <a:pt x="1436" y="395"/>
                    <a:pt x="1403" y="433"/>
                    <a:pt x="1387" y="480"/>
                  </a:cubicBezTo>
                  <a:cubicBezTo>
                    <a:pt x="1373" y="517"/>
                    <a:pt x="1362" y="544"/>
                    <a:pt x="1344" y="581"/>
                  </a:cubicBezTo>
                  <a:cubicBezTo>
                    <a:pt x="1339" y="602"/>
                    <a:pt x="1329" y="619"/>
                    <a:pt x="1323" y="640"/>
                  </a:cubicBezTo>
                  <a:cubicBezTo>
                    <a:pt x="1326" y="672"/>
                    <a:pt x="1326" y="704"/>
                    <a:pt x="1334" y="736"/>
                  </a:cubicBezTo>
                  <a:cubicBezTo>
                    <a:pt x="1338" y="755"/>
                    <a:pt x="1360" y="789"/>
                    <a:pt x="1360" y="789"/>
                  </a:cubicBezTo>
                  <a:cubicBezTo>
                    <a:pt x="1358" y="798"/>
                    <a:pt x="1360" y="808"/>
                    <a:pt x="1355" y="816"/>
                  </a:cubicBezTo>
                  <a:cubicBezTo>
                    <a:pt x="1350" y="821"/>
                    <a:pt x="1340" y="817"/>
                    <a:pt x="1334" y="821"/>
                  </a:cubicBezTo>
                  <a:cubicBezTo>
                    <a:pt x="1322" y="826"/>
                    <a:pt x="1313" y="837"/>
                    <a:pt x="1302" y="843"/>
                  </a:cubicBezTo>
                  <a:cubicBezTo>
                    <a:pt x="1276" y="853"/>
                    <a:pt x="1223" y="856"/>
                    <a:pt x="1200" y="859"/>
                  </a:cubicBezTo>
                  <a:cubicBezTo>
                    <a:pt x="1170" y="865"/>
                    <a:pt x="1097" y="899"/>
                    <a:pt x="1067" y="901"/>
                  </a:cubicBezTo>
                  <a:cubicBezTo>
                    <a:pt x="971" y="904"/>
                    <a:pt x="875" y="905"/>
                    <a:pt x="779" y="907"/>
                  </a:cubicBezTo>
                  <a:cubicBezTo>
                    <a:pt x="728" y="931"/>
                    <a:pt x="778" y="901"/>
                    <a:pt x="752" y="933"/>
                  </a:cubicBezTo>
                  <a:cubicBezTo>
                    <a:pt x="699" y="995"/>
                    <a:pt x="589" y="958"/>
                    <a:pt x="507" y="960"/>
                  </a:cubicBezTo>
                  <a:cubicBezTo>
                    <a:pt x="449" y="999"/>
                    <a:pt x="393" y="978"/>
                    <a:pt x="315" y="981"/>
                  </a:cubicBezTo>
                  <a:cubicBezTo>
                    <a:pt x="257" y="1009"/>
                    <a:pt x="195" y="1009"/>
                    <a:pt x="139" y="1045"/>
                  </a:cubicBezTo>
                  <a:cubicBezTo>
                    <a:pt x="119" y="1072"/>
                    <a:pt x="103" y="1093"/>
                    <a:pt x="70" y="1104"/>
                  </a:cubicBezTo>
                  <a:cubicBezTo>
                    <a:pt x="48" y="1118"/>
                    <a:pt x="49" y="1134"/>
                    <a:pt x="38" y="1157"/>
                  </a:cubicBezTo>
                  <a:lnTo>
                    <a:pt x="27" y="1264"/>
                  </a:lnTo>
                </a:path>
              </a:pathLst>
            </a:custGeom>
            <a:solidFill>
              <a:srgbClr val="ccffff">
                <a:alpha val="47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59040" y="3886200"/>
              <a:ext cx="8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N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C275-9869-4EA5-B2E1-AB8B32D24F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itions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61440" y="5029200"/>
            <a:ext cx="56131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projection of R o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projection of R o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61520" y="1752480"/>
            <a:ext cx="439848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59040" y="3114720"/>
            <a:ext cx="31424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993560" y="3119400"/>
            <a:ext cx="30938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666880" y="23623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236232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D6BE-E633-4419-BC96-0CDE17B524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t is corr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819520" y="2590920"/>
          <a:ext cx="34290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02060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447920" y="4648320"/>
          <a:ext cx="227952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02060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486400" y="4648320"/>
          <a:ext cx="24084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 flipH="1">
            <a:off x="2286000" y="41148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41148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35760" y="628956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less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7E51-9E1F-4407-A362-C072143F8D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rrect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t is no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819520" y="2819520"/>
          <a:ext cx="34290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02060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914400" y="4800600"/>
          <a:ext cx="24084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5715000" y="4876920"/>
          <a:ext cx="2170080" cy="1452600"/>
        </p:xfrm>
        <a:graphic>
          <a:graphicData uri="http://schemas.openxmlformats.org/drawingml/2006/table">
            <a:tbl>
              <a:tblPr/>
              <a:tblGrid>
                <a:gridCol w="102060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 flipH="1">
            <a:off x="1752120" y="4191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41148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71520" y="3033000"/>
            <a:ext cx="2283120" cy="1166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rrect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5840" y="6262560"/>
            <a:ext cx="27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y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E880-7E15-4E17-B6E6-1D8D7A1267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itions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61520" y="1752480"/>
            <a:ext cx="439848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39320" y="4151160"/>
            <a:ext cx="4516200" cy="97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decomposition is loss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59040" y="3114720"/>
            <a:ext cx="31424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93560" y="3119400"/>
            <a:ext cx="30938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666880" y="23623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236232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7480" y="6095880"/>
            <a:ext cx="8206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hence the first decomposition is loss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49080" y="5334120"/>
            <a:ext cx="503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don’t nee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D919-695F-48DC-BAF6-489F0767D0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rmal 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 Normal 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ll attributes are at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Normal 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2NF) = old and obso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Normal 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3NF) = will disc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yce Codd Normal 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CNF) = will disc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EBF8-EF4F-4AAF-84DB-76809ED3A7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yce-Codd Normal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7040" y="1905120"/>
            <a:ext cx="74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mple condition for removing anomalies from rel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9160" y="4572000"/>
            <a:ext cx="5025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nglis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a set of attributes of 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determining_x0008__x0008_ another attribu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determin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attribut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0560" y="2666880"/>
            <a:ext cx="6044040" cy="167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relation R is in BCNF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 is a non-trivial depend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 R ,   then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 is a superkey for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97800" y="4572000"/>
            <a:ext cx="2980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t another w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y set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ther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ll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D7D1-D727-4BC7-827E-8F03B331B5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CNF Decompositio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392112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399744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77240" y="48769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14240" y="49528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09840" y="4876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97560" y="6172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9080" y="3886200"/>
            <a:ext cx="19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s ther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-attrib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lation tha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in BCNF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1520" y="1752480"/>
            <a:ext cx="8423280" cy="207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hoose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violates the BNCF cond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plit R into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[others]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ntinue with both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no more vi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97760" y="6172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50000" y="5943600"/>
            <a:ext cx="316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, we ha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etter algorithm (nex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B825-9189-42C2-A977-8E6D742642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5-01-26T06:28:21Z</dcterms:modified>
  <cp:revision>186</cp:revision>
  <dc:subject/>
  <dc:title>Lecture 10</dc:title>
</cp:coreProperties>
</file>