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04EE-184D-41F4-95F5-31E223AF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58F-65C6-4FAE-8866-5A88C312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944-9868-40D8-8600-42B195C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909-EEE5-4B3C-9569-3F718A33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324-2C96-4DBA-92FA-9626D2BF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4F3-8729-445A-AFCF-B3310DA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4B5-3EFB-4FF5-A82F-788160A5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0C0-880D-4871-B2C6-5FA743C7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E8E-43D4-491B-9405-3FD449B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35F-0C18-43A7-8766-6B3AE74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479-154A-4A15-B316-5B87E13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203-2C4C-464B-85E2-B83A0FD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C2E-FFEB-46D7-8349-9D38455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EAB-BD1D-486F-9A4D-04FCBC46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2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66B-1CC7-4472-9041-3013E82FCB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is:    {name, category} ;  superkeys are all super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867-015F-44A2-92EB-06868CD71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64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780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87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E31-41AC-4789-9507-2E568AB29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6640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08C-205F-4F37-9CD5-10D3ADA19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48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18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F66-7B95-451B-847A-BFFC12482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DE7-2DAE-4E3A-821B-C6ECCB99E7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42440" y="3581280"/>
            <a:ext cx="2209680" cy="1692360"/>
          </a:xfrm>
          <a:prstGeom prst="wedgeEllipseCallout">
            <a:avLst>
              <a:gd name="adj1" fmla="val -149185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816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044-96FD-433B-96D3-1744E6A57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41A-A329-496B-A5F4-E8AFF4B70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7F4-B2B5-4D35-A607-756C048963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306-44D3-43A3-A9DD-02D607A38E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D0A-E3C3-4E4D-B8BF-49619D81C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4B5-0BBB-451E-856B-5A71C885D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182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04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080-689A-4887-AC10-42D2E9B83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F94-C9BD-4DBF-BE76-58CA0800F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2E5-C2FF-4F00-B2D6-8320AC0F1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DB4-0D86-44BE-970A-65B72EE86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CDB-51C6-44FE-ABEC-80D76209BB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925-7039-4610-95EB-FE59903C93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FAB-306D-49DF-9277-CD03D53021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0360" y="594360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5BD-8683-4065-B5FB-9402D14157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759-136B-4684-92E0-6B9D6FDDC5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170-3A61-4C3E-8560-714439AD5D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413-BD9C-44D7-B4E9-D148DAD1C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DCC-DDDF-4314-84F0-76125E44F9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0600" y="1752480"/>
            <a:ext cx="699732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FB1-4ADA-423A-B17E-1DB44897E6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17F-75B8-429E-AAEE-CE98A8F8D3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28120" y="3413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B52-B40E-4003-9655-423CBD7FBB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0FC-E1F5-4B52-9C54-614E3B83DD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11480" y="3050280"/>
            <a:ext cx="4078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,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7640" y="312408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0EB-304D-40AF-A967-0798C2476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EEF-6380-4746-9C87-76A677B90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DFE-989E-4667-A166-2C786A204B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: a set of attributes X is a superkey if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731-88AA-4450-AB24-5A2D6D9EF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ere can be many key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,  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 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: AB  and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D3E-C22C-4AA9-83A4-1F11D618F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4T04:57:48Z</dcterms:modified>
  <cp:revision>189</cp:revision>
  <dc:subject/>
  <dc:title>Lecture 09:</dc:title>
</cp:coreProperties>
</file>