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CA2E-8CAD-4831-AC0F-C59BFE3C3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s: {student, room, time},  {student, course}  and all super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s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pt,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t, Roo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, Dep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urse,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, Cours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pt,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, Roo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pt,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9568-C3E6-4E5C-A3C0-9912D3F1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5B89-285A-4AEF-88E5-3DA6AA0C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4E1-2F6D-41EB-A648-B4B7B433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B675-8862-494F-9C39-99BE4D35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7E6-8DAD-43D4-A4DD-C832C05F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7B08-AF9C-42C4-827C-1C5621ED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EE5-BEB2-4088-9212-19C7EB33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2B4-0CFE-4E67-ABE9-424F2C87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6B9F-4951-42D7-B0BC-908767EB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3766-E5B2-4EDA-AFF7-2B8A5559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9129-B634-4CD5-B616-1EE9EADE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7D8C-E9BA-4833-8F6A-C581C7CF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0D1B-AF81-4628-BA3D-C8E15EAF8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9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January 24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3DF-DC98-48CA-B4FF-53FBF7AAE0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(name, price, category, col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, catego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is:    {name, category} ;  superkeys are all super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ment(student, address, course, room,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, tim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,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om,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 are:  [in clas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CEA4-1213-4E14-BF3F-A049ACDB4C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6640" y="2022480"/>
            <a:ext cx="83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ven a relation constructed from an E/R diagram, what is its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7800" y="2530440"/>
            <a:ext cx="8070480" cy="131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 1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 relation comes from an entity se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ttributes which i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of the entity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28600" y="4648320"/>
            <a:ext cx="4723920" cy="1396800"/>
            <a:chOff x="228600" y="4648320"/>
            <a:chExt cx="4723920" cy="1396800"/>
          </a:xfrm>
        </p:grpSpPr>
        <p:sp>
          <p:nvSpPr>
            <p:cNvPr id="87" name=""/>
            <p:cNvSpPr/>
            <p:nvPr/>
          </p:nvSpPr>
          <p:spPr>
            <a:xfrm>
              <a:off x="228600" y="5561640"/>
              <a:ext cx="101988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53800" y="5507640"/>
              <a:ext cx="101952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32640" y="5507640"/>
              <a:ext cx="101988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s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17040" y="4648320"/>
              <a:ext cx="1771560" cy="537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140480" y="5185440"/>
              <a:ext cx="118116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22000" y="5185440"/>
              <a:ext cx="21456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22000" y="5185440"/>
              <a:ext cx="1717560" cy="42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333040" y="46483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, nam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49528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D45-102E-4810-9CE0-A18CD594E1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5840" y="3321000"/>
            <a:ext cx="1822320" cy="55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21040" y="3154320"/>
            <a:ext cx="1104840" cy="9939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97200" y="3443400"/>
            <a:ext cx="1546200" cy="552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58760" y="2933640"/>
            <a:ext cx="1049400" cy="496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5876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3876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1998720" y="3321000"/>
            <a:ext cx="10944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52720" y="3983040"/>
            <a:ext cx="38736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33680" y="365112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25880" y="3651120"/>
            <a:ext cx="93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195960" y="3871800"/>
            <a:ext cx="38736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83320" y="3871800"/>
            <a:ext cx="44136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66400" y="6033960"/>
            <a:ext cx="33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me, 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78280" y="4457880"/>
            <a:ext cx="1049400" cy="496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1800" y="4152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4800" y="1158840"/>
            <a:ext cx="8181720" cy="131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f the relation comes from a many-many relationship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ll attribute keys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 corresponding to the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AB81-F685-47D4-9412-B08BE33C8B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5480" y="1332000"/>
            <a:ext cx="7813080" cy="91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cep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re is an arrow from the relationship to E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need the key of E as part of the relation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057400" y="2514600"/>
            <a:ext cx="5029200" cy="2239920"/>
            <a:chOff x="2057400" y="2514600"/>
            <a:chExt cx="5029200" cy="2239920"/>
          </a:xfrm>
        </p:grpSpPr>
        <p:sp>
          <p:nvSpPr>
            <p:cNvPr id="118" name=""/>
            <p:cNvSpPr/>
            <p:nvPr/>
          </p:nvSpPr>
          <p:spPr>
            <a:xfrm>
              <a:off x="4069080" y="3017160"/>
              <a:ext cx="914040" cy="82260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40280" y="2514600"/>
              <a:ext cx="13255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40480" y="4297320"/>
              <a:ext cx="1325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60720" y="3200040"/>
              <a:ext cx="1325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83480" y="3428640"/>
              <a:ext cx="7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26280" y="3840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66160" y="2971800"/>
              <a:ext cx="5029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57400" y="4205880"/>
              <a:ext cx="1325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reditC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382920" y="3428640"/>
              <a:ext cx="685800" cy="77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371600" y="312408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4114800"/>
            <a:ext cx="91440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d-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4343400"/>
            <a:ext cx="76176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251460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980720" y="2971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523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66440" y="579132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 , sname, 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rd-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4BA-A029-4280-93D5-50540B9BE5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, one-many, one-on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ry to find them yourself, or check bo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C5DA-E1D5-46EF-9653-245B671DCC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2560" y="1371600"/>
            <a:ext cx="56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y: “the CreditCard determines the Pers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68720" y="3017880"/>
            <a:ext cx="914400" cy="822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39920" y="251460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40120" y="429732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61080" y="320040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83120" y="3429000"/>
            <a:ext cx="77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25920" y="3840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65440" y="2971800"/>
            <a:ext cx="503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420516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ditC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382560" y="3429000"/>
            <a:ext cx="68580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312408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14800"/>
            <a:ext cx="91440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d-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4343400"/>
            <a:ext cx="76176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251460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980720" y="2971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523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66440" y="579132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 , sname, 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rd-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42440" y="3581280"/>
            <a:ext cx="2209680" cy="1692360"/>
          </a:xfrm>
          <a:prstGeom prst="wedgeEllipseCallout">
            <a:avLst>
              <a:gd name="adj1" fmla="val -149185"/>
              <a:gd name="adj2" fmla="val -21291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at do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a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48160" y="6289560"/>
            <a:ext cx="19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-n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7493-C7FE-4E75-B601-DAE297F344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r Logical Desig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some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out its FD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m to design a better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B934-9E9C-498B-B876-7517C74DD3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database is poorly designed we get anoma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dunda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ata is rep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pdated anomal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eed to change in several 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lete anomal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ay lose data when we don’t w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7B15-7B70-4CDD-AF88-648264384A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1480" y="4648320"/>
            <a:ext cx="6735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       = repea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anomalies = Fred moves to “Bellev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on anomalies = Joe deletes his phone numb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is cit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5480" y="1676520"/>
            <a:ext cx="63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set attributes (persons with several phon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6400" y="3962520"/>
            <a:ext cx="2602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066680" y="2209680"/>
          <a:ext cx="7010280" cy="158112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752480"/>
                <a:gridCol w="175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3579120" y="3962520"/>
            <a:ext cx="38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one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C71F-3D4F-4A18-9A4B-A7C4D61769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2760" y="148896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eak the relation into t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04920" y="3841920"/>
          <a:ext cx="4514760" cy="109512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5029200" y="3886200"/>
          <a:ext cx="3657600" cy="1460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78000" y="5014800"/>
            <a:ext cx="6009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 have g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ore repea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move Fred to “Bellevue”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delete all Joe’s phone number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981080" y="2057400"/>
          <a:ext cx="6248520" cy="146052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  <a:gridCol w="1562040"/>
                <a:gridCol w="1562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 flipH="1">
            <a:off x="914400" y="281952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54800" y="2867040"/>
            <a:ext cx="311760" cy="94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9E9-939B-429C-B689-65C1360DE1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 (3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about FDs (3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of a Relational schema (3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6DFB-861B-4FCE-9A06-0457F0B73E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657600" y="1905120"/>
            <a:ext cx="3581280" cy="864720"/>
            <a:chOff x="3657600" y="1905120"/>
            <a:chExt cx="3581280" cy="864720"/>
          </a:xfrm>
        </p:grpSpPr>
        <p:sp>
          <p:nvSpPr>
            <p:cNvPr id="182" name=""/>
            <p:cNvSpPr/>
            <p:nvPr/>
          </p:nvSpPr>
          <p:spPr>
            <a:xfrm>
              <a:off x="6253920" y="2113560"/>
              <a:ext cx="984600" cy="29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49800" y="2024280"/>
              <a:ext cx="596880" cy="5367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u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05080" y="2173320"/>
              <a:ext cx="835560" cy="29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190512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25600" y="2501640"/>
              <a:ext cx="56664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7188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s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4164840" y="2113560"/>
              <a:ext cx="5976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194720" y="2471760"/>
              <a:ext cx="208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41000" y="2292840"/>
              <a:ext cx="2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46680" y="2292840"/>
              <a:ext cx="50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433200" y="2412000"/>
              <a:ext cx="20880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42000" y="2412000"/>
              <a:ext cx="2386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17320" y="20224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120" y="3733920"/>
            <a:ext cx="239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s FD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040" y="5257800"/>
            <a:ext cx="280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809880" y="3809880"/>
          <a:ext cx="152424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5867280" y="3809880"/>
          <a:ext cx="1905120" cy="59040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800600" y="5181480"/>
          <a:ext cx="1143000" cy="787680"/>
        </p:xfrm>
        <a:graphic>
          <a:graphicData uri="http://schemas.openxmlformats.org/drawingml/2006/table">
            <a:tbl>
              <a:tblPr/>
              <a:tblGrid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6248520" y="5181480"/>
          <a:ext cx="380880" cy="78768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7010280" y="5181480"/>
          <a:ext cx="76212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581280" y="5181480"/>
          <a:ext cx="762120" cy="78732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55627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96216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477120" y="45720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44956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18C-2806-4A35-A385-6C6E1B3A76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61440" y="5029200"/>
            <a:ext cx="5613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6152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5904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9356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80F2-18F8-47EA-B937-D7025B46A1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corr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819520" y="25909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1447920" y="4648320"/>
          <a:ext cx="227952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5486400" y="464832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 flipH="1">
            <a:off x="2286000" y="4114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91320" y="4114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35760" y="628956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less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E7C3-DC58-4607-838F-6EBED07071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rrect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no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819520" y="28195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914400" y="480060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5715000" y="4876920"/>
          <a:ext cx="2170080" cy="1452600"/>
        </p:xfrm>
        <a:graphic>
          <a:graphicData uri="http://schemas.openxmlformats.org/drawingml/2006/table">
            <a:tbl>
              <a:tblPr/>
              <a:tblGrid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1752120" y="4191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0800" y="41148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71520" y="3033000"/>
            <a:ext cx="228312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rect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840" y="626256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y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9841-EFBF-4C35-BA4A-E27AE13C98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6152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39320" y="4151160"/>
            <a:ext cx="4516200" cy="97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decomposi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5904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9356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7480" y="6095880"/>
            <a:ext cx="820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nce the first decomposi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49080" y="5334120"/>
            <a:ext cx="503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on’t ne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BF55-FE4C-45B7-BEE9-EB6E93DF0D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ll attributes are a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2NF) = old and obso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3NF) = will disc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yce Codd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CNF) = will disc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EFC0-B7FE-4893-B2E3-E977675BF6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ce-Codd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7040" y="190512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4480" y="4917960"/>
            <a:ext cx="850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 (though a bit vagu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a set of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termining another attribu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determin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0560" y="2666880"/>
            <a:ext cx="6044040" cy="16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BCNF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is a non-trivial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 R ,   then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 is a superkey for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C3F-4E1F-42A5-880E-2C4E476FB9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392112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38280" y="399744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77240" y="4876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14240" y="49528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09840" y="4876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975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69080" y="3886200"/>
            <a:ext cx="19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 ther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n BCN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1520" y="1752480"/>
            <a:ext cx="8423280" cy="207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hoos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violates the BNCF cond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plit R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[others]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ntinue with bot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no more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977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50360" y="5943600"/>
            <a:ext cx="324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we ha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etter algorithm (nex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FCB6-20EF-4F42-9ED6-F3FEDE2F03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2800" y="4384800"/>
            <a:ext cx="385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dependenc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ke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PhoneNumb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in BCN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43000" y="1828800"/>
          <a:ext cx="7010280" cy="2278080"/>
        </p:xfrm>
        <a:graphic>
          <a:graphicData uri="http://schemas.openxmlformats.org/drawingml/2006/table">
            <a:tbl>
              <a:tblPr/>
              <a:tblGrid>
                <a:gridCol w="1219320"/>
                <a:gridCol w="1981080"/>
                <a:gridCol w="205740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6CB-9266-4779-8766-78ECD275AD9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e it into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600200" y="2209680"/>
          <a:ext cx="4514760" cy="118584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1676520" y="3886200"/>
          <a:ext cx="3962160" cy="19764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6322680" y="2362320"/>
            <a:ext cx="26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89880" y="3809880"/>
            <a:ext cx="299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check anomal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F68-D35D-4958-8FC0-058C87401BB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in R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, t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 (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66680" y="3622680"/>
          <a:ext cx="6400800" cy="2244600"/>
        </p:xfrm>
        <a:graphic>
          <a:graphicData uri="http://schemas.openxmlformats.org/drawingml/2006/table">
            <a:tbl>
              <a:tblPr/>
              <a:tblGrid>
                <a:gridCol w="639720"/>
                <a:gridCol w="641520"/>
                <a:gridCol w="637920"/>
                <a:gridCol w="641520"/>
                <a:gridCol w="639720"/>
                <a:gridCol w="639720"/>
                <a:gridCol w="641520"/>
                <a:gridCol w="637920"/>
                <a:gridCol w="641520"/>
                <a:gridCol w="639720"/>
              </a:tblGrid>
              <a:tr h="55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 rot="16200000">
            <a:off x="26287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51433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6880" y="4495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6520" y="51814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26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AE93-5367-4F0D-8CA7-18C279DBC6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compos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1720" y="167652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9600" y="3089160"/>
            <a:ext cx="40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 BCNF (in cla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5AE2-046E-43D3-B2D5-E332BF72330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40600" y="1752480"/>
            <a:ext cx="699732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_Decompose(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X s.t.: X ≠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t found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R is in BCNF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Z = [all attributes] -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decompose R into R1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) and R2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ontinue to decompose R1 and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CD0-668A-4780-B652-19CC9AC0065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BC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5880" y="156528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2400" y="2922480"/>
            <a:ext cx="597816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1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+ = SSN, name, age,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to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, age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2: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+ = age,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opl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ag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Hair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g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43520" y="228600"/>
            <a:ext cx="44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X s.t.: X ≠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03360" y="3261600"/>
            <a:ext cx="181332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FFE6-4A96-4356-A7CA-BF5D9955862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,D)    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,    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: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BC ≠ AB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B,C),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BC ≠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,C)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omposition: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,C)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,B)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if in R we first pick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?  Or A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28120" y="3413880"/>
            <a:ext cx="198108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FE81-8195-4AB8-85D5-28767AB8A68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lass: Find All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2133720"/>
          <a:ext cx="6095880" cy="41400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0AA1-70C8-4C14-85DA-55D5D28148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11480" y="3050280"/>
            <a:ext cx="4078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ept,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Roo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ep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Roo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7640" y="3124080"/>
            <a:ext cx="167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ll F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en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5B1E-DFE9-4B89-88E8-63364F084F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: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8520" y="4572000"/>
            <a:ext cx="63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B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X = {A, B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 F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X = {A, F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0600" y="236232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,B,C,D,E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9640" y="2288520"/>
            <a:ext cx="1593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 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6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0BDB-979D-47B3-924D-674C33200C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: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4160" y="2014200"/>
            <a:ext cx="1593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716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040" y="342900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Comput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every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6640" y="3965040"/>
            <a:ext cx="79621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 = A,   B+ = BD,   C+ = C,   D+ =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+ = ABCD,   AC+ = AC,  A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+ = ABD+ = A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BCD (no need to compute– 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BCD,    ABC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200" y="5670720"/>
            <a:ext cx="79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Enumerate all FD’s 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, s.t.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6240" y="6228000"/>
            <a:ext cx="7222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D, A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,  AB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, AB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, AC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F663-0944-4C16-83FB-A26E7CEEF2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er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et of attribute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.t. for any other attribute B, we have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ther words: a set of attributes X is a superkey if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ll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minimal supe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set of attributes which is a superkey and for which no subset is a super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1DD2-C637-47A6-8A57-D26B094D6B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ing (Super)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sets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ll attributes, then X is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only the minimal X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there can be many key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R(A,B,C),  A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 BC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: AB  and 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7F2-AAC8-4726-A3C7-84A1091368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1-24T04:57:48Z</dcterms:modified>
  <cp:revision>189</cp:revision>
  <dc:subject/>
  <dc:title>Lecture 09:</dc:title>
</cp:coreProperties>
</file>